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828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9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FF95D-90BD-4AE9-B32C-DC1818498CC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34880" y="809640"/>
            <a:ext cx="833112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47840" y="742680"/>
            <a:ext cx="83246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1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832120"/>
            <a:ext cx="8226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upling TRNSYS Components to ESP-r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12760" y="3610080"/>
            <a:ext cx="65624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ex Ferguson &amp; Weimin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3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10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mponent total mass 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   300.00        Range (Min Max):     1.0000        100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iring signal (on/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dditional output parameters: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onal outpu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urner output (W)              Type :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83106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approach is to establish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dummy ESP-r component in the database file for TRNSYS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elds of node scheme description, miscellaneous data, ADATA, CDATA, and additional outputs have dummy values in the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ual, meaningful values are provided in a tex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310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wrapper aims to be generi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odes, connections, and parameters cannot be fixed beforeh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fun to work with the plant databas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84280"/>
            <a:ext cx="8310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ant component no 8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and have a loo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arning: out of prj control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Coefficients Matr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205000"/>
            <a:ext cx="1440000" cy="2303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060640"/>
            <a:ext cx="1081080" cy="1008000"/>
          </a:xfrm>
          <a:prstGeom prst="ellipse">
            <a:avLst/>
          </a:pr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2205000"/>
            <a:ext cx="865080" cy="216072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35280" y="2349360"/>
            <a:ext cx="5184720" cy="2592360"/>
            <a:chOff x="1835280" y="2349360"/>
            <a:chExt cx="5184720" cy="2592360"/>
          </a:xfrm>
        </p:grpSpPr>
        <p:sp>
          <p:nvSpPr>
            <p:cNvPr id="124" name=""/>
            <p:cNvSpPr/>
            <p:nvPr/>
          </p:nvSpPr>
          <p:spPr>
            <a:xfrm>
              <a:off x="1835280" y="2421000"/>
              <a:ext cx="72720" cy="1512720"/>
            </a:xfrm>
            <a:custGeom>
              <a:avLst/>
              <a:gdLst>
                <a:gd name="textAreaLeft" fmla="*/ 21240 w 72720"/>
                <a:gd name="textAreaRight" fmla="*/ 73080 w 7272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2421000"/>
              <a:ext cx="71280" cy="151128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836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836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328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2349360"/>
              <a:ext cx="0" cy="158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800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2436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2349360"/>
              <a:ext cx="71640" cy="259236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08720" y="2349360"/>
              <a:ext cx="71280" cy="259236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1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1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9640" y="414972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9640" y="4653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6720" y="2349360"/>
              <a:ext cx="71280" cy="16560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48360" y="2349360"/>
              <a:ext cx="71640" cy="165600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5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0720" y="299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29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os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5229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coefficient generator aims at producing the following 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PCA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erent Modelling Approach of TRNS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10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Modell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, a TRNSYS components will produce the outputs for state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RNSYS Wrapper’s Coefficients Matri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2205000"/>
            <a:ext cx="865440" cy="201600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421000"/>
            <a:ext cx="72720" cy="1512720"/>
          </a:xfrm>
          <a:custGeom>
            <a:avLst/>
            <a:gdLst>
              <a:gd name="textAreaLeft" fmla="*/ 21240 w 72720"/>
              <a:gd name="textAreaRight" fmla="*/ 73080 w 7272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421000"/>
            <a:ext cx="71280" cy="1511280"/>
          </a:xfrm>
          <a:custGeom>
            <a:avLst/>
            <a:gdLst>
              <a:gd name="textAreaLeft" fmla="*/ 0 w 71280"/>
              <a:gd name="textAreaRight" fmla="*/ 50040 w 7128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349360"/>
            <a:ext cx="73080" cy="1656000"/>
          </a:xfrm>
          <a:custGeom>
            <a:avLst/>
            <a:gdLst>
              <a:gd name="textAreaLeft" fmla="*/ 0 w 73080"/>
              <a:gd name="textAreaRight" fmla="*/ 51480 w 730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3440" y="2349360"/>
            <a:ext cx="71280" cy="1656000"/>
          </a:xfrm>
          <a:custGeom>
            <a:avLst/>
            <a:gdLst>
              <a:gd name="textAreaLeft" fmla="*/ 0 w 71280"/>
              <a:gd name="textAreaRight" fmla="*/ 500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44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341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205000"/>
            <a:ext cx="1584360" cy="2087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310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oefficients are entit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ross coefficients exist even if the component has external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S coefficients ar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se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(COUT) will be known once the TRNSYS component generates it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ESP-r outputs (PCAOUT) will be selected from th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3860640"/>
            <a:ext cx="8310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31800" indent="-277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wrapper’s task includ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epare the input for the coupled TRNSYS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this TRNSYS subrout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ap TRNSYS outputs to COUT and PCA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Typ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84200"/>
            <a:ext cx="87138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87000"/>
              </a:lnSpc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YPEn(TIME,XIN,OUT,T,DTDT,PAR,INFO,ICNTRL,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D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N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In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are those parameters that might change with simulation time. Potential inpu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variables (temperature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ase flow rate) associated with the connected inflow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of other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20000"/>
              </a:lnSpc>
              <a:spcBef>
                <a:spcPts val="13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use of a wrapper to couple TRNSYS components to ESP-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Parameter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do not change with simulatio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mal physical properties (e.g., density and specific heat) that vary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Out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rmally many outputs for a TRNSYS components. What we are interested most is to map these TRNSYS outputs to ESP-r’s coefficient generator o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T, states variables for leav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ed addition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Issu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units may be employed by ESP-r and TRNSYS in their inputs and outputs. For example, flow rate has the uni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SP-r while it is us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RN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3645000"/>
            <a:ext cx="7058160" cy="2520720"/>
            <a:chOff x="1042920" y="3645000"/>
            <a:chExt cx="7058160" cy="2520720"/>
          </a:xfrm>
        </p:grpSpPr>
        <p:sp>
          <p:nvSpPr>
            <p:cNvPr id="193" name=""/>
            <p:cNvSpPr/>
            <p:nvPr/>
          </p:nvSpPr>
          <p:spPr>
            <a:xfrm>
              <a:off x="1042920" y="4221000"/>
              <a:ext cx="3168720" cy="1368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ESP-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4221000"/>
              <a:ext cx="3168720" cy="1368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TRNSY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3280" y="5589720"/>
              <a:ext cx="3673440" cy="576000"/>
            </a:xfrm>
            <a:custGeom>
              <a:avLst/>
              <a:gdLst>
                <a:gd name="textAreaLeft" fmla="*/ 642600 w 3673440"/>
                <a:gd name="textAreaRight" fmla="*/ 2663280 w 367344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2842920" y="3645000"/>
              <a:ext cx="3600360" cy="576000"/>
            </a:xfrm>
            <a:custGeom>
              <a:avLst/>
              <a:gdLst>
                <a:gd name="textAreaLeft" fmla="*/ 630000 w 3600360"/>
                <a:gd name="textAreaRight" fmla="*/ 2610360 w 360036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Conver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106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jectiveUnit = sourceUnit *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ultiplica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ddi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573360"/>
            <a:ext cx="8310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c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File: Gener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is named as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nsysInput?.tx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dicates the serial number of that TRNSYS component in the plan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must be located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../trns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 has the same formats as other ESP-r input text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 are case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major sections including component configuration, parameters, inputs, derivatives and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mponent Configur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NSYS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onent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s-Numb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-Conn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ode Connec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413000"/>
            <a:ext cx="755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 : expected number of  receiving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0 : no entering or leaving external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: only leaving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213000"/>
            <a:ext cx="468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1: water in heat exchan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: outlet water for supp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99640" y="3357720"/>
            <a:ext cx="2088000" cy="2519280"/>
            <a:chOff x="899640" y="3357720"/>
            <a:chExt cx="2088000" cy="2519280"/>
          </a:xfrm>
        </p:grpSpPr>
        <p:sp>
          <p:nvSpPr>
            <p:cNvPr id="208" name=""/>
            <p:cNvSpPr/>
            <p:nvPr/>
          </p:nvSpPr>
          <p:spPr>
            <a:xfrm>
              <a:off x="1619280" y="4076640"/>
              <a:ext cx="865080" cy="1441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378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763640" y="4724280"/>
              <a:ext cx="216000" cy="577800"/>
              <a:chOff x="1763640" y="4724280"/>
              <a:chExt cx="216000" cy="577800"/>
            </a:xfrm>
          </p:grpSpPr>
          <p:sp>
            <p:nvSpPr>
              <p:cNvPr id="211" name=""/>
              <p:cNvSpPr/>
              <p:nvPr/>
            </p:nvSpPr>
            <p:spPr>
              <a:xfrm>
                <a:off x="1763640" y="472428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763640" y="479592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63640" y="486900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763640" y="494028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3640" y="501336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763640" y="508464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3640" y="515772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763640" y="5229360"/>
                <a:ext cx="21600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763640" y="378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3640" y="530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99640" y="587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68360" y="5445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268360" y="3715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335772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7000"/>
                </a:lnSpc>
                <a:spcBef>
                  <a:spcPts val="1049"/>
                </a:spcBef>
                <a:tabLst>
                  <a:tab algn="l" pos="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987640" y="5273640"/>
            <a:ext cx="56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ther schemes are workable but may be not reasonable 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197000"/>
            <a:ext cx="8496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SV value that defines nodal fluid type &amp; coefficient generator model capabil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0,10,20 node represents wa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1,11,21 node represents dry air + water vap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9,19,29 node represents some solid material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ISV&lt;10  model suitable for energy balance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&lt;=ISV&lt;20  model suitable for energy + single phase mass bal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&lt;=ISV&lt;30  model suitable for energy + two phase mass bal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ameter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(=Y or N)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3068640"/>
            <a:ext cx="59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D, description,  Y,  ?[R]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tank volume, Y, 0.3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5516640"/>
            <a:ext cx="64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0, fluid density, N, -2, 6, D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84280"/>
            <a:ext cx="64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description, N, ?[I], ?[I], ?[C*3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565360"/>
            <a:ext cx="3960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0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0: properties that change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0: properties that change not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2492280"/>
            <a:ext cx="453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 specific heat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 specific heat of water   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 specific heat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 density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: density of water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: density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32600">
            <a:off x="2836800" y="2003040"/>
            <a:ext cx="935280" cy="355680"/>
          </a:xfrm>
          <a:prstGeom prst="rightArrow">
            <a:avLst>
              <a:gd name="adj1" fmla="val 50000"/>
              <a:gd name="adj2" fmla="val 6573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815200">
            <a:off x="4615920" y="1969560"/>
            <a:ext cx="936720" cy="355680"/>
          </a:xfrm>
          <a:prstGeom prst="rightArrow">
            <a:avLst>
              <a:gd name="adj1" fmla="val 50000"/>
              <a:gd name="adj2" fmla="val 6584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en and Wh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087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for a required component does not exist in the base program (ESP-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model is not adequate for a specific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 time and financial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708280"/>
            <a:ext cx="8785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 :outdoor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3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 :control 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2, 2, DM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 :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:user fixed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 0, 35.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48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temperature of a receiving connec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1, 2, 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50028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first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2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second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3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additional output of a plant 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4, 3, 2, E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400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ed no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pl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8139600">
            <a:off x="4787640" y="256536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266400">
            <a:off x="5656320" y="256032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rivative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7840" y="1557000"/>
            <a:ext cx="6264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atives, ?[I],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645000"/>
            <a:ext cx="511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?[R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234936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umber of derivati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2349360"/>
            <a:ext cx="3743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itialization metho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0 : set by ESP-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 : set by 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508640"/>
            <a:ext cx="856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 the current stage, the derivatives are assumed to represent temperature in oC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39600">
            <a:off x="2266200" y="191592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266400">
            <a:off x="3638160" y="191304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?[I], ?[C*3],  ?[I], ?[C*3], ?[I], 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920" y="3357720"/>
            <a:ext cx="8785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eg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gt; 0, map to TRNSYS out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lt; 0, map to TRNSYS in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0, map to zer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70828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70828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s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2708280"/>
            <a:ext cx="151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217080" indent="-2170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n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5084640"/>
            <a:ext cx="820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0000"/>
                </a:solidFill>
                <a:latin typeface="Courier New"/>
              </a:rPr>
              <a:t>2, 2nd node, 5, TE1,  -10, MF1,  0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474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5706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722720" y="2006640"/>
            <a:ext cx="358920" cy="1044360"/>
          </a:xfrm>
          <a:prstGeom prst="rightArrowCallout">
            <a:avLst>
              <a:gd name="adj1" fmla="val 72750"/>
              <a:gd name="adj2" fmla="val 72743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itional-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   description,    ?[I],    ?[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92428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NSYS output posi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57336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 2nd additional output description,  15,  PW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065840" y="2423160"/>
            <a:ext cx="503280" cy="355320"/>
          </a:xfrm>
          <a:prstGeom prst="rightArrow">
            <a:avLst>
              <a:gd name="adj1" fmla="val 50000"/>
              <a:gd name="adj2" fmla="val 3541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lated Source File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com/readTrnsys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wrapper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lib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plt/trstyp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clude/trnsy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through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2421000"/>
            <a:ext cx="1944720" cy="24480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908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55600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08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49228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49228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nk Paramete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: 32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: 1.8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: cylindr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loss factor:  0.1 W/m2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capacitance of fluid: 4200 J/kg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onductivity of fluid: 0.58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hermal conductivity: 0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of fluid: 1000 kg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temperature: 5 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iven Condi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tank temperature: 3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6 L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5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upling Strategi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163160"/>
            <a:ext cx="835164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d executable simulation programs co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municate with each other at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stributed simulation in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mulation progra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gram contains component models from other simul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8972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use at different lev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ossible Bu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eatures such as modules and array operation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ippl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lobal variable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.h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tility function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_lib.F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brout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gfortran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atien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TRNSYS Simu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Results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2873" t="4454" r="2045" b="3344"/>
          <a:stretch/>
        </p:blipFill>
        <p:spPr>
          <a:xfrm>
            <a:off x="324000" y="1197000"/>
            <a:ext cx="85690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ents  &amp;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our Hel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test the 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correct th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the scope from plant to electric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 case without copyrigh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5300640"/>
            <a:ext cx="6767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weiwang@nrcan.gc.c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component model to be coupled into a subroutine of the host simulatio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needs to b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rapper is designed to ease the coup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still have to work on the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y TRNSYS ?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0788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, mod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available for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any components commonly found in thermal and electrical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modelling solar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modell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structure for each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ons among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is known prior to simulation for a well-defined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un time, the simulation fills the matrix with coefficients and solve the stat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a new plant component requi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ry in the plant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a type in TRNSYS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check the validity of its definition in the plan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Initialization call and TIME=TIME0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generate the required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Every time step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10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type     : gas-fired water tank with 2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     : 3-node tank for charging by residential fuel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ate   : 19 Oct 01 11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: Single component                    Component code :    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odal Schem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nodes  :   3      No of nonzero matrix elements :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rix positions :   1,   5,   8,  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 connections :   2,   0,  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type    :  20,  21, 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scellaneo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ta items   :  14    Bdata items   :   0    Cdata items   :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helpdsk</cp:lastModifiedBy>
  <dcterms:modified xsi:type="dcterms:W3CDTF">2007-11-20T15:56:34Z</dcterms:modified>
  <cp:revision>37</cp:revision>
  <dc:subject/>
  <dc:title>PCC V2 Proposal</dc:title>
</cp:coreProperties>
</file>