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70056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056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"/>
          <p:cNvSpPr/>
          <p:nvPr/>
        </p:nvSpPr>
        <p:spPr>
          <a:xfrm>
            <a:off x="0" y="0"/>
            <a:ext cx="7005600" cy="9223200"/>
          </a:xfrm>
          <a:custGeom>
            <a:avLst/>
            <a:gdLst>
              <a:gd name="textAreaLeft" fmla="*/ 360 w 7005600"/>
              <a:gd name="textAreaRight" fmla="*/ 7005240 w 7005600"/>
              <a:gd name="textAreaTop" fmla="*/ 360 h 9223200"/>
              <a:gd name="textAreaBottom" fmla="*/ 9222840 h 9223200"/>
            </a:gdLst>
            <a:ahLst/>
            <a:rect l="textAreaLeft" t="textAreaTop" r="textAreaRight" b="textAreaBottom"/>
            <a:pathLst>
              <a:path w="21600" h="28437">
                <a:moveTo>
                  <a:pt x="4" y="0"/>
                </a:moveTo>
                <a:arcTo wR="4" hR="4" stAng="16200000" swAng="-5400000"/>
                <a:lnTo>
                  <a:pt x="0" y="28433"/>
                </a:lnTo>
                <a:arcTo wR="4" hR="4" stAng="10800000" swAng="-5400000"/>
                <a:lnTo>
                  <a:pt x="21596" y="2843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3720" cy="4604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3968280" y="-360"/>
            <a:ext cx="3033720" cy="4604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1600" cy="34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831600" y="4365720"/>
            <a:ext cx="5135400" cy="4147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-36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96828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5A5817-A6A3-4326-A4FD-270856C920C0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776880" y="4473720"/>
            <a:ext cx="1123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91987D-A672-4371-A547-980753AE2BCB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20C005-879C-4D5A-BACE-E9CCE0DC293A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536C15-B9AE-4AC3-A20A-415E07D69F00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8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760" y="4121280"/>
            <a:ext cx="8308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5760" y="412128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3480" y="412128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5200" y="138384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4280" y="138384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760" y="412128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5200" y="412128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4280" y="412128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6840" y="428760"/>
            <a:ext cx="83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5760" y="412128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13480" y="412128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5760" y="4121280"/>
            <a:ext cx="8308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8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5760" y="4121280"/>
            <a:ext cx="8308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412128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13480" y="412128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5200" y="138384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4280" y="138384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5760" y="412128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5200" y="412128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4280" y="412128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428760"/>
            <a:ext cx="83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5760" y="412128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3480" y="412128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760" y="4121280"/>
            <a:ext cx="8308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1"/>
          <p:cNvSpPr/>
          <p:nvPr/>
        </p:nvSpPr>
        <p:spPr>
          <a:xfrm flipH="1">
            <a:off x="436320" y="809640"/>
            <a:ext cx="8327880" cy="1440"/>
          </a:xfrm>
          <a:prstGeom prst="line">
            <a:avLst/>
          </a:prstGeom>
          <a:ln w="19080">
            <a:solidFill>
              <a:srgbClr val="b399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5"/>
          <p:cNvSpPr/>
          <p:nvPr/>
        </p:nvSpPr>
        <p:spPr>
          <a:xfrm flipV="1">
            <a:off x="447840" y="744480"/>
            <a:ext cx="8324640" cy="31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1060560"/>
            <a:ext cx="9145440" cy="57974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"/>
          <p:cNvPicPr/>
          <p:nvPr/>
        </p:nvPicPr>
        <p:blipFill>
          <a:blip r:embed="rId3"/>
          <a:stretch/>
        </p:blipFill>
        <p:spPr>
          <a:xfrm>
            <a:off x="304920" y="304920"/>
            <a:ext cx="2971800" cy="3823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4"/>
          <a:stretch/>
        </p:blipFill>
        <p:spPr>
          <a:xfrm>
            <a:off x="6400800" y="4929120"/>
            <a:ext cx="2176560" cy="1700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28440" y="2831760"/>
            <a:ext cx="6792840" cy="160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"/>
          <p:cNvPicPr/>
          <p:nvPr/>
        </p:nvPicPr>
        <p:blipFill>
          <a:blip r:embed="rId5"/>
          <a:stretch/>
        </p:blipFill>
        <p:spPr>
          <a:xfrm>
            <a:off x="938160" y="6126120"/>
            <a:ext cx="1398600" cy="3459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828800" y="3192480"/>
            <a:ext cx="6794640" cy="868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Plant networks in ESP-r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Building coupling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3"/>
          <p:cNvSpPr/>
          <p:nvPr/>
        </p:nvSpPr>
        <p:spPr>
          <a:xfrm>
            <a:off x="463320" y="1052640"/>
            <a:ext cx="45547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y-integraterd “onion solution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Group 4"/>
          <p:cNvGrpSpPr/>
          <p:nvPr/>
        </p:nvGrpSpPr>
        <p:grpSpPr>
          <a:xfrm>
            <a:off x="914400" y="1728720"/>
            <a:ext cx="717480" cy="717480"/>
            <a:chOff x="914400" y="1728720"/>
            <a:chExt cx="717480" cy="717480"/>
          </a:xfrm>
        </p:grpSpPr>
        <p:sp>
          <p:nvSpPr>
            <p:cNvPr id="497" name="Rectangle 5"/>
            <p:cNvSpPr/>
            <p:nvPr/>
          </p:nvSpPr>
          <p:spPr>
            <a:xfrm>
              <a:off x="914400" y="1728720"/>
              <a:ext cx="717480" cy="7174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Text Box 6"/>
            <p:cNvSpPr/>
            <p:nvPr/>
          </p:nvSpPr>
          <p:spPr>
            <a:xfrm>
              <a:off x="1081440" y="187128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" name="Group 7"/>
          <p:cNvGrpSpPr/>
          <p:nvPr/>
        </p:nvGrpSpPr>
        <p:grpSpPr>
          <a:xfrm>
            <a:off x="914400" y="2994120"/>
            <a:ext cx="717480" cy="717480"/>
            <a:chOff x="914400" y="2994120"/>
            <a:chExt cx="717480" cy="717480"/>
          </a:xfrm>
        </p:grpSpPr>
        <p:sp>
          <p:nvSpPr>
            <p:cNvPr id="500" name="Rectangle 8"/>
            <p:cNvSpPr/>
            <p:nvPr/>
          </p:nvSpPr>
          <p:spPr>
            <a:xfrm>
              <a:off x="914400" y="2994120"/>
              <a:ext cx="717480" cy="717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Text Box 9"/>
            <p:cNvSpPr/>
            <p:nvPr/>
          </p:nvSpPr>
          <p:spPr>
            <a:xfrm>
              <a:off x="1081440" y="313704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" name="Group 10"/>
          <p:cNvGrpSpPr/>
          <p:nvPr/>
        </p:nvGrpSpPr>
        <p:grpSpPr>
          <a:xfrm>
            <a:off x="2001960" y="2994120"/>
            <a:ext cx="717480" cy="717480"/>
            <a:chOff x="2001960" y="2994120"/>
            <a:chExt cx="717480" cy="717480"/>
          </a:xfrm>
        </p:grpSpPr>
        <p:sp>
          <p:nvSpPr>
            <p:cNvPr id="503" name="Rectangle 11"/>
            <p:cNvSpPr/>
            <p:nvPr/>
          </p:nvSpPr>
          <p:spPr>
            <a:xfrm>
              <a:off x="2001960" y="2994120"/>
              <a:ext cx="717480" cy="717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Text Box 12"/>
            <p:cNvSpPr/>
            <p:nvPr/>
          </p:nvSpPr>
          <p:spPr>
            <a:xfrm>
              <a:off x="2169000" y="313704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Group 13"/>
          <p:cNvGrpSpPr/>
          <p:nvPr/>
        </p:nvGrpSpPr>
        <p:grpSpPr>
          <a:xfrm>
            <a:off x="3090960" y="2994120"/>
            <a:ext cx="717480" cy="717480"/>
            <a:chOff x="3090960" y="2994120"/>
            <a:chExt cx="717480" cy="717480"/>
          </a:xfrm>
        </p:grpSpPr>
        <p:sp>
          <p:nvSpPr>
            <p:cNvPr id="506" name="Rectangle 14"/>
            <p:cNvSpPr/>
            <p:nvPr/>
          </p:nvSpPr>
          <p:spPr>
            <a:xfrm>
              <a:off x="3090960" y="2994120"/>
              <a:ext cx="717480" cy="717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Text Box 15"/>
            <p:cNvSpPr/>
            <p:nvPr/>
          </p:nvSpPr>
          <p:spPr>
            <a:xfrm>
              <a:off x="3258000" y="313704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" name="Group 16"/>
          <p:cNvGrpSpPr/>
          <p:nvPr/>
        </p:nvGrpSpPr>
        <p:grpSpPr>
          <a:xfrm>
            <a:off x="5267160" y="2994120"/>
            <a:ext cx="717480" cy="717480"/>
            <a:chOff x="5267160" y="2994120"/>
            <a:chExt cx="717480" cy="717480"/>
          </a:xfrm>
        </p:grpSpPr>
        <p:sp>
          <p:nvSpPr>
            <p:cNvPr id="509" name="Rectangle 17"/>
            <p:cNvSpPr/>
            <p:nvPr/>
          </p:nvSpPr>
          <p:spPr>
            <a:xfrm>
              <a:off x="5267160" y="2994120"/>
              <a:ext cx="717480" cy="717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Text Box 18"/>
            <p:cNvSpPr/>
            <p:nvPr/>
          </p:nvSpPr>
          <p:spPr>
            <a:xfrm>
              <a:off x="5434200" y="313704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1" name="Group 19"/>
          <p:cNvGrpSpPr/>
          <p:nvPr/>
        </p:nvGrpSpPr>
        <p:grpSpPr>
          <a:xfrm>
            <a:off x="4179960" y="2994120"/>
            <a:ext cx="717480" cy="717480"/>
            <a:chOff x="4179960" y="2994120"/>
            <a:chExt cx="717480" cy="717480"/>
          </a:xfrm>
        </p:grpSpPr>
        <p:sp>
          <p:nvSpPr>
            <p:cNvPr id="512" name="Rectangle 20"/>
            <p:cNvSpPr/>
            <p:nvPr/>
          </p:nvSpPr>
          <p:spPr>
            <a:xfrm>
              <a:off x="4179960" y="2994120"/>
              <a:ext cx="717480" cy="717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Text Box 21"/>
            <p:cNvSpPr/>
            <p:nvPr/>
          </p:nvSpPr>
          <p:spPr>
            <a:xfrm>
              <a:off x="4347000" y="313704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Group 22"/>
          <p:cNvGrpSpPr/>
          <p:nvPr/>
        </p:nvGrpSpPr>
        <p:grpSpPr>
          <a:xfrm>
            <a:off x="6356520" y="2994120"/>
            <a:ext cx="717480" cy="717480"/>
            <a:chOff x="6356520" y="2994120"/>
            <a:chExt cx="717480" cy="717480"/>
          </a:xfrm>
        </p:grpSpPr>
        <p:sp>
          <p:nvSpPr>
            <p:cNvPr id="515" name="Rectangle 23"/>
            <p:cNvSpPr/>
            <p:nvPr/>
          </p:nvSpPr>
          <p:spPr>
            <a:xfrm>
              <a:off x="6356520" y="2994120"/>
              <a:ext cx="717480" cy="717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Text Box 24"/>
            <p:cNvSpPr/>
            <p:nvPr/>
          </p:nvSpPr>
          <p:spPr>
            <a:xfrm>
              <a:off x="6523560" y="313704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Group 25"/>
          <p:cNvGrpSpPr/>
          <p:nvPr/>
        </p:nvGrpSpPr>
        <p:grpSpPr>
          <a:xfrm>
            <a:off x="7445520" y="2994120"/>
            <a:ext cx="717480" cy="717480"/>
            <a:chOff x="7445520" y="2994120"/>
            <a:chExt cx="717480" cy="717480"/>
          </a:xfrm>
        </p:grpSpPr>
        <p:sp>
          <p:nvSpPr>
            <p:cNvPr id="518" name="Rectangle 26"/>
            <p:cNvSpPr/>
            <p:nvPr/>
          </p:nvSpPr>
          <p:spPr>
            <a:xfrm>
              <a:off x="7445520" y="2994120"/>
              <a:ext cx="717480" cy="717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Text Box 27"/>
            <p:cNvSpPr/>
            <p:nvPr/>
          </p:nvSpPr>
          <p:spPr>
            <a:xfrm>
              <a:off x="7612560" y="313704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Group 28"/>
          <p:cNvGrpSpPr/>
          <p:nvPr/>
        </p:nvGrpSpPr>
        <p:grpSpPr>
          <a:xfrm>
            <a:off x="2001960" y="1728720"/>
            <a:ext cx="717480" cy="717480"/>
            <a:chOff x="2001960" y="1728720"/>
            <a:chExt cx="717480" cy="717480"/>
          </a:xfrm>
        </p:grpSpPr>
        <p:sp>
          <p:nvSpPr>
            <p:cNvPr id="521" name="Rectangle 29"/>
            <p:cNvSpPr/>
            <p:nvPr/>
          </p:nvSpPr>
          <p:spPr>
            <a:xfrm>
              <a:off x="2001960" y="1728720"/>
              <a:ext cx="717480" cy="7174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Text Box 30"/>
            <p:cNvSpPr/>
            <p:nvPr/>
          </p:nvSpPr>
          <p:spPr>
            <a:xfrm>
              <a:off x="2169000" y="187128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Group 31"/>
          <p:cNvGrpSpPr/>
          <p:nvPr/>
        </p:nvGrpSpPr>
        <p:grpSpPr>
          <a:xfrm>
            <a:off x="7445520" y="1728720"/>
            <a:ext cx="717480" cy="717480"/>
            <a:chOff x="7445520" y="1728720"/>
            <a:chExt cx="717480" cy="717480"/>
          </a:xfrm>
        </p:grpSpPr>
        <p:sp>
          <p:nvSpPr>
            <p:cNvPr id="524" name="Rectangle 32"/>
            <p:cNvSpPr/>
            <p:nvPr/>
          </p:nvSpPr>
          <p:spPr>
            <a:xfrm>
              <a:off x="7445520" y="1728720"/>
              <a:ext cx="717480" cy="7174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Text Box 33"/>
            <p:cNvSpPr/>
            <p:nvPr/>
          </p:nvSpPr>
          <p:spPr>
            <a:xfrm>
              <a:off x="7612560" y="187128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Group 34"/>
          <p:cNvGrpSpPr/>
          <p:nvPr/>
        </p:nvGrpSpPr>
        <p:grpSpPr>
          <a:xfrm>
            <a:off x="3090960" y="1728720"/>
            <a:ext cx="717480" cy="717480"/>
            <a:chOff x="3090960" y="1728720"/>
            <a:chExt cx="717480" cy="717480"/>
          </a:xfrm>
        </p:grpSpPr>
        <p:sp>
          <p:nvSpPr>
            <p:cNvPr id="527" name="Rectangle 35"/>
            <p:cNvSpPr/>
            <p:nvPr/>
          </p:nvSpPr>
          <p:spPr>
            <a:xfrm>
              <a:off x="3090960" y="1728720"/>
              <a:ext cx="717480" cy="7174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Text Box 36"/>
            <p:cNvSpPr/>
            <p:nvPr/>
          </p:nvSpPr>
          <p:spPr>
            <a:xfrm>
              <a:off x="3258000" y="187128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" name="Group 37"/>
          <p:cNvGrpSpPr/>
          <p:nvPr/>
        </p:nvGrpSpPr>
        <p:grpSpPr>
          <a:xfrm>
            <a:off x="4179960" y="1728720"/>
            <a:ext cx="717480" cy="717480"/>
            <a:chOff x="4179960" y="1728720"/>
            <a:chExt cx="717480" cy="717480"/>
          </a:xfrm>
        </p:grpSpPr>
        <p:sp>
          <p:nvSpPr>
            <p:cNvPr id="530" name="Rectangle 38"/>
            <p:cNvSpPr/>
            <p:nvPr/>
          </p:nvSpPr>
          <p:spPr>
            <a:xfrm>
              <a:off x="4179960" y="1728720"/>
              <a:ext cx="717480" cy="7174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 Box 39"/>
            <p:cNvSpPr/>
            <p:nvPr/>
          </p:nvSpPr>
          <p:spPr>
            <a:xfrm>
              <a:off x="4347000" y="187128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" name="Group 40"/>
          <p:cNvGrpSpPr/>
          <p:nvPr/>
        </p:nvGrpSpPr>
        <p:grpSpPr>
          <a:xfrm>
            <a:off x="5267160" y="1728720"/>
            <a:ext cx="717480" cy="717480"/>
            <a:chOff x="5267160" y="1728720"/>
            <a:chExt cx="717480" cy="717480"/>
          </a:xfrm>
        </p:grpSpPr>
        <p:sp>
          <p:nvSpPr>
            <p:cNvPr id="533" name="Rectangle 41"/>
            <p:cNvSpPr/>
            <p:nvPr/>
          </p:nvSpPr>
          <p:spPr>
            <a:xfrm>
              <a:off x="5267160" y="1728720"/>
              <a:ext cx="717480" cy="7174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Text Box 42"/>
            <p:cNvSpPr/>
            <p:nvPr/>
          </p:nvSpPr>
          <p:spPr>
            <a:xfrm>
              <a:off x="5434200" y="187128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" name="Group 43"/>
          <p:cNvGrpSpPr/>
          <p:nvPr/>
        </p:nvGrpSpPr>
        <p:grpSpPr>
          <a:xfrm>
            <a:off x="6356520" y="1728720"/>
            <a:ext cx="717480" cy="717480"/>
            <a:chOff x="6356520" y="1728720"/>
            <a:chExt cx="717480" cy="717480"/>
          </a:xfrm>
        </p:grpSpPr>
        <p:sp>
          <p:nvSpPr>
            <p:cNvPr id="536" name="Rectangle 44"/>
            <p:cNvSpPr/>
            <p:nvPr/>
          </p:nvSpPr>
          <p:spPr>
            <a:xfrm>
              <a:off x="6356520" y="1728720"/>
              <a:ext cx="717480" cy="7174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Text Box 45"/>
            <p:cNvSpPr/>
            <p:nvPr/>
          </p:nvSpPr>
          <p:spPr>
            <a:xfrm>
              <a:off x="6523560" y="187128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38" name="AutoShape 46"/>
          <p:cNvCxnSpPr>
            <a:stCxn id="497" idx="3"/>
            <a:endCxn id="521" idx="1"/>
          </p:cNvCxnSpPr>
          <p:nvPr/>
        </p:nvCxnSpPr>
        <p:spPr>
          <a:xfrm>
            <a:off x="1631880" y="2087280"/>
            <a:ext cx="370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9" name="AutoShape 47"/>
          <p:cNvCxnSpPr>
            <a:stCxn id="521" idx="3"/>
            <a:endCxn id="527" idx="1"/>
          </p:cNvCxnSpPr>
          <p:nvPr/>
        </p:nvCxnSpPr>
        <p:spPr>
          <a:xfrm>
            <a:off x="2719440" y="2087280"/>
            <a:ext cx="372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0" name="AutoShape 48"/>
          <p:cNvCxnSpPr>
            <a:stCxn id="527" idx="3"/>
            <a:endCxn id="530" idx="1"/>
          </p:cNvCxnSpPr>
          <p:nvPr/>
        </p:nvCxnSpPr>
        <p:spPr>
          <a:xfrm>
            <a:off x="3808440" y="2087280"/>
            <a:ext cx="372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1" name="AutoShape 49"/>
          <p:cNvCxnSpPr>
            <a:stCxn id="530" idx="3"/>
            <a:endCxn id="533" idx="1"/>
          </p:cNvCxnSpPr>
          <p:nvPr/>
        </p:nvCxnSpPr>
        <p:spPr>
          <a:xfrm>
            <a:off x="4897080" y="2087280"/>
            <a:ext cx="370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2" name="AutoShape 50"/>
          <p:cNvCxnSpPr/>
          <p:nvPr/>
        </p:nvCxnSpPr>
        <p:spPr>
          <a:xfrm>
            <a:off x="5972040" y="2087280"/>
            <a:ext cx="372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3" name="AutoShape 51"/>
          <p:cNvCxnSpPr/>
          <p:nvPr/>
        </p:nvCxnSpPr>
        <p:spPr>
          <a:xfrm>
            <a:off x="7061040" y="2087280"/>
            <a:ext cx="372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4" name="Text Box 60"/>
          <p:cNvSpPr/>
          <p:nvPr/>
        </p:nvSpPr>
        <p:spPr>
          <a:xfrm>
            <a:off x="463320" y="4019400"/>
            <a:ext cx="409140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gged, “Ping-pong”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5" name="Group 61"/>
          <p:cNvGrpSpPr/>
          <p:nvPr/>
        </p:nvGrpSpPr>
        <p:grpSpPr>
          <a:xfrm>
            <a:off x="901800" y="4568760"/>
            <a:ext cx="717480" cy="717480"/>
            <a:chOff x="901800" y="4568760"/>
            <a:chExt cx="717480" cy="717480"/>
          </a:xfrm>
        </p:grpSpPr>
        <p:sp>
          <p:nvSpPr>
            <p:cNvPr id="546" name="Rectangle 62"/>
            <p:cNvSpPr/>
            <p:nvPr/>
          </p:nvSpPr>
          <p:spPr>
            <a:xfrm>
              <a:off x="901800" y="4568760"/>
              <a:ext cx="717480" cy="7174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Text Box 63"/>
            <p:cNvSpPr/>
            <p:nvPr/>
          </p:nvSpPr>
          <p:spPr>
            <a:xfrm>
              <a:off x="1068840" y="471132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" name="Group 64"/>
          <p:cNvGrpSpPr/>
          <p:nvPr/>
        </p:nvGrpSpPr>
        <p:grpSpPr>
          <a:xfrm>
            <a:off x="901800" y="5834160"/>
            <a:ext cx="717480" cy="717480"/>
            <a:chOff x="901800" y="5834160"/>
            <a:chExt cx="717480" cy="717480"/>
          </a:xfrm>
        </p:grpSpPr>
        <p:sp>
          <p:nvSpPr>
            <p:cNvPr id="549" name="Rectangle 65"/>
            <p:cNvSpPr/>
            <p:nvPr/>
          </p:nvSpPr>
          <p:spPr>
            <a:xfrm>
              <a:off x="901800" y="5834160"/>
              <a:ext cx="717480" cy="717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Text Box 66"/>
            <p:cNvSpPr/>
            <p:nvPr/>
          </p:nvSpPr>
          <p:spPr>
            <a:xfrm>
              <a:off x="1068840" y="597708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" name="Group 67"/>
          <p:cNvGrpSpPr/>
          <p:nvPr/>
        </p:nvGrpSpPr>
        <p:grpSpPr>
          <a:xfrm>
            <a:off x="1989000" y="5834160"/>
            <a:ext cx="717480" cy="717480"/>
            <a:chOff x="1989000" y="5834160"/>
            <a:chExt cx="717480" cy="717480"/>
          </a:xfrm>
        </p:grpSpPr>
        <p:sp>
          <p:nvSpPr>
            <p:cNvPr id="552" name="Rectangle 68"/>
            <p:cNvSpPr/>
            <p:nvPr/>
          </p:nvSpPr>
          <p:spPr>
            <a:xfrm>
              <a:off x="1989000" y="5834160"/>
              <a:ext cx="717480" cy="717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 Box 69"/>
            <p:cNvSpPr/>
            <p:nvPr/>
          </p:nvSpPr>
          <p:spPr>
            <a:xfrm>
              <a:off x="2156040" y="597708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" name="Group 70"/>
          <p:cNvGrpSpPr/>
          <p:nvPr/>
        </p:nvGrpSpPr>
        <p:grpSpPr>
          <a:xfrm>
            <a:off x="3078000" y="5834160"/>
            <a:ext cx="717480" cy="717480"/>
            <a:chOff x="3078000" y="5834160"/>
            <a:chExt cx="717480" cy="717480"/>
          </a:xfrm>
        </p:grpSpPr>
        <p:sp>
          <p:nvSpPr>
            <p:cNvPr id="555" name="Rectangle 71"/>
            <p:cNvSpPr/>
            <p:nvPr/>
          </p:nvSpPr>
          <p:spPr>
            <a:xfrm>
              <a:off x="3078000" y="5834160"/>
              <a:ext cx="717480" cy="717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Text Box 72"/>
            <p:cNvSpPr/>
            <p:nvPr/>
          </p:nvSpPr>
          <p:spPr>
            <a:xfrm>
              <a:off x="3245040" y="597708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" name="Group 73"/>
          <p:cNvGrpSpPr/>
          <p:nvPr/>
        </p:nvGrpSpPr>
        <p:grpSpPr>
          <a:xfrm>
            <a:off x="5254560" y="5834160"/>
            <a:ext cx="717480" cy="717480"/>
            <a:chOff x="5254560" y="5834160"/>
            <a:chExt cx="717480" cy="717480"/>
          </a:xfrm>
        </p:grpSpPr>
        <p:sp>
          <p:nvSpPr>
            <p:cNvPr id="558" name="Rectangle 74"/>
            <p:cNvSpPr/>
            <p:nvPr/>
          </p:nvSpPr>
          <p:spPr>
            <a:xfrm>
              <a:off x="5254560" y="5834160"/>
              <a:ext cx="717480" cy="717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Text Box 75"/>
            <p:cNvSpPr/>
            <p:nvPr/>
          </p:nvSpPr>
          <p:spPr>
            <a:xfrm>
              <a:off x="5421600" y="597708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" name="Group 76"/>
          <p:cNvGrpSpPr/>
          <p:nvPr/>
        </p:nvGrpSpPr>
        <p:grpSpPr>
          <a:xfrm>
            <a:off x="4167360" y="5834160"/>
            <a:ext cx="717480" cy="717480"/>
            <a:chOff x="4167360" y="5834160"/>
            <a:chExt cx="717480" cy="717480"/>
          </a:xfrm>
        </p:grpSpPr>
        <p:sp>
          <p:nvSpPr>
            <p:cNvPr id="561" name="Rectangle 77"/>
            <p:cNvSpPr/>
            <p:nvPr/>
          </p:nvSpPr>
          <p:spPr>
            <a:xfrm>
              <a:off x="4167360" y="5834160"/>
              <a:ext cx="717480" cy="717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78"/>
            <p:cNvSpPr/>
            <p:nvPr/>
          </p:nvSpPr>
          <p:spPr>
            <a:xfrm>
              <a:off x="4334400" y="597708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" name="Group 79"/>
          <p:cNvGrpSpPr/>
          <p:nvPr/>
        </p:nvGrpSpPr>
        <p:grpSpPr>
          <a:xfrm>
            <a:off x="6343560" y="5834160"/>
            <a:ext cx="717480" cy="717480"/>
            <a:chOff x="6343560" y="5834160"/>
            <a:chExt cx="717480" cy="717480"/>
          </a:xfrm>
        </p:grpSpPr>
        <p:sp>
          <p:nvSpPr>
            <p:cNvPr id="564" name="Rectangle 80"/>
            <p:cNvSpPr/>
            <p:nvPr/>
          </p:nvSpPr>
          <p:spPr>
            <a:xfrm>
              <a:off x="6343560" y="5834160"/>
              <a:ext cx="717480" cy="717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Text Box 81"/>
            <p:cNvSpPr/>
            <p:nvPr/>
          </p:nvSpPr>
          <p:spPr>
            <a:xfrm>
              <a:off x="6510600" y="597708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Group 82"/>
          <p:cNvGrpSpPr/>
          <p:nvPr/>
        </p:nvGrpSpPr>
        <p:grpSpPr>
          <a:xfrm>
            <a:off x="7432560" y="5834160"/>
            <a:ext cx="717480" cy="717480"/>
            <a:chOff x="7432560" y="5834160"/>
            <a:chExt cx="717480" cy="717480"/>
          </a:xfrm>
        </p:grpSpPr>
        <p:sp>
          <p:nvSpPr>
            <p:cNvPr id="567" name="Rectangle 83"/>
            <p:cNvSpPr/>
            <p:nvPr/>
          </p:nvSpPr>
          <p:spPr>
            <a:xfrm>
              <a:off x="7432560" y="5834160"/>
              <a:ext cx="717480" cy="717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Text Box 84"/>
            <p:cNvSpPr/>
            <p:nvPr/>
          </p:nvSpPr>
          <p:spPr>
            <a:xfrm>
              <a:off x="7599600" y="597708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Group 85"/>
          <p:cNvGrpSpPr/>
          <p:nvPr/>
        </p:nvGrpSpPr>
        <p:grpSpPr>
          <a:xfrm>
            <a:off x="1989000" y="4568760"/>
            <a:ext cx="717480" cy="717480"/>
            <a:chOff x="1989000" y="4568760"/>
            <a:chExt cx="717480" cy="717480"/>
          </a:xfrm>
        </p:grpSpPr>
        <p:sp>
          <p:nvSpPr>
            <p:cNvPr id="570" name="Rectangle 86"/>
            <p:cNvSpPr/>
            <p:nvPr/>
          </p:nvSpPr>
          <p:spPr>
            <a:xfrm>
              <a:off x="1989000" y="4568760"/>
              <a:ext cx="717480" cy="7174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Text Box 87"/>
            <p:cNvSpPr/>
            <p:nvPr/>
          </p:nvSpPr>
          <p:spPr>
            <a:xfrm>
              <a:off x="2156040" y="471132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Group 88"/>
          <p:cNvGrpSpPr/>
          <p:nvPr/>
        </p:nvGrpSpPr>
        <p:grpSpPr>
          <a:xfrm>
            <a:off x="7432560" y="4568760"/>
            <a:ext cx="717480" cy="717480"/>
            <a:chOff x="7432560" y="4568760"/>
            <a:chExt cx="717480" cy="717480"/>
          </a:xfrm>
        </p:grpSpPr>
        <p:sp>
          <p:nvSpPr>
            <p:cNvPr id="573" name="Rectangle 89"/>
            <p:cNvSpPr/>
            <p:nvPr/>
          </p:nvSpPr>
          <p:spPr>
            <a:xfrm>
              <a:off x="7432560" y="4568760"/>
              <a:ext cx="717480" cy="7174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90"/>
            <p:cNvSpPr/>
            <p:nvPr/>
          </p:nvSpPr>
          <p:spPr>
            <a:xfrm>
              <a:off x="7599600" y="471132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Group 91"/>
          <p:cNvGrpSpPr/>
          <p:nvPr/>
        </p:nvGrpSpPr>
        <p:grpSpPr>
          <a:xfrm>
            <a:off x="3078000" y="4568760"/>
            <a:ext cx="717480" cy="717480"/>
            <a:chOff x="3078000" y="4568760"/>
            <a:chExt cx="717480" cy="717480"/>
          </a:xfrm>
        </p:grpSpPr>
        <p:sp>
          <p:nvSpPr>
            <p:cNvPr id="576" name="Rectangle 92"/>
            <p:cNvSpPr/>
            <p:nvPr/>
          </p:nvSpPr>
          <p:spPr>
            <a:xfrm>
              <a:off x="3078000" y="4568760"/>
              <a:ext cx="717480" cy="7174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Text Box 93"/>
            <p:cNvSpPr/>
            <p:nvPr/>
          </p:nvSpPr>
          <p:spPr>
            <a:xfrm>
              <a:off x="3245040" y="471132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" name="Group 94"/>
          <p:cNvGrpSpPr/>
          <p:nvPr/>
        </p:nvGrpSpPr>
        <p:grpSpPr>
          <a:xfrm>
            <a:off x="4167360" y="4568760"/>
            <a:ext cx="717480" cy="717480"/>
            <a:chOff x="4167360" y="4568760"/>
            <a:chExt cx="717480" cy="717480"/>
          </a:xfrm>
        </p:grpSpPr>
        <p:sp>
          <p:nvSpPr>
            <p:cNvPr id="579" name="Rectangle 95"/>
            <p:cNvSpPr/>
            <p:nvPr/>
          </p:nvSpPr>
          <p:spPr>
            <a:xfrm>
              <a:off x="4167360" y="4568760"/>
              <a:ext cx="717480" cy="7174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Text Box 96"/>
            <p:cNvSpPr/>
            <p:nvPr/>
          </p:nvSpPr>
          <p:spPr>
            <a:xfrm>
              <a:off x="4334400" y="471132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" name="Group 97"/>
          <p:cNvGrpSpPr/>
          <p:nvPr/>
        </p:nvGrpSpPr>
        <p:grpSpPr>
          <a:xfrm>
            <a:off x="5254560" y="4568760"/>
            <a:ext cx="717480" cy="717480"/>
            <a:chOff x="5254560" y="4568760"/>
            <a:chExt cx="717480" cy="717480"/>
          </a:xfrm>
        </p:grpSpPr>
        <p:sp>
          <p:nvSpPr>
            <p:cNvPr id="582" name="Rectangle 98"/>
            <p:cNvSpPr/>
            <p:nvPr/>
          </p:nvSpPr>
          <p:spPr>
            <a:xfrm>
              <a:off x="5254560" y="4568760"/>
              <a:ext cx="717480" cy="7174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Text Box 99"/>
            <p:cNvSpPr/>
            <p:nvPr/>
          </p:nvSpPr>
          <p:spPr>
            <a:xfrm>
              <a:off x="5421600" y="471132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" name="Group 100"/>
          <p:cNvGrpSpPr/>
          <p:nvPr/>
        </p:nvGrpSpPr>
        <p:grpSpPr>
          <a:xfrm>
            <a:off x="6343560" y="4568760"/>
            <a:ext cx="717480" cy="717480"/>
            <a:chOff x="6343560" y="4568760"/>
            <a:chExt cx="717480" cy="717480"/>
          </a:xfrm>
        </p:grpSpPr>
        <p:sp>
          <p:nvSpPr>
            <p:cNvPr id="585" name="Rectangle 101"/>
            <p:cNvSpPr/>
            <p:nvPr/>
          </p:nvSpPr>
          <p:spPr>
            <a:xfrm>
              <a:off x="6343560" y="4568760"/>
              <a:ext cx="717480" cy="7174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Text Box 102"/>
            <p:cNvSpPr/>
            <p:nvPr/>
          </p:nvSpPr>
          <p:spPr>
            <a:xfrm>
              <a:off x="6510600" y="471132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7" name="Arc 118"/>
          <p:cNvSpPr/>
          <p:nvPr/>
        </p:nvSpPr>
        <p:spPr>
          <a:xfrm>
            <a:off x="1332000" y="2314440"/>
            <a:ext cx="244440" cy="822600"/>
          </a:xfrm>
          <a:custGeom>
            <a:avLst/>
            <a:gdLst/>
            <a:ahLst/>
            <a:rect l="l" t="t" r="r" b="b"/>
            <a:pathLst>
              <a:path fill="none" w="27308" h="43200">
                <a:moveTo>
                  <a:pt x="5708" y="0"/>
                </a:moveTo>
                <a:cubicBezTo>
                  <a:pt x="17637" y="0"/>
                  <a:pt x="27308" y="9670"/>
                  <a:pt x="27308" y="21600"/>
                </a:cubicBezTo>
                <a:cubicBezTo>
                  <a:pt x="27308" y="33529"/>
                  <a:pt x="17637" y="43200"/>
                  <a:pt x="5708" y="43200"/>
                </a:cubicBezTo>
                <a:cubicBezTo>
                  <a:pt x="3779" y="43200"/>
                  <a:pt x="1859" y="42941"/>
                  <a:pt x="-1" y="42432"/>
                </a:cubicBezTo>
              </a:path>
              <a:path stroke="0" w="27308" h="43200">
                <a:moveTo>
                  <a:pt x="5708" y="0"/>
                </a:moveTo>
                <a:cubicBezTo>
                  <a:pt x="17637" y="0"/>
                  <a:pt x="27308" y="9670"/>
                  <a:pt x="27308" y="21600"/>
                </a:cubicBezTo>
                <a:cubicBezTo>
                  <a:pt x="27308" y="33529"/>
                  <a:pt x="17637" y="43200"/>
                  <a:pt x="5708" y="43200"/>
                </a:cubicBezTo>
                <a:cubicBezTo>
                  <a:pt x="3779" y="43200"/>
                  <a:pt x="1859" y="42941"/>
                  <a:pt x="-1" y="42432"/>
                </a:cubicBezTo>
                <a:lnTo>
                  <a:pt x="5708" y="21600"/>
                </a:lnTo>
                <a:lnTo>
                  <a:pt x="5708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Arc 119"/>
          <p:cNvSpPr/>
          <p:nvPr/>
        </p:nvSpPr>
        <p:spPr>
          <a:xfrm rot="10800000">
            <a:off x="988560" y="2303280"/>
            <a:ext cx="257400" cy="833400"/>
          </a:xfrm>
          <a:custGeom>
            <a:avLst/>
            <a:gdLst/>
            <a:ahLst/>
            <a:rect l="l" t="t" r="r" b="b"/>
            <a:pathLst>
              <a:path fill="none" w="27308" h="43200">
                <a:moveTo>
                  <a:pt x="5708" y="0"/>
                </a:moveTo>
                <a:cubicBezTo>
                  <a:pt x="17637" y="0"/>
                  <a:pt x="27308" y="9670"/>
                  <a:pt x="27308" y="21600"/>
                </a:cubicBezTo>
                <a:cubicBezTo>
                  <a:pt x="27308" y="33529"/>
                  <a:pt x="17637" y="43200"/>
                  <a:pt x="5708" y="43200"/>
                </a:cubicBezTo>
                <a:cubicBezTo>
                  <a:pt x="3779" y="43200"/>
                  <a:pt x="1859" y="42941"/>
                  <a:pt x="-1" y="42432"/>
                </a:cubicBezTo>
              </a:path>
              <a:path stroke="0" w="27308" h="43200">
                <a:moveTo>
                  <a:pt x="5708" y="0"/>
                </a:moveTo>
                <a:cubicBezTo>
                  <a:pt x="17637" y="0"/>
                  <a:pt x="27308" y="9670"/>
                  <a:pt x="27308" y="21600"/>
                </a:cubicBezTo>
                <a:cubicBezTo>
                  <a:pt x="27308" y="33529"/>
                  <a:pt x="17637" y="43200"/>
                  <a:pt x="5708" y="43200"/>
                </a:cubicBezTo>
                <a:cubicBezTo>
                  <a:pt x="3779" y="43200"/>
                  <a:pt x="1859" y="42941"/>
                  <a:pt x="-1" y="42432"/>
                </a:cubicBezTo>
                <a:lnTo>
                  <a:pt x="5708" y="21600"/>
                </a:lnTo>
                <a:lnTo>
                  <a:pt x="5708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Arc 120"/>
          <p:cNvSpPr/>
          <p:nvPr/>
        </p:nvSpPr>
        <p:spPr>
          <a:xfrm>
            <a:off x="2419200" y="2303640"/>
            <a:ext cx="244800" cy="822240"/>
          </a:xfrm>
          <a:custGeom>
            <a:avLst/>
            <a:gdLst/>
            <a:ahLst/>
            <a:rect l="l" t="t" r="r" b="b"/>
            <a:pathLst>
              <a:path fill="none" w="27308" h="43200">
                <a:moveTo>
                  <a:pt x="5708" y="0"/>
                </a:moveTo>
                <a:cubicBezTo>
                  <a:pt x="17637" y="0"/>
                  <a:pt x="27308" y="9670"/>
                  <a:pt x="27308" y="21600"/>
                </a:cubicBezTo>
                <a:cubicBezTo>
                  <a:pt x="27308" y="33529"/>
                  <a:pt x="17637" y="43200"/>
                  <a:pt x="5708" y="43200"/>
                </a:cubicBezTo>
                <a:cubicBezTo>
                  <a:pt x="3779" y="43200"/>
                  <a:pt x="1859" y="42941"/>
                  <a:pt x="-1" y="42432"/>
                </a:cubicBezTo>
              </a:path>
              <a:path stroke="0" w="27308" h="43200">
                <a:moveTo>
                  <a:pt x="5708" y="0"/>
                </a:moveTo>
                <a:cubicBezTo>
                  <a:pt x="17637" y="0"/>
                  <a:pt x="27308" y="9670"/>
                  <a:pt x="27308" y="21600"/>
                </a:cubicBezTo>
                <a:cubicBezTo>
                  <a:pt x="27308" y="33529"/>
                  <a:pt x="17637" y="43200"/>
                  <a:pt x="5708" y="43200"/>
                </a:cubicBezTo>
                <a:cubicBezTo>
                  <a:pt x="3779" y="43200"/>
                  <a:pt x="1859" y="42941"/>
                  <a:pt x="-1" y="42432"/>
                </a:cubicBezTo>
                <a:lnTo>
                  <a:pt x="5708" y="21600"/>
                </a:lnTo>
                <a:lnTo>
                  <a:pt x="5708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rc 121"/>
          <p:cNvSpPr/>
          <p:nvPr/>
        </p:nvSpPr>
        <p:spPr>
          <a:xfrm rot="10800000">
            <a:off x="2076480" y="2292120"/>
            <a:ext cx="257040" cy="833400"/>
          </a:xfrm>
          <a:custGeom>
            <a:avLst/>
            <a:gdLst/>
            <a:ahLst/>
            <a:rect l="l" t="t" r="r" b="b"/>
            <a:pathLst>
              <a:path fill="none" w="27308" h="43200">
                <a:moveTo>
                  <a:pt x="5708" y="0"/>
                </a:moveTo>
                <a:cubicBezTo>
                  <a:pt x="17637" y="0"/>
                  <a:pt x="27308" y="9670"/>
                  <a:pt x="27308" y="21600"/>
                </a:cubicBezTo>
                <a:cubicBezTo>
                  <a:pt x="27308" y="33529"/>
                  <a:pt x="17637" y="43200"/>
                  <a:pt x="5708" y="43200"/>
                </a:cubicBezTo>
                <a:cubicBezTo>
                  <a:pt x="3779" y="43200"/>
                  <a:pt x="1859" y="42941"/>
                  <a:pt x="-1" y="42432"/>
                </a:cubicBezTo>
              </a:path>
              <a:path stroke="0" w="27308" h="43200">
                <a:moveTo>
                  <a:pt x="5708" y="0"/>
                </a:moveTo>
                <a:cubicBezTo>
                  <a:pt x="17637" y="0"/>
                  <a:pt x="27308" y="9670"/>
                  <a:pt x="27308" y="21600"/>
                </a:cubicBezTo>
                <a:cubicBezTo>
                  <a:pt x="27308" y="33529"/>
                  <a:pt x="17637" y="43200"/>
                  <a:pt x="5708" y="43200"/>
                </a:cubicBezTo>
                <a:cubicBezTo>
                  <a:pt x="3779" y="43200"/>
                  <a:pt x="1859" y="42941"/>
                  <a:pt x="-1" y="42432"/>
                </a:cubicBezTo>
                <a:lnTo>
                  <a:pt x="5708" y="21600"/>
                </a:lnTo>
                <a:lnTo>
                  <a:pt x="5708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Arc 122"/>
          <p:cNvSpPr/>
          <p:nvPr/>
        </p:nvSpPr>
        <p:spPr>
          <a:xfrm>
            <a:off x="3508200" y="2292480"/>
            <a:ext cx="244800" cy="822240"/>
          </a:xfrm>
          <a:custGeom>
            <a:avLst/>
            <a:gdLst/>
            <a:ahLst/>
            <a:rect l="l" t="t" r="r" b="b"/>
            <a:pathLst>
              <a:path fill="none" w="27308" h="43200">
                <a:moveTo>
                  <a:pt x="5708" y="0"/>
                </a:moveTo>
                <a:cubicBezTo>
                  <a:pt x="17637" y="0"/>
                  <a:pt x="27308" y="9670"/>
                  <a:pt x="27308" y="21600"/>
                </a:cubicBezTo>
                <a:cubicBezTo>
                  <a:pt x="27308" y="33529"/>
                  <a:pt x="17637" y="43200"/>
                  <a:pt x="5708" y="43200"/>
                </a:cubicBezTo>
                <a:cubicBezTo>
                  <a:pt x="3779" y="43200"/>
                  <a:pt x="1859" y="42941"/>
                  <a:pt x="-1" y="42432"/>
                </a:cubicBezTo>
              </a:path>
              <a:path stroke="0" w="27308" h="43200">
                <a:moveTo>
                  <a:pt x="5708" y="0"/>
                </a:moveTo>
                <a:cubicBezTo>
                  <a:pt x="17637" y="0"/>
                  <a:pt x="27308" y="9670"/>
                  <a:pt x="27308" y="21600"/>
                </a:cubicBezTo>
                <a:cubicBezTo>
                  <a:pt x="27308" y="33529"/>
                  <a:pt x="17637" y="43200"/>
                  <a:pt x="5708" y="43200"/>
                </a:cubicBezTo>
                <a:cubicBezTo>
                  <a:pt x="3779" y="43200"/>
                  <a:pt x="1859" y="42941"/>
                  <a:pt x="-1" y="42432"/>
                </a:cubicBezTo>
                <a:lnTo>
                  <a:pt x="5708" y="21600"/>
                </a:lnTo>
                <a:lnTo>
                  <a:pt x="5708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Arc 123"/>
          <p:cNvSpPr/>
          <p:nvPr/>
        </p:nvSpPr>
        <p:spPr>
          <a:xfrm rot="10800000">
            <a:off x="3165480" y="2280960"/>
            <a:ext cx="257040" cy="833400"/>
          </a:xfrm>
          <a:custGeom>
            <a:avLst/>
            <a:gdLst/>
            <a:ahLst/>
            <a:rect l="l" t="t" r="r" b="b"/>
            <a:pathLst>
              <a:path fill="none" w="27308" h="43200">
                <a:moveTo>
                  <a:pt x="5708" y="0"/>
                </a:moveTo>
                <a:cubicBezTo>
                  <a:pt x="17637" y="0"/>
                  <a:pt x="27308" y="9670"/>
                  <a:pt x="27308" y="21600"/>
                </a:cubicBezTo>
                <a:cubicBezTo>
                  <a:pt x="27308" y="33529"/>
                  <a:pt x="17637" y="43200"/>
                  <a:pt x="5708" y="43200"/>
                </a:cubicBezTo>
                <a:cubicBezTo>
                  <a:pt x="3779" y="43200"/>
                  <a:pt x="1859" y="42941"/>
                  <a:pt x="-1" y="42432"/>
                </a:cubicBezTo>
              </a:path>
              <a:path stroke="0" w="27308" h="43200">
                <a:moveTo>
                  <a:pt x="5708" y="0"/>
                </a:moveTo>
                <a:cubicBezTo>
                  <a:pt x="17637" y="0"/>
                  <a:pt x="27308" y="9670"/>
                  <a:pt x="27308" y="21600"/>
                </a:cubicBezTo>
                <a:cubicBezTo>
                  <a:pt x="27308" y="33529"/>
                  <a:pt x="17637" y="43200"/>
                  <a:pt x="5708" y="43200"/>
                </a:cubicBezTo>
                <a:cubicBezTo>
                  <a:pt x="3779" y="43200"/>
                  <a:pt x="1859" y="42941"/>
                  <a:pt x="-1" y="42432"/>
                </a:cubicBezTo>
                <a:lnTo>
                  <a:pt x="5708" y="21600"/>
                </a:lnTo>
                <a:lnTo>
                  <a:pt x="5708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Arc 124"/>
          <p:cNvSpPr/>
          <p:nvPr/>
        </p:nvSpPr>
        <p:spPr>
          <a:xfrm>
            <a:off x="4597560" y="2292480"/>
            <a:ext cx="244440" cy="822240"/>
          </a:xfrm>
          <a:custGeom>
            <a:avLst/>
            <a:gdLst/>
            <a:ahLst/>
            <a:rect l="l" t="t" r="r" b="b"/>
            <a:pathLst>
              <a:path fill="none" w="27308" h="43200">
                <a:moveTo>
                  <a:pt x="5708" y="0"/>
                </a:moveTo>
                <a:cubicBezTo>
                  <a:pt x="17637" y="0"/>
                  <a:pt x="27308" y="9670"/>
                  <a:pt x="27308" y="21600"/>
                </a:cubicBezTo>
                <a:cubicBezTo>
                  <a:pt x="27308" y="33529"/>
                  <a:pt x="17637" y="43200"/>
                  <a:pt x="5708" y="43200"/>
                </a:cubicBezTo>
                <a:cubicBezTo>
                  <a:pt x="3779" y="43200"/>
                  <a:pt x="1859" y="42941"/>
                  <a:pt x="-1" y="42432"/>
                </a:cubicBezTo>
              </a:path>
              <a:path stroke="0" w="27308" h="43200">
                <a:moveTo>
                  <a:pt x="5708" y="0"/>
                </a:moveTo>
                <a:cubicBezTo>
                  <a:pt x="17637" y="0"/>
                  <a:pt x="27308" y="9670"/>
                  <a:pt x="27308" y="21600"/>
                </a:cubicBezTo>
                <a:cubicBezTo>
                  <a:pt x="27308" y="33529"/>
                  <a:pt x="17637" y="43200"/>
                  <a:pt x="5708" y="43200"/>
                </a:cubicBezTo>
                <a:cubicBezTo>
                  <a:pt x="3779" y="43200"/>
                  <a:pt x="1859" y="42941"/>
                  <a:pt x="-1" y="42432"/>
                </a:cubicBezTo>
                <a:lnTo>
                  <a:pt x="5708" y="21600"/>
                </a:lnTo>
                <a:lnTo>
                  <a:pt x="5708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Arc 125"/>
          <p:cNvSpPr/>
          <p:nvPr/>
        </p:nvSpPr>
        <p:spPr>
          <a:xfrm rot="10800000">
            <a:off x="4254480" y="2280960"/>
            <a:ext cx="257040" cy="833400"/>
          </a:xfrm>
          <a:custGeom>
            <a:avLst/>
            <a:gdLst/>
            <a:ahLst/>
            <a:rect l="l" t="t" r="r" b="b"/>
            <a:pathLst>
              <a:path fill="none" w="27308" h="43200">
                <a:moveTo>
                  <a:pt x="5708" y="0"/>
                </a:moveTo>
                <a:cubicBezTo>
                  <a:pt x="17637" y="0"/>
                  <a:pt x="27308" y="9670"/>
                  <a:pt x="27308" y="21600"/>
                </a:cubicBezTo>
                <a:cubicBezTo>
                  <a:pt x="27308" y="33529"/>
                  <a:pt x="17637" y="43200"/>
                  <a:pt x="5708" y="43200"/>
                </a:cubicBezTo>
                <a:cubicBezTo>
                  <a:pt x="3779" y="43200"/>
                  <a:pt x="1859" y="42941"/>
                  <a:pt x="-1" y="42432"/>
                </a:cubicBezTo>
              </a:path>
              <a:path stroke="0" w="27308" h="43200">
                <a:moveTo>
                  <a:pt x="5708" y="0"/>
                </a:moveTo>
                <a:cubicBezTo>
                  <a:pt x="17637" y="0"/>
                  <a:pt x="27308" y="9670"/>
                  <a:pt x="27308" y="21600"/>
                </a:cubicBezTo>
                <a:cubicBezTo>
                  <a:pt x="27308" y="33529"/>
                  <a:pt x="17637" y="43200"/>
                  <a:pt x="5708" y="43200"/>
                </a:cubicBezTo>
                <a:cubicBezTo>
                  <a:pt x="3779" y="43200"/>
                  <a:pt x="1859" y="42941"/>
                  <a:pt x="-1" y="42432"/>
                </a:cubicBezTo>
                <a:lnTo>
                  <a:pt x="5708" y="21600"/>
                </a:lnTo>
                <a:lnTo>
                  <a:pt x="5708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Arc 126"/>
          <p:cNvSpPr/>
          <p:nvPr/>
        </p:nvSpPr>
        <p:spPr>
          <a:xfrm>
            <a:off x="5684760" y="2292480"/>
            <a:ext cx="244440" cy="822240"/>
          </a:xfrm>
          <a:custGeom>
            <a:avLst/>
            <a:gdLst/>
            <a:ahLst/>
            <a:rect l="l" t="t" r="r" b="b"/>
            <a:pathLst>
              <a:path fill="none" w="27308" h="43200">
                <a:moveTo>
                  <a:pt x="5708" y="0"/>
                </a:moveTo>
                <a:cubicBezTo>
                  <a:pt x="17637" y="0"/>
                  <a:pt x="27308" y="9670"/>
                  <a:pt x="27308" y="21600"/>
                </a:cubicBezTo>
                <a:cubicBezTo>
                  <a:pt x="27308" y="33529"/>
                  <a:pt x="17637" y="43200"/>
                  <a:pt x="5708" y="43200"/>
                </a:cubicBezTo>
                <a:cubicBezTo>
                  <a:pt x="3779" y="43200"/>
                  <a:pt x="1859" y="42941"/>
                  <a:pt x="-1" y="42432"/>
                </a:cubicBezTo>
              </a:path>
              <a:path stroke="0" w="27308" h="43200">
                <a:moveTo>
                  <a:pt x="5708" y="0"/>
                </a:moveTo>
                <a:cubicBezTo>
                  <a:pt x="17637" y="0"/>
                  <a:pt x="27308" y="9670"/>
                  <a:pt x="27308" y="21600"/>
                </a:cubicBezTo>
                <a:cubicBezTo>
                  <a:pt x="27308" y="33529"/>
                  <a:pt x="17637" y="43200"/>
                  <a:pt x="5708" y="43200"/>
                </a:cubicBezTo>
                <a:cubicBezTo>
                  <a:pt x="3779" y="43200"/>
                  <a:pt x="1859" y="42941"/>
                  <a:pt x="-1" y="42432"/>
                </a:cubicBezTo>
                <a:lnTo>
                  <a:pt x="5708" y="21600"/>
                </a:lnTo>
                <a:lnTo>
                  <a:pt x="5708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rc 127"/>
          <p:cNvSpPr/>
          <p:nvPr/>
        </p:nvSpPr>
        <p:spPr>
          <a:xfrm rot="10800000">
            <a:off x="5342040" y="2280960"/>
            <a:ext cx="257040" cy="833400"/>
          </a:xfrm>
          <a:custGeom>
            <a:avLst/>
            <a:gdLst/>
            <a:ahLst/>
            <a:rect l="l" t="t" r="r" b="b"/>
            <a:pathLst>
              <a:path fill="none" w="27308" h="43200">
                <a:moveTo>
                  <a:pt x="5708" y="0"/>
                </a:moveTo>
                <a:cubicBezTo>
                  <a:pt x="17637" y="0"/>
                  <a:pt x="27308" y="9670"/>
                  <a:pt x="27308" y="21600"/>
                </a:cubicBezTo>
                <a:cubicBezTo>
                  <a:pt x="27308" y="33529"/>
                  <a:pt x="17637" y="43200"/>
                  <a:pt x="5708" y="43200"/>
                </a:cubicBezTo>
                <a:cubicBezTo>
                  <a:pt x="3779" y="43200"/>
                  <a:pt x="1859" y="42941"/>
                  <a:pt x="-1" y="42432"/>
                </a:cubicBezTo>
              </a:path>
              <a:path stroke="0" w="27308" h="43200">
                <a:moveTo>
                  <a:pt x="5708" y="0"/>
                </a:moveTo>
                <a:cubicBezTo>
                  <a:pt x="17637" y="0"/>
                  <a:pt x="27308" y="9670"/>
                  <a:pt x="27308" y="21600"/>
                </a:cubicBezTo>
                <a:cubicBezTo>
                  <a:pt x="27308" y="33529"/>
                  <a:pt x="17637" y="43200"/>
                  <a:pt x="5708" y="43200"/>
                </a:cubicBezTo>
                <a:cubicBezTo>
                  <a:pt x="3779" y="43200"/>
                  <a:pt x="1859" y="42941"/>
                  <a:pt x="-1" y="42432"/>
                </a:cubicBezTo>
                <a:lnTo>
                  <a:pt x="5708" y="21600"/>
                </a:lnTo>
                <a:lnTo>
                  <a:pt x="5708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Arc 128"/>
          <p:cNvSpPr/>
          <p:nvPr/>
        </p:nvSpPr>
        <p:spPr>
          <a:xfrm>
            <a:off x="6773760" y="2314440"/>
            <a:ext cx="244440" cy="822600"/>
          </a:xfrm>
          <a:custGeom>
            <a:avLst/>
            <a:gdLst/>
            <a:ahLst/>
            <a:rect l="l" t="t" r="r" b="b"/>
            <a:pathLst>
              <a:path fill="none" w="27308" h="43200">
                <a:moveTo>
                  <a:pt x="5708" y="0"/>
                </a:moveTo>
                <a:cubicBezTo>
                  <a:pt x="17637" y="0"/>
                  <a:pt x="27308" y="9670"/>
                  <a:pt x="27308" y="21600"/>
                </a:cubicBezTo>
                <a:cubicBezTo>
                  <a:pt x="27308" y="33529"/>
                  <a:pt x="17637" y="43200"/>
                  <a:pt x="5708" y="43200"/>
                </a:cubicBezTo>
                <a:cubicBezTo>
                  <a:pt x="3779" y="43200"/>
                  <a:pt x="1859" y="42941"/>
                  <a:pt x="-1" y="42432"/>
                </a:cubicBezTo>
              </a:path>
              <a:path stroke="0" w="27308" h="43200">
                <a:moveTo>
                  <a:pt x="5708" y="0"/>
                </a:moveTo>
                <a:cubicBezTo>
                  <a:pt x="17637" y="0"/>
                  <a:pt x="27308" y="9670"/>
                  <a:pt x="27308" y="21600"/>
                </a:cubicBezTo>
                <a:cubicBezTo>
                  <a:pt x="27308" y="33529"/>
                  <a:pt x="17637" y="43200"/>
                  <a:pt x="5708" y="43200"/>
                </a:cubicBezTo>
                <a:cubicBezTo>
                  <a:pt x="3779" y="43200"/>
                  <a:pt x="1859" y="42941"/>
                  <a:pt x="-1" y="42432"/>
                </a:cubicBezTo>
                <a:lnTo>
                  <a:pt x="5708" y="21600"/>
                </a:lnTo>
                <a:lnTo>
                  <a:pt x="5708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rc 129"/>
          <p:cNvSpPr/>
          <p:nvPr/>
        </p:nvSpPr>
        <p:spPr>
          <a:xfrm rot="10800000">
            <a:off x="6431040" y="2303280"/>
            <a:ext cx="257040" cy="833400"/>
          </a:xfrm>
          <a:custGeom>
            <a:avLst/>
            <a:gdLst/>
            <a:ahLst/>
            <a:rect l="l" t="t" r="r" b="b"/>
            <a:pathLst>
              <a:path fill="none" w="27308" h="43200">
                <a:moveTo>
                  <a:pt x="5708" y="0"/>
                </a:moveTo>
                <a:cubicBezTo>
                  <a:pt x="17637" y="0"/>
                  <a:pt x="27308" y="9670"/>
                  <a:pt x="27308" y="21600"/>
                </a:cubicBezTo>
                <a:cubicBezTo>
                  <a:pt x="27308" y="33529"/>
                  <a:pt x="17637" y="43200"/>
                  <a:pt x="5708" y="43200"/>
                </a:cubicBezTo>
                <a:cubicBezTo>
                  <a:pt x="3779" y="43200"/>
                  <a:pt x="1859" y="42941"/>
                  <a:pt x="-1" y="42432"/>
                </a:cubicBezTo>
              </a:path>
              <a:path stroke="0" w="27308" h="43200">
                <a:moveTo>
                  <a:pt x="5708" y="0"/>
                </a:moveTo>
                <a:cubicBezTo>
                  <a:pt x="17637" y="0"/>
                  <a:pt x="27308" y="9670"/>
                  <a:pt x="27308" y="21600"/>
                </a:cubicBezTo>
                <a:cubicBezTo>
                  <a:pt x="27308" y="33529"/>
                  <a:pt x="17637" y="43200"/>
                  <a:pt x="5708" y="43200"/>
                </a:cubicBezTo>
                <a:cubicBezTo>
                  <a:pt x="3779" y="43200"/>
                  <a:pt x="1859" y="42941"/>
                  <a:pt x="-1" y="42432"/>
                </a:cubicBezTo>
                <a:lnTo>
                  <a:pt x="5708" y="21600"/>
                </a:lnTo>
                <a:lnTo>
                  <a:pt x="5708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Arc 132"/>
          <p:cNvSpPr/>
          <p:nvPr/>
        </p:nvSpPr>
        <p:spPr>
          <a:xfrm>
            <a:off x="7862760" y="2325600"/>
            <a:ext cx="244440" cy="822240"/>
          </a:xfrm>
          <a:custGeom>
            <a:avLst/>
            <a:gdLst/>
            <a:ahLst/>
            <a:rect l="l" t="t" r="r" b="b"/>
            <a:pathLst>
              <a:path fill="none" w="27308" h="43200">
                <a:moveTo>
                  <a:pt x="5708" y="0"/>
                </a:moveTo>
                <a:cubicBezTo>
                  <a:pt x="17637" y="0"/>
                  <a:pt x="27308" y="9670"/>
                  <a:pt x="27308" y="21600"/>
                </a:cubicBezTo>
                <a:cubicBezTo>
                  <a:pt x="27308" y="33529"/>
                  <a:pt x="17637" y="43200"/>
                  <a:pt x="5708" y="43200"/>
                </a:cubicBezTo>
                <a:cubicBezTo>
                  <a:pt x="3779" y="43200"/>
                  <a:pt x="1859" y="42941"/>
                  <a:pt x="-1" y="42432"/>
                </a:cubicBezTo>
              </a:path>
              <a:path stroke="0" w="27308" h="43200">
                <a:moveTo>
                  <a:pt x="5708" y="0"/>
                </a:moveTo>
                <a:cubicBezTo>
                  <a:pt x="17637" y="0"/>
                  <a:pt x="27308" y="9670"/>
                  <a:pt x="27308" y="21600"/>
                </a:cubicBezTo>
                <a:cubicBezTo>
                  <a:pt x="27308" y="33529"/>
                  <a:pt x="17637" y="43200"/>
                  <a:pt x="5708" y="43200"/>
                </a:cubicBezTo>
                <a:cubicBezTo>
                  <a:pt x="3779" y="43200"/>
                  <a:pt x="1859" y="42941"/>
                  <a:pt x="-1" y="42432"/>
                </a:cubicBezTo>
                <a:lnTo>
                  <a:pt x="5708" y="21600"/>
                </a:lnTo>
                <a:lnTo>
                  <a:pt x="5708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Arc 133"/>
          <p:cNvSpPr/>
          <p:nvPr/>
        </p:nvSpPr>
        <p:spPr>
          <a:xfrm rot="10800000">
            <a:off x="7520040" y="2314080"/>
            <a:ext cx="257040" cy="833400"/>
          </a:xfrm>
          <a:custGeom>
            <a:avLst/>
            <a:gdLst/>
            <a:ahLst/>
            <a:rect l="l" t="t" r="r" b="b"/>
            <a:pathLst>
              <a:path fill="none" w="27308" h="43200">
                <a:moveTo>
                  <a:pt x="5708" y="0"/>
                </a:moveTo>
                <a:cubicBezTo>
                  <a:pt x="17637" y="0"/>
                  <a:pt x="27308" y="9670"/>
                  <a:pt x="27308" y="21600"/>
                </a:cubicBezTo>
                <a:cubicBezTo>
                  <a:pt x="27308" y="33529"/>
                  <a:pt x="17637" y="43200"/>
                  <a:pt x="5708" y="43200"/>
                </a:cubicBezTo>
                <a:cubicBezTo>
                  <a:pt x="3779" y="43200"/>
                  <a:pt x="1859" y="42941"/>
                  <a:pt x="-1" y="42432"/>
                </a:cubicBezTo>
              </a:path>
              <a:path stroke="0" w="27308" h="43200">
                <a:moveTo>
                  <a:pt x="5708" y="0"/>
                </a:moveTo>
                <a:cubicBezTo>
                  <a:pt x="17637" y="0"/>
                  <a:pt x="27308" y="9670"/>
                  <a:pt x="27308" y="21600"/>
                </a:cubicBezTo>
                <a:cubicBezTo>
                  <a:pt x="27308" y="33529"/>
                  <a:pt x="17637" y="43200"/>
                  <a:pt x="5708" y="43200"/>
                </a:cubicBezTo>
                <a:cubicBezTo>
                  <a:pt x="3779" y="43200"/>
                  <a:pt x="1859" y="42941"/>
                  <a:pt x="-1" y="42432"/>
                </a:cubicBezTo>
                <a:lnTo>
                  <a:pt x="5708" y="21600"/>
                </a:lnTo>
                <a:lnTo>
                  <a:pt x="5708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1" name="AutoShape 135"/>
          <p:cNvCxnSpPr>
            <a:stCxn id="549" idx="0"/>
            <a:endCxn id="570" idx="2"/>
          </p:cNvCxnSpPr>
          <p:nvPr/>
        </p:nvCxnSpPr>
        <p:spPr>
          <a:xfrm flipV="1">
            <a:off x="1260000" y="5285880"/>
            <a:ext cx="1088280" cy="54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2" name="AutoShape 136"/>
          <p:cNvCxnSpPr>
            <a:stCxn id="546" idx="2"/>
            <a:endCxn id="549" idx="0"/>
          </p:cNvCxnSpPr>
          <p:nvPr/>
        </p:nvCxnSpPr>
        <p:spPr>
          <a:xfrm>
            <a:off x="1260000" y="5286240"/>
            <a:ext cx="1080" cy="54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3" name="AutoShape 137"/>
          <p:cNvCxnSpPr/>
          <p:nvPr/>
        </p:nvCxnSpPr>
        <p:spPr>
          <a:xfrm flipV="1">
            <a:off x="2347560" y="5285880"/>
            <a:ext cx="1088280" cy="54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4" name="AutoShape 138"/>
          <p:cNvCxnSpPr/>
          <p:nvPr/>
        </p:nvCxnSpPr>
        <p:spPr>
          <a:xfrm>
            <a:off x="2347560" y="5286240"/>
            <a:ext cx="1080" cy="54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5" name="AutoShape 139"/>
          <p:cNvCxnSpPr/>
          <p:nvPr/>
        </p:nvCxnSpPr>
        <p:spPr>
          <a:xfrm flipV="1">
            <a:off x="3435480" y="5285880"/>
            <a:ext cx="1087920" cy="54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6" name="AutoShape 140"/>
          <p:cNvCxnSpPr/>
          <p:nvPr/>
        </p:nvCxnSpPr>
        <p:spPr>
          <a:xfrm>
            <a:off x="3435120" y="5286240"/>
            <a:ext cx="1080" cy="54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7" name="AutoShape 141"/>
          <p:cNvCxnSpPr/>
          <p:nvPr/>
        </p:nvCxnSpPr>
        <p:spPr>
          <a:xfrm flipV="1">
            <a:off x="4522320" y="5285880"/>
            <a:ext cx="1088280" cy="54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8" name="AutoShape 142"/>
          <p:cNvCxnSpPr/>
          <p:nvPr/>
        </p:nvCxnSpPr>
        <p:spPr>
          <a:xfrm>
            <a:off x="4522320" y="5286240"/>
            <a:ext cx="1080" cy="54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9" name="AutoShape 143"/>
          <p:cNvCxnSpPr/>
          <p:nvPr/>
        </p:nvCxnSpPr>
        <p:spPr>
          <a:xfrm flipV="1">
            <a:off x="5609880" y="5285880"/>
            <a:ext cx="1088280" cy="54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0" name="AutoShape 144"/>
          <p:cNvCxnSpPr/>
          <p:nvPr/>
        </p:nvCxnSpPr>
        <p:spPr>
          <a:xfrm>
            <a:off x="5609880" y="5286240"/>
            <a:ext cx="1080" cy="54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1" name="AutoShape 145"/>
          <p:cNvCxnSpPr/>
          <p:nvPr/>
        </p:nvCxnSpPr>
        <p:spPr>
          <a:xfrm flipV="1">
            <a:off x="6697800" y="5285880"/>
            <a:ext cx="1087920" cy="54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2" name="AutoShape 146"/>
          <p:cNvCxnSpPr/>
          <p:nvPr/>
        </p:nvCxnSpPr>
        <p:spPr>
          <a:xfrm>
            <a:off x="6697440" y="5286240"/>
            <a:ext cx="1080" cy="54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AutoShape 133"/>
          <p:cNvSpPr/>
          <p:nvPr/>
        </p:nvSpPr>
        <p:spPr>
          <a:xfrm>
            <a:off x="976320" y="1066680"/>
            <a:ext cx="609480" cy="609840"/>
          </a:xfrm>
          <a:prstGeom prst="sun">
            <a:avLst>
              <a:gd name="adj" fmla="val 25000"/>
            </a:avLst>
          </a:prstGeom>
          <a:solidFill>
            <a:srgbClr val="faf138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" name="Group 134"/>
          <p:cNvGrpSpPr/>
          <p:nvPr/>
        </p:nvGrpSpPr>
        <p:grpSpPr>
          <a:xfrm>
            <a:off x="539280" y="1427040"/>
            <a:ext cx="2090160" cy="1971360"/>
            <a:chOff x="539280" y="1427040"/>
            <a:chExt cx="2090160" cy="1971360"/>
          </a:xfrm>
        </p:grpSpPr>
        <p:sp>
          <p:nvSpPr>
            <p:cNvPr id="615" name="Rectangle 135"/>
            <p:cNvSpPr/>
            <p:nvPr/>
          </p:nvSpPr>
          <p:spPr>
            <a:xfrm rot="2875200">
              <a:off x="1555560" y="1385640"/>
              <a:ext cx="269640" cy="2286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136"/>
            <p:cNvSpPr/>
            <p:nvPr/>
          </p:nvSpPr>
          <p:spPr>
            <a:xfrm rot="2875200">
              <a:off x="1531800" y="1290240"/>
              <a:ext cx="117360" cy="2286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137"/>
            <p:cNvSpPr/>
            <p:nvPr/>
          </p:nvSpPr>
          <p:spPr>
            <a:xfrm rot="2875200">
              <a:off x="1307880" y="1279440"/>
              <a:ext cx="565200" cy="2286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138"/>
            <p:cNvSpPr/>
            <p:nvPr/>
          </p:nvSpPr>
          <p:spPr>
            <a:xfrm rot="2875200">
              <a:off x="1368000" y="1093320"/>
              <a:ext cx="117360" cy="22860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9" name="Text Box 139"/>
          <p:cNvSpPr/>
          <p:nvPr/>
        </p:nvSpPr>
        <p:spPr>
          <a:xfrm>
            <a:off x="1586520" y="2517840"/>
            <a:ext cx="9824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a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140"/>
          <p:cNvSpPr/>
          <p:nvPr/>
        </p:nvSpPr>
        <p:spPr>
          <a:xfrm>
            <a:off x="841680" y="1634760"/>
            <a:ext cx="675720" cy="7484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141"/>
          <p:cNvSpPr/>
          <p:nvPr/>
        </p:nvSpPr>
        <p:spPr>
          <a:xfrm flipH="1" flipV="1">
            <a:off x="974160" y="2149200"/>
            <a:ext cx="398160" cy="640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Plant network constituent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7"/>
          <p:cNvSpPr/>
          <p:nvPr/>
        </p:nvSpPr>
        <p:spPr>
          <a:xfrm>
            <a:off x="3619440" y="3943440"/>
            <a:ext cx="1486080" cy="222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8"/>
          <p:cNvSpPr/>
          <p:nvPr/>
        </p:nvSpPr>
        <p:spPr>
          <a:xfrm>
            <a:off x="3376440" y="5138640"/>
            <a:ext cx="1506600" cy="619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Oval 9"/>
          <p:cNvSpPr/>
          <p:nvPr/>
        </p:nvSpPr>
        <p:spPr>
          <a:xfrm>
            <a:off x="4853160" y="5138640"/>
            <a:ext cx="61920" cy="61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6" name="Group 10"/>
          <p:cNvGrpSpPr/>
          <p:nvPr/>
        </p:nvGrpSpPr>
        <p:grpSpPr>
          <a:xfrm>
            <a:off x="3800160" y="5137200"/>
            <a:ext cx="1123200" cy="718560"/>
            <a:chOff x="3800160" y="5137200"/>
            <a:chExt cx="1123200" cy="718560"/>
          </a:xfrm>
        </p:grpSpPr>
        <p:grpSp>
          <p:nvGrpSpPr>
            <p:cNvPr id="627" name="Group 11"/>
            <p:cNvGrpSpPr/>
            <p:nvPr/>
          </p:nvGrpSpPr>
          <p:grpSpPr>
            <a:xfrm>
              <a:off x="3800160" y="5137200"/>
              <a:ext cx="1115640" cy="227160"/>
              <a:chOff x="3800160" y="5137200"/>
              <a:chExt cx="1115640" cy="227160"/>
            </a:xfrm>
          </p:grpSpPr>
          <p:grpSp>
            <p:nvGrpSpPr>
              <p:cNvPr id="628" name="Group 12"/>
              <p:cNvGrpSpPr/>
              <p:nvPr/>
            </p:nvGrpSpPr>
            <p:grpSpPr>
              <a:xfrm>
                <a:off x="3801600" y="5137200"/>
                <a:ext cx="1114200" cy="147240"/>
                <a:chOff x="3801600" y="5137200"/>
                <a:chExt cx="1114200" cy="147240"/>
              </a:xfrm>
            </p:grpSpPr>
            <p:sp>
              <p:nvSpPr>
                <p:cNvPr id="629" name="Rectangle 13"/>
                <p:cNvSpPr/>
                <p:nvPr/>
              </p:nvSpPr>
              <p:spPr>
                <a:xfrm flipH="1" rot="21334800">
                  <a:off x="3832560" y="5180040"/>
                  <a:ext cx="1051560" cy="615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" name="Oval 14"/>
                <p:cNvSpPr/>
                <p:nvPr/>
              </p:nvSpPr>
              <p:spPr>
                <a:xfrm flipH="1" rot="21334800">
                  <a:off x="4851360" y="51393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Oval 15"/>
                <p:cNvSpPr/>
                <p:nvPr/>
              </p:nvSpPr>
              <p:spPr>
                <a:xfrm flipH="1" rot="21334800">
                  <a:off x="3803040" y="52203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2" name="Group 16"/>
              <p:cNvGrpSpPr/>
              <p:nvPr/>
            </p:nvGrpSpPr>
            <p:grpSpPr>
              <a:xfrm>
                <a:off x="3800160" y="5217480"/>
                <a:ext cx="1113840" cy="146880"/>
                <a:chOff x="3800160" y="5217480"/>
                <a:chExt cx="1113840" cy="146880"/>
              </a:xfrm>
            </p:grpSpPr>
            <p:sp>
              <p:nvSpPr>
                <p:cNvPr id="633" name="Rectangle 17"/>
                <p:cNvSpPr/>
                <p:nvPr/>
              </p:nvSpPr>
              <p:spPr>
                <a:xfrm flipH="1" rot="265800">
                  <a:off x="3831120" y="5259240"/>
                  <a:ext cx="1051200" cy="6120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" name="Oval 18"/>
                <p:cNvSpPr/>
                <p:nvPr/>
              </p:nvSpPr>
              <p:spPr>
                <a:xfrm flipH="1" flipV="1" rot="265200">
                  <a:off x="4849920" y="53002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Oval 19"/>
                <p:cNvSpPr/>
                <p:nvPr/>
              </p:nvSpPr>
              <p:spPr>
                <a:xfrm flipH="1" flipV="1" rot="265200">
                  <a:off x="3802320" y="52192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36" name="Group 20"/>
            <p:cNvGrpSpPr/>
            <p:nvPr/>
          </p:nvGrpSpPr>
          <p:grpSpPr>
            <a:xfrm>
              <a:off x="3803040" y="5301000"/>
              <a:ext cx="1115640" cy="227160"/>
              <a:chOff x="3803040" y="5301000"/>
              <a:chExt cx="1115640" cy="227160"/>
            </a:xfrm>
          </p:grpSpPr>
          <p:grpSp>
            <p:nvGrpSpPr>
              <p:cNvPr id="637" name="Group 21"/>
              <p:cNvGrpSpPr/>
              <p:nvPr/>
            </p:nvGrpSpPr>
            <p:grpSpPr>
              <a:xfrm>
                <a:off x="3804480" y="5301000"/>
                <a:ext cx="1114200" cy="147240"/>
                <a:chOff x="3804480" y="5301000"/>
                <a:chExt cx="1114200" cy="147240"/>
              </a:xfrm>
            </p:grpSpPr>
            <p:sp>
              <p:nvSpPr>
                <p:cNvPr id="638" name="Rectangle 22"/>
                <p:cNvSpPr/>
                <p:nvPr/>
              </p:nvSpPr>
              <p:spPr>
                <a:xfrm flipH="1" rot="21334800">
                  <a:off x="3835440" y="5343840"/>
                  <a:ext cx="1051560" cy="615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Oval 23"/>
                <p:cNvSpPr/>
                <p:nvPr/>
              </p:nvSpPr>
              <p:spPr>
                <a:xfrm flipH="1" rot="21334800">
                  <a:off x="4854240" y="53031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Oval 24"/>
                <p:cNvSpPr/>
                <p:nvPr/>
              </p:nvSpPr>
              <p:spPr>
                <a:xfrm flipH="1" rot="21334800">
                  <a:off x="3805920" y="53841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1" name="Group 25"/>
              <p:cNvGrpSpPr/>
              <p:nvPr/>
            </p:nvGrpSpPr>
            <p:grpSpPr>
              <a:xfrm>
                <a:off x="3803040" y="5381280"/>
                <a:ext cx="1113840" cy="146880"/>
                <a:chOff x="3803040" y="5381280"/>
                <a:chExt cx="1113840" cy="146880"/>
              </a:xfrm>
            </p:grpSpPr>
            <p:sp>
              <p:nvSpPr>
                <p:cNvPr id="642" name="Rectangle 26"/>
                <p:cNvSpPr/>
                <p:nvPr/>
              </p:nvSpPr>
              <p:spPr>
                <a:xfrm flipH="1" rot="265800">
                  <a:off x="3834000" y="5423040"/>
                  <a:ext cx="1051200" cy="6120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Oval 27"/>
                <p:cNvSpPr/>
                <p:nvPr/>
              </p:nvSpPr>
              <p:spPr>
                <a:xfrm flipH="1" flipV="1" rot="265200">
                  <a:off x="4852800" y="54640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Oval 28"/>
                <p:cNvSpPr/>
                <p:nvPr/>
              </p:nvSpPr>
              <p:spPr>
                <a:xfrm flipH="1" flipV="1" rot="265200">
                  <a:off x="3805200" y="53830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45" name="Group 29"/>
            <p:cNvGrpSpPr/>
            <p:nvPr/>
          </p:nvGrpSpPr>
          <p:grpSpPr>
            <a:xfrm>
              <a:off x="3805560" y="5464800"/>
              <a:ext cx="1115640" cy="227160"/>
              <a:chOff x="3805560" y="5464800"/>
              <a:chExt cx="1115640" cy="227160"/>
            </a:xfrm>
          </p:grpSpPr>
          <p:grpSp>
            <p:nvGrpSpPr>
              <p:cNvPr id="646" name="Group 30"/>
              <p:cNvGrpSpPr/>
              <p:nvPr/>
            </p:nvGrpSpPr>
            <p:grpSpPr>
              <a:xfrm>
                <a:off x="3807000" y="5464800"/>
                <a:ext cx="1114200" cy="147240"/>
                <a:chOff x="3807000" y="5464800"/>
                <a:chExt cx="1114200" cy="147240"/>
              </a:xfrm>
            </p:grpSpPr>
            <p:sp>
              <p:nvSpPr>
                <p:cNvPr id="647" name="Rectangle 31"/>
                <p:cNvSpPr/>
                <p:nvPr/>
              </p:nvSpPr>
              <p:spPr>
                <a:xfrm flipH="1" rot="21334800">
                  <a:off x="3837960" y="5507640"/>
                  <a:ext cx="1051560" cy="615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Oval 32"/>
                <p:cNvSpPr/>
                <p:nvPr/>
              </p:nvSpPr>
              <p:spPr>
                <a:xfrm flipH="1" rot="21334800">
                  <a:off x="4856760" y="54669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Oval 33"/>
                <p:cNvSpPr/>
                <p:nvPr/>
              </p:nvSpPr>
              <p:spPr>
                <a:xfrm flipH="1" rot="21334800">
                  <a:off x="3808440" y="55479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0" name="Group 34"/>
              <p:cNvGrpSpPr/>
              <p:nvPr/>
            </p:nvGrpSpPr>
            <p:grpSpPr>
              <a:xfrm>
                <a:off x="3805560" y="5545080"/>
                <a:ext cx="1113840" cy="146880"/>
                <a:chOff x="3805560" y="5545080"/>
                <a:chExt cx="1113840" cy="146880"/>
              </a:xfrm>
            </p:grpSpPr>
            <p:sp>
              <p:nvSpPr>
                <p:cNvPr id="651" name="Rectangle 35"/>
                <p:cNvSpPr/>
                <p:nvPr/>
              </p:nvSpPr>
              <p:spPr>
                <a:xfrm flipH="1" rot="265800">
                  <a:off x="3836520" y="5586840"/>
                  <a:ext cx="1051200" cy="6120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Oval 36"/>
                <p:cNvSpPr/>
                <p:nvPr/>
              </p:nvSpPr>
              <p:spPr>
                <a:xfrm flipH="1" flipV="1" rot="265200">
                  <a:off x="4855320" y="56278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Oval 37"/>
                <p:cNvSpPr/>
                <p:nvPr/>
              </p:nvSpPr>
              <p:spPr>
                <a:xfrm flipH="1" flipV="1" rot="265200">
                  <a:off x="3807720" y="55468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54" name="Group 38"/>
            <p:cNvGrpSpPr/>
            <p:nvPr/>
          </p:nvGrpSpPr>
          <p:grpSpPr>
            <a:xfrm>
              <a:off x="3807720" y="5628600"/>
              <a:ext cx="1115640" cy="227160"/>
              <a:chOff x="3807720" y="5628600"/>
              <a:chExt cx="1115640" cy="227160"/>
            </a:xfrm>
          </p:grpSpPr>
          <p:grpSp>
            <p:nvGrpSpPr>
              <p:cNvPr id="655" name="Group 39"/>
              <p:cNvGrpSpPr/>
              <p:nvPr/>
            </p:nvGrpSpPr>
            <p:grpSpPr>
              <a:xfrm>
                <a:off x="3809160" y="5628600"/>
                <a:ext cx="1114200" cy="147240"/>
                <a:chOff x="3809160" y="5628600"/>
                <a:chExt cx="1114200" cy="147240"/>
              </a:xfrm>
            </p:grpSpPr>
            <p:sp>
              <p:nvSpPr>
                <p:cNvPr id="656" name="Rectangle 40"/>
                <p:cNvSpPr/>
                <p:nvPr/>
              </p:nvSpPr>
              <p:spPr>
                <a:xfrm flipH="1" rot="21334800">
                  <a:off x="3840120" y="5671440"/>
                  <a:ext cx="1051560" cy="615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Oval 41"/>
                <p:cNvSpPr/>
                <p:nvPr/>
              </p:nvSpPr>
              <p:spPr>
                <a:xfrm flipH="1" rot="21334800">
                  <a:off x="4858920" y="56307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Oval 42"/>
                <p:cNvSpPr/>
                <p:nvPr/>
              </p:nvSpPr>
              <p:spPr>
                <a:xfrm flipH="1" rot="21334800">
                  <a:off x="3810600" y="57117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9" name="Group 43"/>
              <p:cNvGrpSpPr/>
              <p:nvPr/>
            </p:nvGrpSpPr>
            <p:grpSpPr>
              <a:xfrm>
                <a:off x="3807720" y="5708880"/>
                <a:ext cx="1113840" cy="146880"/>
                <a:chOff x="3807720" y="5708880"/>
                <a:chExt cx="1113840" cy="146880"/>
              </a:xfrm>
            </p:grpSpPr>
            <p:sp>
              <p:nvSpPr>
                <p:cNvPr id="660" name="Rectangle 44"/>
                <p:cNvSpPr/>
                <p:nvPr/>
              </p:nvSpPr>
              <p:spPr>
                <a:xfrm flipH="1" rot="265800">
                  <a:off x="3838680" y="5750640"/>
                  <a:ext cx="1051200" cy="6120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Oval 45"/>
                <p:cNvSpPr/>
                <p:nvPr/>
              </p:nvSpPr>
              <p:spPr>
                <a:xfrm flipH="1" flipV="1" rot="265200">
                  <a:off x="4857480" y="57916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Oval 46"/>
                <p:cNvSpPr/>
                <p:nvPr/>
              </p:nvSpPr>
              <p:spPr>
                <a:xfrm flipH="1" flipV="1" rot="265200">
                  <a:off x="3809880" y="57106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63" name="Rectangle 47"/>
          <p:cNvSpPr/>
          <p:nvPr/>
        </p:nvSpPr>
        <p:spPr>
          <a:xfrm>
            <a:off x="3386160" y="5792760"/>
            <a:ext cx="1506600" cy="619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4" name="Group 4"/>
          <p:cNvGrpSpPr/>
          <p:nvPr/>
        </p:nvGrpSpPr>
        <p:grpSpPr>
          <a:xfrm>
            <a:off x="1654200" y="5629320"/>
            <a:ext cx="404640" cy="404640"/>
            <a:chOff x="1654200" y="5629320"/>
            <a:chExt cx="404640" cy="404640"/>
          </a:xfrm>
        </p:grpSpPr>
        <p:sp>
          <p:nvSpPr>
            <p:cNvPr id="665" name="Oval 5"/>
            <p:cNvSpPr/>
            <p:nvPr/>
          </p:nvSpPr>
          <p:spPr>
            <a:xfrm>
              <a:off x="1654200" y="5629320"/>
              <a:ext cx="404640" cy="404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AutoShape 6"/>
            <p:cNvSpPr/>
            <p:nvPr/>
          </p:nvSpPr>
          <p:spPr>
            <a:xfrm rot="16200000">
              <a:off x="1633680" y="5679360"/>
              <a:ext cx="350640" cy="303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7" name="Line 60"/>
          <p:cNvSpPr/>
          <p:nvPr/>
        </p:nvSpPr>
        <p:spPr>
          <a:xfrm>
            <a:off x="3871800" y="394344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Line 61"/>
          <p:cNvSpPr/>
          <p:nvPr/>
        </p:nvSpPr>
        <p:spPr>
          <a:xfrm>
            <a:off x="3892680" y="617076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75"/>
          <p:cNvSpPr/>
          <p:nvPr/>
        </p:nvSpPr>
        <p:spPr>
          <a:xfrm>
            <a:off x="2927160" y="5978520"/>
            <a:ext cx="7779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ff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0" name="AutoShape 52"/>
          <p:cNvCxnSpPr/>
          <p:nvPr/>
        </p:nvCxnSpPr>
        <p:spPr>
          <a:xfrm flipV="1" rot="10800000">
            <a:off x="2058120" y="5824080"/>
            <a:ext cx="1328040" cy="8640"/>
          </a:xfrm>
          <a:prstGeom prst="bentConnector3">
            <a:avLst>
              <a:gd name="adj1" fmla="val 50000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671" name="AutoShape 53"/>
          <p:cNvCxnSpPr/>
          <p:nvPr/>
        </p:nvCxnSpPr>
        <p:spPr>
          <a:xfrm rot="10800000">
            <a:off x="726480" y="3199680"/>
            <a:ext cx="932400" cy="2634480"/>
          </a:xfrm>
          <a:prstGeom prst="bentConnector3">
            <a:avLst>
              <a:gd name="adj1" fmla="val 121089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672" name="AutoShape 54"/>
          <p:cNvCxnSpPr/>
          <p:nvPr/>
        </p:nvCxnSpPr>
        <p:spPr>
          <a:xfrm>
            <a:off x="2452680" y="1643040"/>
            <a:ext cx="924480" cy="3528000"/>
          </a:xfrm>
          <a:prstGeom prst="bentConnector3">
            <a:avLst>
              <a:gd name="adj1" fmla="val 59446"/>
            </a:avLst>
          </a:prstGeom>
          <a:ln w="28440">
            <a:solidFill>
              <a:srgbClr val="3333cc"/>
            </a:solidFill>
            <a:miter/>
          </a:ln>
        </p:spPr>
      </p:cxnSp>
      <p:sp>
        <p:nvSpPr>
          <p:cNvPr id="673" name="Text Box 88"/>
          <p:cNvSpPr/>
          <p:nvPr/>
        </p:nvSpPr>
        <p:spPr>
          <a:xfrm>
            <a:off x="5320800" y="1136520"/>
            <a:ext cx="2422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89"/>
          <p:cNvSpPr/>
          <p:nvPr/>
        </p:nvSpPr>
        <p:spPr>
          <a:xfrm>
            <a:off x="5320080" y="1697040"/>
            <a:ext cx="2383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5" name="Group 119"/>
          <p:cNvGrpSpPr/>
          <p:nvPr/>
        </p:nvGrpSpPr>
        <p:grpSpPr>
          <a:xfrm>
            <a:off x="1792440" y="1808280"/>
            <a:ext cx="6128280" cy="2963880"/>
            <a:chOff x="1792440" y="1808280"/>
            <a:chExt cx="6128280" cy="2963880"/>
          </a:xfrm>
        </p:grpSpPr>
        <p:sp>
          <p:nvSpPr>
            <p:cNvPr id="676" name="Text Box 90"/>
            <p:cNvSpPr/>
            <p:nvPr/>
          </p:nvSpPr>
          <p:spPr>
            <a:xfrm>
              <a:off x="5320440" y="2257560"/>
              <a:ext cx="260028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buClr>
                  <a:srgbClr val="000066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ontainmen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7" name="Group 107"/>
            <p:cNvGrpSpPr/>
            <p:nvPr/>
          </p:nvGrpSpPr>
          <p:grpSpPr>
            <a:xfrm>
              <a:off x="4084560" y="4322880"/>
              <a:ext cx="2071800" cy="449280"/>
              <a:chOff x="4084560" y="4322880"/>
              <a:chExt cx="2071800" cy="449280"/>
            </a:xfrm>
          </p:grpSpPr>
          <p:sp>
            <p:nvSpPr>
              <p:cNvPr id="678" name="Oval 93"/>
              <p:cNvSpPr/>
              <p:nvPr/>
            </p:nvSpPr>
            <p:spPr>
              <a:xfrm>
                <a:off x="4084560" y="4322880"/>
                <a:ext cx="443160" cy="442800"/>
              </a:xfrm>
              <a:prstGeom prst="ellipse">
                <a:avLst/>
              </a:prstGeom>
              <a:solidFill>
                <a:srgbClr val="00b8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9" name="Group 103"/>
              <p:cNvGrpSpPr/>
              <p:nvPr/>
            </p:nvGrpSpPr>
            <p:grpSpPr>
              <a:xfrm>
                <a:off x="4527720" y="4408200"/>
                <a:ext cx="1188720" cy="294120"/>
                <a:chOff x="4527720" y="4408200"/>
                <a:chExt cx="1188720" cy="294120"/>
              </a:xfrm>
            </p:grpSpPr>
            <p:sp>
              <p:nvSpPr>
                <p:cNvPr id="680" name="Line 96"/>
                <p:cNvSpPr/>
                <p:nvPr/>
              </p:nvSpPr>
              <p:spPr>
                <a:xfrm>
                  <a:off x="4527720" y="4552920"/>
                  <a:ext cx="304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Line 97"/>
                <p:cNvSpPr/>
                <p:nvPr/>
              </p:nvSpPr>
              <p:spPr>
                <a:xfrm flipV="1">
                  <a:off x="4831920" y="4408200"/>
                  <a:ext cx="78480" cy="144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Line 98"/>
                <p:cNvSpPr/>
                <p:nvPr/>
              </p:nvSpPr>
              <p:spPr>
                <a:xfrm>
                  <a:off x="4910760" y="4408560"/>
                  <a:ext cx="160560" cy="29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Line 99"/>
                <p:cNvSpPr/>
                <p:nvPr/>
              </p:nvSpPr>
              <p:spPr>
                <a:xfrm flipV="1">
                  <a:off x="5071680" y="4408560"/>
                  <a:ext cx="159840" cy="29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Line 100"/>
                <p:cNvSpPr/>
                <p:nvPr/>
              </p:nvSpPr>
              <p:spPr>
                <a:xfrm>
                  <a:off x="5231880" y="4408560"/>
                  <a:ext cx="158400" cy="29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Line 101"/>
                <p:cNvSpPr/>
                <p:nvPr/>
              </p:nvSpPr>
              <p:spPr>
                <a:xfrm flipV="1">
                  <a:off x="5390640" y="4552560"/>
                  <a:ext cx="79200" cy="145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Line 102"/>
                <p:cNvSpPr/>
                <p:nvPr/>
              </p:nvSpPr>
              <p:spPr>
                <a:xfrm>
                  <a:off x="5469840" y="4552920"/>
                  <a:ext cx="246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7" name="Oval 106"/>
              <p:cNvSpPr/>
              <p:nvPr/>
            </p:nvSpPr>
            <p:spPr>
              <a:xfrm>
                <a:off x="5716440" y="4332240"/>
                <a:ext cx="439920" cy="439920"/>
              </a:xfrm>
              <a:prstGeom prst="ellipse">
                <a:avLst/>
              </a:prstGeom>
              <a:solidFill>
                <a:srgbClr val="00b8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WP MathA"/>
                    <a:ea typeface="WP MathA"/>
                  </a:rPr>
                  <a:t>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8" name="Group 108"/>
            <p:cNvGrpSpPr/>
            <p:nvPr/>
          </p:nvGrpSpPr>
          <p:grpSpPr>
            <a:xfrm>
              <a:off x="1792440" y="1808280"/>
              <a:ext cx="2071080" cy="449280"/>
              <a:chOff x="1792440" y="1808280"/>
              <a:chExt cx="2071080" cy="449280"/>
            </a:xfrm>
          </p:grpSpPr>
          <p:sp>
            <p:nvSpPr>
              <p:cNvPr id="689" name="Oval 109"/>
              <p:cNvSpPr/>
              <p:nvPr/>
            </p:nvSpPr>
            <p:spPr>
              <a:xfrm>
                <a:off x="1792440" y="1808280"/>
                <a:ext cx="442800" cy="442800"/>
              </a:xfrm>
              <a:prstGeom prst="ellipse">
                <a:avLst/>
              </a:prstGeom>
              <a:solidFill>
                <a:srgbClr val="00b8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0" name="Group 110"/>
              <p:cNvGrpSpPr/>
              <p:nvPr/>
            </p:nvGrpSpPr>
            <p:grpSpPr>
              <a:xfrm>
                <a:off x="2235240" y="1893600"/>
                <a:ext cx="1188000" cy="294120"/>
                <a:chOff x="2235240" y="1893600"/>
                <a:chExt cx="1188000" cy="294120"/>
              </a:xfrm>
            </p:grpSpPr>
            <p:sp>
              <p:nvSpPr>
                <p:cNvPr id="691" name="Line 111"/>
                <p:cNvSpPr/>
                <p:nvPr/>
              </p:nvSpPr>
              <p:spPr>
                <a:xfrm>
                  <a:off x="2235240" y="2038320"/>
                  <a:ext cx="304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Line 112"/>
                <p:cNvSpPr/>
                <p:nvPr/>
              </p:nvSpPr>
              <p:spPr>
                <a:xfrm flipV="1">
                  <a:off x="2539440" y="1893600"/>
                  <a:ext cx="78480" cy="144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Line 113"/>
                <p:cNvSpPr/>
                <p:nvPr/>
              </p:nvSpPr>
              <p:spPr>
                <a:xfrm>
                  <a:off x="2618280" y="1893960"/>
                  <a:ext cx="160560" cy="29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Line 114"/>
                <p:cNvSpPr/>
                <p:nvPr/>
              </p:nvSpPr>
              <p:spPr>
                <a:xfrm flipV="1">
                  <a:off x="2778840" y="1893960"/>
                  <a:ext cx="159840" cy="29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Line 115"/>
                <p:cNvSpPr/>
                <p:nvPr/>
              </p:nvSpPr>
              <p:spPr>
                <a:xfrm>
                  <a:off x="2939040" y="1893960"/>
                  <a:ext cx="158400" cy="29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Line 116"/>
                <p:cNvSpPr/>
                <p:nvPr/>
              </p:nvSpPr>
              <p:spPr>
                <a:xfrm flipV="1">
                  <a:off x="3097800" y="2037960"/>
                  <a:ext cx="79200" cy="145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Line 117"/>
                <p:cNvSpPr/>
                <p:nvPr/>
              </p:nvSpPr>
              <p:spPr>
                <a:xfrm>
                  <a:off x="3177000" y="2038320"/>
                  <a:ext cx="246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8" name="Oval 118"/>
              <p:cNvSpPr/>
              <p:nvPr/>
            </p:nvSpPr>
            <p:spPr>
              <a:xfrm>
                <a:off x="3423960" y="1817640"/>
                <a:ext cx="439560" cy="439920"/>
              </a:xfrm>
              <a:prstGeom prst="ellipse">
                <a:avLst/>
              </a:prstGeom>
              <a:solidFill>
                <a:srgbClr val="00b8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WP MathA"/>
                    <a:ea typeface="WP MathA"/>
                  </a:rPr>
                  <a:t>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99" name="Group 123"/>
          <p:cNvGrpSpPr/>
          <p:nvPr/>
        </p:nvGrpSpPr>
        <p:grpSpPr>
          <a:xfrm>
            <a:off x="61920" y="1852560"/>
            <a:ext cx="6987960" cy="4530600"/>
            <a:chOff x="61920" y="1852560"/>
            <a:chExt cx="6987960" cy="4530600"/>
          </a:xfrm>
        </p:grpSpPr>
        <p:sp>
          <p:nvSpPr>
            <p:cNvPr id="700" name="Text Box 91"/>
            <p:cNvSpPr/>
            <p:nvPr/>
          </p:nvSpPr>
          <p:spPr>
            <a:xfrm>
              <a:off x="5319720" y="2819520"/>
              <a:ext cx="173016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buClr>
                  <a:srgbClr val="000066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ontrol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Oval 120"/>
            <p:cNvSpPr/>
            <p:nvPr/>
          </p:nvSpPr>
          <p:spPr>
            <a:xfrm>
              <a:off x="1562040" y="5506920"/>
              <a:ext cx="649440" cy="649440"/>
            </a:xfrm>
            <a:prstGeom prst="ellipse">
              <a:avLst/>
            </a:prstGeom>
            <a:solidFill>
              <a:srgbClr val="faf138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Rectangle 121"/>
            <p:cNvSpPr/>
            <p:nvPr/>
          </p:nvSpPr>
          <p:spPr>
            <a:xfrm>
              <a:off x="61920" y="1852560"/>
              <a:ext cx="442800" cy="442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03" name="AutoShape 122"/>
            <p:cNvCxnSpPr>
              <a:stCxn id="702" idx="2"/>
              <a:endCxn id="701" idx="4"/>
            </p:cNvCxnSpPr>
            <p:nvPr/>
          </p:nvCxnSpPr>
          <p:spPr>
            <a:xfrm flipH="1" rot="16200000">
              <a:off x="-844920" y="3423600"/>
              <a:ext cx="3861720" cy="1604160"/>
            </a:xfrm>
            <a:prstGeom prst="bentConnector3">
              <a:avLst>
                <a:gd name="adj1" fmla="val 105873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414240" y="1383840"/>
            <a:ext cx="534996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ed from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ed to algorithms in ESP-r sours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pe and resolution v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AutoShape 4"/>
          <p:cNvSpPr/>
          <p:nvPr/>
        </p:nvSpPr>
        <p:spPr>
          <a:xfrm>
            <a:off x="976320" y="1066680"/>
            <a:ext cx="609480" cy="609840"/>
          </a:xfrm>
          <a:prstGeom prst="sun">
            <a:avLst>
              <a:gd name="adj" fmla="val 25000"/>
            </a:avLst>
          </a:prstGeom>
          <a:solidFill>
            <a:srgbClr val="faf138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7" name="Group 5"/>
          <p:cNvGrpSpPr/>
          <p:nvPr/>
        </p:nvGrpSpPr>
        <p:grpSpPr>
          <a:xfrm>
            <a:off x="539280" y="1427040"/>
            <a:ext cx="2090160" cy="1971360"/>
            <a:chOff x="539280" y="1427040"/>
            <a:chExt cx="2090160" cy="1971360"/>
          </a:xfrm>
        </p:grpSpPr>
        <p:sp>
          <p:nvSpPr>
            <p:cNvPr id="708" name="Rectangle 6"/>
            <p:cNvSpPr/>
            <p:nvPr/>
          </p:nvSpPr>
          <p:spPr>
            <a:xfrm rot="2875200">
              <a:off x="1555560" y="1385640"/>
              <a:ext cx="269640" cy="2286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Rectangle 7"/>
            <p:cNvSpPr/>
            <p:nvPr/>
          </p:nvSpPr>
          <p:spPr>
            <a:xfrm rot="2875200">
              <a:off x="1531800" y="1290240"/>
              <a:ext cx="117360" cy="2286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8"/>
            <p:cNvSpPr/>
            <p:nvPr/>
          </p:nvSpPr>
          <p:spPr>
            <a:xfrm rot="2875200">
              <a:off x="1307880" y="1279440"/>
              <a:ext cx="565200" cy="2286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Rectangle 9"/>
            <p:cNvSpPr/>
            <p:nvPr/>
          </p:nvSpPr>
          <p:spPr>
            <a:xfrm rot="2875200">
              <a:off x="1368000" y="1093320"/>
              <a:ext cx="117360" cy="22860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2" name="Text Box 10"/>
          <p:cNvSpPr/>
          <p:nvPr/>
        </p:nvSpPr>
        <p:spPr>
          <a:xfrm>
            <a:off x="1586520" y="2517840"/>
            <a:ext cx="9824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a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Line 11"/>
          <p:cNvSpPr/>
          <p:nvPr/>
        </p:nvSpPr>
        <p:spPr>
          <a:xfrm>
            <a:off x="841680" y="1634760"/>
            <a:ext cx="675720" cy="7484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Line 12"/>
          <p:cNvSpPr/>
          <p:nvPr/>
        </p:nvSpPr>
        <p:spPr>
          <a:xfrm flipH="1" flipV="1">
            <a:off x="974160" y="2149200"/>
            <a:ext cx="398160" cy="640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onnection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5400" y="1383840"/>
            <a:ext cx="75214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776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7398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wo-phase fluid flow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7398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7398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ersion rati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7398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add to 1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n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7398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ignored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sed flow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7" name="Group 89"/>
          <p:cNvGrpSpPr/>
          <p:nvPr/>
        </p:nvGrpSpPr>
        <p:grpSpPr>
          <a:xfrm>
            <a:off x="4898880" y="2647800"/>
            <a:ext cx="3784320" cy="4027320"/>
            <a:chOff x="4898880" y="2647800"/>
            <a:chExt cx="3784320" cy="4027320"/>
          </a:xfrm>
        </p:grpSpPr>
        <p:sp>
          <p:nvSpPr>
            <p:cNvPr id="718" name="Rectangle 8"/>
            <p:cNvSpPr/>
            <p:nvPr/>
          </p:nvSpPr>
          <p:spPr>
            <a:xfrm>
              <a:off x="4898880" y="4633560"/>
              <a:ext cx="1088640" cy="16322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Rectangle 49"/>
            <p:cNvSpPr/>
            <p:nvPr/>
          </p:nvSpPr>
          <p:spPr>
            <a:xfrm>
              <a:off x="6506640" y="4633560"/>
              <a:ext cx="1088640" cy="16322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0" name="Group 50"/>
            <p:cNvGrpSpPr/>
            <p:nvPr/>
          </p:nvGrpSpPr>
          <p:grpSpPr>
            <a:xfrm>
              <a:off x="5879880" y="6378840"/>
              <a:ext cx="296280" cy="296280"/>
              <a:chOff x="5879880" y="6378840"/>
              <a:chExt cx="296280" cy="296280"/>
            </a:xfrm>
          </p:grpSpPr>
          <p:sp>
            <p:nvSpPr>
              <p:cNvPr id="721" name="Oval 51"/>
              <p:cNvSpPr/>
              <p:nvPr/>
            </p:nvSpPr>
            <p:spPr>
              <a:xfrm>
                <a:off x="5879880" y="6378840"/>
                <a:ext cx="296280" cy="296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AutoShape 52"/>
              <p:cNvSpPr/>
              <p:nvPr/>
            </p:nvSpPr>
            <p:spPr>
              <a:xfrm rot="16200000">
                <a:off x="5864760" y="6415200"/>
                <a:ext cx="256680" cy="2221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3" name="Line 61"/>
            <p:cNvSpPr/>
            <p:nvPr/>
          </p:nvSpPr>
          <p:spPr>
            <a:xfrm>
              <a:off x="5083200" y="4633560"/>
              <a:ext cx="717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Line 62"/>
            <p:cNvSpPr/>
            <p:nvPr/>
          </p:nvSpPr>
          <p:spPr>
            <a:xfrm>
              <a:off x="5098320" y="6266160"/>
              <a:ext cx="717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Line 63"/>
            <p:cNvSpPr/>
            <p:nvPr/>
          </p:nvSpPr>
          <p:spPr>
            <a:xfrm>
              <a:off x="6706800" y="4633560"/>
              <a:ext cx="71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Line 64"/>
            <p:cNvSpPr/>
            <p:nvPr/>
          </p:nvSpPr>
          <p:spPr>
            <a:xfrm>
              <a:off x="6706800" y="6266160"/>
              <a:ext cx="71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27" name="AutoShape 65"/>
            <p:cNvCxnSpPr>
              <a:stCxn id="722" idx="0"/>
              <a:endCxn id="718" idx="2"/>
            </p:cNvCxnSpPr>
            <p:nvPr/>
          </p:nvCxnSpPr>
          <p:spPr>
            <a:xfrm rot="10800000">
              <a:off x="5443200" y="6265440"/>
              <a:ext cx="439560" cy="263160"/>
            </a:xfrm>
            <a:prstGeom prst="bentConnector2">
              <a:avLst/>
            </a:prstGeom>
            <a:ln w="28440">
              <a:solidFill>
                <a:srgbClr val="3333cc"/>
              </a:solidFill>
              <a:miter/>
            </a:ln>
          </p:spPr>
        </p:cxnSp>
        <p:cxnSp>
          <p:nvCxnSpPr>
            <p:cNvPr id="728" name="AutoShape 66"/>
            <p:cNvCxnSpPr>
              <a:stCxn id="726" idx="0"/>
              <a:endCxn id="721" idx="6"/>
            </p:cNvCxnSpPr>
            <p:nvPr/>
          </p:nvCxnSpPr>
          <p:spPr>
            <a:xfrm rot="5400000">
              <a:off x="6310440" y="6130800"/>
              <a:ext cx="261720" cy="530640"/>
            </a:xfrm>
            <a:prstGeom prst="bentConnector4">
              <a:avLst>
                <a:gd name="adj1" fmla="val 101239"/>
                <a:gd name="adj2" fmla="val 50169"/>
              </a:avLst>
            </a:prstGeom>
            <a:ln w="28440">
              <a:solidFill>
                <a:srgbClr val="3333cc"/>
              </a:solidFill>
              <a:miter/>
            </a:ln>
          </p:spPr>
        </p:cxnSp>
        <p:sp>
          <p:nvSpPr>
            <p:cNvPr id="729" name="Rectangle 68"/>
            <p:cNvSpPr/>
            <p:nvPr/>
          </p:nvSpPr>
          <p:spPr>
            <a:xfrm>
              <a:off x="6924240" y="4311360"/>
              <a:ext cx="222840" cy="1594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AutoShape 69"/>
            <p:cNvSpPr/>
            <p:nvPr/>
          </p:nvSpPr>
          <p:spPr>
            <a:xfrm rot="10800000">
              <a:off x="6805800" y="5904360"/>
              <a:ext cx="459360" cy="181800"/>
            </a:xfrm>
            <a:custGeom>
              <a:avLst/>
              <a:gdLst>
                <a:gd name="textAreaLeft" fmla="*/ 95040 w 459360"/>
                <a:gd name="textAreaRight" fmla="*/ 364320 w 459360"/>
                <a:gd name="textAreaTop" fmla="*/ 37800 h 181800"/>
                <a:gd name="textAreaBottom" fmla="*/ 144000 h 18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Rectangle 70"/>
            <p:cNvSpPr/>
            <p:nvPr/>
          </p:nvSpPr>
          <p:spPr>
            <a:xfrm>
              <a:off x="6506640" y="6086520"/>
              <a:ext cx="1088640" cy="17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2" name="Group 71"/>
            <p:cNvGrpSpPr/>
            <p:nvPr/>
          </p:nvGrpSpPr>
          <p:grpSpPr>
            <a:xfrm>
              <a:off x="7274520" y="4164480"/>
              <a:ext cx="297720" cy="295920"/>
              <a:chOff x="7274520" y="4164480"/>
              <a:chExt cx="297720" cy="295920"/>
            </a:xfrm>
          </p:grpSpPr>
          <p:sp>
            <p:nvSpPr>
              <p:cNvPr id="733" name="Oval 72"/>
              <p:cNvSpPr/>
              <p:nvPr/>
            </p:nvSpPr>
            <p:spPr>
              <a:xfrm rot="5400000">
                <a:off x="7275240" y="4163400"/>
                <a:ext cx="295920" cy="297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AutoShape 73"/>
              <p:cNvSpPr/>
              <p:nvPr/>
            </p:nvSpPr>
            <p:spPr>
              <a:xfrm>
                <a:off x="7294680" y="4166640"/>
                <a:ext cx="258120" cy="2217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35" name="AutoShape 74"/>
            <p:cNvCxnSpPr>
              <a:stCxn id="733" idx="6"/>
              <a:endCxn id="725" idx="0"/>
            </p:cNvCxnSpPr>
            <p:nvPr/>
          </p:nvCxnSpPr>
          <p:spPr>
            <a:xfrm rot="5400000">
              <a:off x="7338960" y="4546440"/>
              <a:ext cx="171360" cy="1800"/>
            </a:xfrm>
            <a:prstGeom prst="bentConnector3">
              <a:avLst>
                <a:gd name="adj1" fmla="val 96631"/>
              </a:avLst>
            </a:prstGeom>
            <a:ln w="28440">
              <a:solidFill>
                <a:srgbClr val="3333cc"/>
              </a:solidFill>
              <a:miter/>
            </a:ln>
          </p:spPr>
        </p:cxnSp>
        <p:cxnSp>
          <p:nvCxnSpPr>
            <p:cNvPr id="736" name="AutoShape 75"/>
            <p:cNvCxnSpPr>
              <a:stCxn id="737" idx="3"/>
              <a:endCxn id="726" idx="1"/>
            </p:cNvCxnSpPr>
            <p:nvPr/>
          </p:nvCxnSpPr>
          <p:spPr>
            <a:xfrm flipH="1">
              <a:off x="7423920" y="2845800"/>
              <a:ext cx="536040" cy="3420360"/>
            </a:xfrm>
            <a:prstGeom prst="bentConnector4">
              <a:avLst>
                <a:gd name="adj1" fmla="val -133602"/>
                <a:gd name="adj2" fmla="val 107305"/>
              </a:avLst>
            </a:prstGeom>
            <a:ln w="28440">
              <a:solidFill>
                <a:srgbClr val="3333cc"/>
              </a:solidFill>
              <a:miter/>
            </a:ln>
          </p:spPr>
        </p:cxnSp>
        <p:sp>
          <p:nvSpPr>
            <p:cNvPr id="738" name="Text Box 77"/>
            <p:cNvSpPr/>
            <p:nvPr/>
          </p:nvSpPr>
          <p:spPr>
            <a:xfrm>
              <a:off x="7632720" y="4633560"/>
              <a:ext cx="1014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as-fire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an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Rectangle 81"/>
            <p:cNvSpPr/>
            <p:nvPr/>
          </p:nvSpPr>
          <p:spPr>
            <a:xfrm>
              <a:off x="5650200" y="2647800"/>
              <a:ext cx="2309400" cy="39420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Rectangle 82"/>
            <p:cNvSpPr/>
            <p:nvPr/>
          </p:nvSpPr>
          <p:spPr>
            <a:xfrm>
              <a:off x="5650200" y="3226680"/>
              <a:ext cx="2309400" cy="39564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40" name="AutoShape 83"/>
            <p:cNvCxnSpPr>
              <a:stCxn id="737" idx="1"/>
              <a:endCxn id="734" idx="0"/>
            </p:cNvCxnSpPr>
            <p:nvPr/>
          </p:nvCxnSpPr>
          <p:spPr>
            <a:xfrm flipH="1" flipV="1" rot="10800000">
              <a:off x="5649840" y="2845080"/>
              <a:ext cx="1774800" cy="1320120"/>
            </a:xfrm>
            <a:prstGeom prst="bentConnector4">
              <a:avLst>
                <a:gd name="adj1" fmla="val -26435"/>
                <a:gd name="adj2" fmla="val 85188"/>
              </a:avLst>
            </a:prstGeom>
            <a:ln w="28440">
              <a:solidFill>
                <a:srgbClr val="3333cc"/>
              </a:solidFill>
              <a:miter/>
            </a:ln>
          </p:spPr>
        </p:cxnSp>
        <p:cxnSp>
          <p:nvCxnSpPr>
            <p:cNvPr id="741" name="AutoShape 84"/>
            <p:cNvCxnSpPr>
              <a:stCxn id="734" idx="0"/>
              <a:endCxn id="739" idx="1"/>
            </p:cNvCxnSpPr>
            <p:nvPr/>
          </p:nvCxnSpPr>
          <p:spPr>
            <a:xfrm flipV="1" rot="16200000">
              <a:off x="6166440" y="2907360"/>
              <a:ext cx="741240" cy="1774800"/>
            </a:xfrm>
            <a:prstGeom prst="bentConnector4">
              <a:avLst>
                <a:gd name="adj1" fmla="val 26190"/>
                <a:gd name="adj2" fmla="val 126374"/>
              </a:avLst>
            </a:prstGeom>
            <a:ln w="28440">
              <a:solidFill>
                <a:srgbClr val="3333cc"/>
              </a:solidFill>
              <a:miter/>
            </a:ln>
          </p:spPr>
        </p:cxnSp>
        <p:cxnSp>
          <p:nvCxnSpPr>
            <p:cNvPr id="742" name="AutoShape 85"/>
            <p:cNvCxnSpPr>
              <a:stCxn id="739" idx="3"/>
              <a:endCxn id="726" idx="1"/>
            </p:cNvCxnSpPr>
            <p:nvPr/>
          </p:nvCxnSpPr>
          <p:spPr>
            <a:xfrm flipH="1">
              <a:off x="7423920" y="3424680"/>
              <a:ext cx="536040" cy="2841120"/>
            </a:xfrm>
            <a:prstGeom prst="bentConnector4">
              <a:avLst>
                <a:gd name="adj1" fmla="val -135080"/>
                <a:gd name="adj2" fmla="val 109263"/>
              </a:avLst>
            </a:prstGeom>
            <a:ln w="28440">
              <a:solidFill>
                <a:srgbClr val="3333cc"/>
              </a:solidFill>
              <a:miter/>
            </a:ln>
          </p:spPr>
        </p:cxnSp>
        <p:sp>
          <p:nvSpPr>
            <p:cNvPr id="743" name="Text Box 86"/>
            <p:cNvSpPr/>
            <p:nvPr/>
          </p:nvSpPr>
          <p:spPr>
            <a:xfrm>
              <a:off x="7630920" y="3622320"/>
              <a:ext cx="104940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adiato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44" name="AutoShape 88"/>
            <p:cNvCxnSpPr>
              <a:stCxn id="725" idx="0"/>
              <a:endCxn id="718" idx="0"/>
            </p:cNvCxnSpPr>
            <p:nvPr/>
          </p:nvCxnSpPr>
          <p:spPr>
            <a:xfrm rot="5400000">
              <a:off x="6073920" y="4002840"/>
              <a:ext cx="2160" cy="1263600"/>
            </a:xfrm>
            <a:prstGeom prst="bentConnector3">
              <a:avLst>
                <a:gd name="adj1" fmla="val -14400000"/>
              </a:avLst>
            </a:prstGeom>
            <a:ln w="28440">
              <a:solidFill>
                <a:srgbClr val="3333cc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ontainment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114800" y="1383840"/>
            <a:ext cx="464976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a component’s surround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77560">
              <a:lnSpc>
                <a:spcPct val="93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xed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77560">
              <a:lnSpc>
                <a:spcPct val="93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bient (outdo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77560">
              <a:lnSpc>
                <a:spcPct val="93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ne / surface /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77560">
              <a:lnSpc>
                <a:spcPct val="93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e within another plant 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77560">
              <a:lnSpc>
                <a:spcPct val="93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xed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0">
              <a:lnSpc>
                <a:spcPct val="93000"/>
              </a:lnSpc>
              <a:spcBef>
                <a:spcPts val="3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AutoShape 68"/>
          <p:cNvSpPr/>
          <p:nvPr/>
        </p:nvSpPr>
        <p:spPr>
          <a:xfrm>
            <a:off x="976320" y="1066680"/>
            <a:ext cx="609480" cy="609840"/>
          </a:xfrm>
          <a:prstGeom prst="sun">
            <a:avLst>
              <a:gd name="adj" fmla="val 25000"/>
            </a:avLst>
          </a:prstGeom>
          <a:solidFill>
            <a:srgbClr val="faf138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8" name="Group 69"/>
          <p:cNvGrpSpPr/>
          <p:nvPr/>
        </p:nvGrpSpPr>
        <p:grpSpPr>
          <a:xfrm>
            <a:off x="539280" y="1427040"/>
            <a:ext cx="2090160" cy="1971360"/>
            <a:chOff x="539280" y="1427040"/>
            <a:chExt cx="2090160" cy="1971360"/>
          </a:xfrm>
        </p:grpSpPr>
        <p:sp>
          <p:nvSpPr>
            <p:cNvPr id="749" name="Rectangle 70"/>
            <p:cNvSpPr/>
            <p:nvPr/>
          </p:nvSpPr>
          <p:spPr>
            <a:xfrm rot="2875200">
              <a:off x="1555560" y="1385640"/>
              <a:ext cx="269640" cy="2286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Rectangle 71"/>
            <p:cNvSpPr/>
            <p:nvPr/>
          </p:nvSpPr>
          <p:spPr>
            <a:xfrm rot="2875200">
              <a:off x="1531800" y="1290240"/>
              <a:ext cx="117360" cy="2286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Rectangle 72"/>
            <p:cNvSpPr/>
            <p:nvPr/>
          </p:nvSpPr>
          <p:spPr>
            <a:xfrm rot="2875200">
              <a:off x="1307880" y="1279440"/>
              <a:ext cx="565200" cy="2286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Rectangle 73"/>
            <p:cNvSpPr/>
            <p:nvPr/>
          </p:nvSpPr>
          <p:spPr>
            <a:xfrm rot="2875200">
              <a:off x="1368000" y="1093320"/>
              <a:ext cx="117360" cy="22860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3" name="Text Box 74"/>
          <p:cNvSpPr/>
          <p:nvPr/>
        </p:nvSpPr>
        <p:spPr>
          <a:xfrm>
            <a:off x="1586520" y="2517840"/>
            <a:ext cx="9824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a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Line 75"/>
          <p:cNvSpPr/>
          <p:nvPr/>
        </p:nvSpPr>
        <p:spPr>
          <a:xfrm>
            <a:off x="841680" y="1634760"/>
            <a:ext cx="675720" cy="7484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76"/>
          <p:cNvSpPr/>
          <p:nvPr/>
        </p:nvSpPr>
        <p:spPr>
          <a:xfrm flipH="1" flipV="1">
            <a:off x="974160" y="2149200"/>
            <a:ext cx="398160" cy="640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77"/>
          <p:cNvSpPr/>
          <p:nvPr/>
        </p:nvSpPr>
        <p:spPr>
          <a:xfrm>
            <a:off x="932040" y="3943440"/>
            <a:ext cx="1485720" cy="222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78"/>
          <p:cNvSpPr/>
          <p:nvPr/>
        </p:nvSpPr>
        <p:spPr>
          <a:xfrm>
            <a:off x="689040" y="5138640"/>
            <a:ext cx="1506600" cy="619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Oval 79"/>
          <p:cNvSpPr/>
          <p:nvPr/>
        </p:nvSpPr>
        <p:spPr>
          <a:xfrm>
            <a:off x="2165400" y="5138640"/>
            <a:ext cx="61920" cy="61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9" name="Group 80"/>
          <p:cNvGrpSpPr/>
          <p:nvPr/>
        </p:nvGrpSpPr>
        <p:grpSpPr>
          <a:xfrm>
            <a:off x="1112400" y="5137200"/>
            <a:ext cx="1122840" cy="718560"/>
            <a:chOff x="1112400" y="5137200"/>
            <a:chExt cx="1122840" cy="718560"/>
          </a:xfrm>
        </p:grpSpPr>
        <p:grpSp>
          <p:nvGrpSpPr>
            <p:cNvPr id="760" name="Group 81"/>
            <p:cNvGrpSpPr/>
            <p:nvPr/>
          </p:nvGrpSpPr>
          <p:grpSpPr>
            <a:xfrm>
              <a:off x="1112400" y="5137200"/>
              <a:ext cx="1115280" cy="227160"/>
              <a:chOff x="1112400" y="5137200"/>
              <a:chExt cx="1115280" cy="227160"/>
            </a:xfrm>
          </p:grpSpPr>
          <p:grpSp>
            <p:nvGrpSpPr>
              <p:cNvPr id="761" name="Group 82"/>
              <p:cNvGrpSpPr/>
              <p:nvPr/>
            </p:nvGrpSpPr>
            <p:grpSpPr>
              <a:xfrm>
                <a:off x="1113840" y="5137200"/>
                <a:ext cx="1113840" cy="147240"/>
                <a:chOff x="1113840" y="5137200"/>
                <a:chExt cx="1113840" cy="147240"/>
              </a:xfrm>
            </p:grpSpPr>
            <p:sp>
              <p:nvSpPr>
                <p:cNvPr id="762" name="Rectangle 83"/>
                <p:cNvSpPr/>
                <p:nvPr/>
              </p:nvSpPr>
              <p:spPr>
                <a:xfrm flipH="1" rot="21334800">
                  <a:off x="1145160" y="5180040"/>
                  <a:ext cx="1051200" cy="615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Oval 84"/>
                <p:cNvSpPr/>
                <p:nvPr/>
              </p:nvSpPr>
              <p:spPr>
                <a:xfrm flipH="1" rot="21334800">
                  <a:off x="2163240" y="51393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Oval 85"/>
                <p:cNvSpPr/>
                <p:nvPr/>
              </p:nvSpPr>
              <p:spPr>
                <a:xfrm flipH="1" rot="21334800">
                  <a:off x="1115280" y="52203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5" name="Group 86"/>
              <p:cNvGrpSpPr/>
              <p:nvPr/>
            </p:nvGrpSpPr>
            <p:grpSpPr>
              <a:xfrm>
                <a:off x="1112400" y="5217480"/>
                <a:ext cx="1113480" cy="146880"/>
                <a:chOff x="1112400" y="5217480"/>
                <a:chExt cx="1113480" cy="146880"/>
              </a:xfrm>
            </p:grpSpPr>
            <p:sp>
              <p:nvSpPr>
                <p:cNvPr id="766" name="Rectangle 87"/>
                <p:cNvSpPr/>
                <p:nvPr/>
              </p:nvSpPr>
              <p:spPr>
                <a:xfrm flipH="1" rot="265800">
                  <a:off x="1143000" y="5259600"/>
                  <a:ext cx="1050840" cy="6084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040" bIns="140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Oval 88"/>
                <p:cNvSpPr/>
                <p:nvPr/>
              </p:nvSpPr>
              <p:spPr>
                <a:xfrm flipH="1" flipV="1" rot="265200">
                  <a:off x="2161800" y="53002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Oval 89"/>
                <p:cNvSpPr/>
                <p:nvPr/>
              </p:nvSpPr>
              <p:spPr>
                <a:xfrm flipH="1" flipV="1" rot="265200">
                  <a:off x="1114560" y="52192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69" name="Group 90"/>
            <p:cNvGrpSpPr/>
            <p:nvPr/>
          </p:nvGrpSpPr>
          <p:grpSpPr>
            <a:xfrm>
              <a:off x="1115280" y="5301000"/>
              <a:ext cx="1115280" cy="227160"/>
              <a:chOff x="1115280" y="5301000"/>
              <a:chExt cx="1115280" cy="227160"/>
            </a:xfrm>
          </p:grpSpPr>
          <p:grpSp>
            <p:nvGrpSpPr>
              <p:cNvPr id="770" name="Group 91"/>
              <p:cNvGrpSpPr/>
              <p:nvPr/>
            </p:nvGrpSpPr>
            <p:grpSpPr>
              <a:xfrm>
                <a:off x="1116720" y="5301000"/>
                <a:ext cx="1113840" cy="147240"/>
                <a:chOff x="1116720" y="5301000"/>
                <a:chExt cx="1113840" cy="147240"/>
              </a:xfrm>
            </p:grpSpPr>
            <p:sp>
              <p:nvSpPr>
                <p:cNvPr id="771" name="Rectangle 92"/>
                <p:cNvSpPr/>
                <p:nvPr/>
              </p:nvSpPr>
              <p:spPr>
                <a:xfrm flipH="1" rot="21334800">
                  <a:off x="1148040" y="5343840"/>
                  <a:ext cx="1051200" cy="615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Oval 93"/>
                <p:cNvSpPr/>
                <p:nvPr/>
              </p:nvSpPr>
              <p:spPr>
                <a:xfrm flipH="1" rot="21334800">
                  <a:off x="2166120" y="53031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Oval 94"/>
                <p:cNvSpPr/>
                <p:nvPr/>
              </p:nvSpPr>
              <p:spPr>
                <a:xfrm flipH="1" rot="21334800">
                  <a:off x="1118160" y="53841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4" name="Group 95"/>
              <p:cNvGrpSpPr/>
              <p:nvPr/>
            </p:nvGrpSpPr>
            <p:grpSpPr>
              <a:xfrm>
                <a:off x="1115280" y="5381280"/>
                <a:ext cx="1113480" cy="146880"/>
                <a:chOff x="1115280" y="5381280"/>
                <a:chExt cx="1113480" cy="146880"/>
              </a:xfrm>
            </p:grpSpPr>
            <p:sp>
              <p:nvSpPr>
                <p:cNvPr id="775" name="Rectangle 96"/>
                <p:cNvSpPr/>
                <p:nvPr/>
              </p:nvSpPr>
              <p:spPr>
                <a:xfrm flipH="1" rot="265800">
                  <a:off x="1145880" y="5423400"/>
                  <a:ext cx="1050840" cy="6084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040" bIns="140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Oval 97"/>
                <p:cNvSpPr/>
                <p:nvPr/>
              </p:nvSpPr>
              <p:spPr>
                <a:xfrm flipH="1" flipV="1" rot="265200">
                  <a:off x="2164680" y="54640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Oval 98"/>
                <p:cNvSpPr/>
                <p:nvPr/>
              </p:nvSpPr>
              <p:spPr>
                <a:xfrm flipH="1" flipV="1" rot="265200">
                  <a:off x="1117440" y="53830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78" name="Group 99"/>
            <p:cNvGrpSpPr/>
            <p:nvPr/>
          </p:nvGrpSpPr>
          <p:grpSpPr>
            <a:xfrm>
              <a:off x="1117800" y="5464800"/>
              <a:ext cx="1115280" cy="227160"/>
              <a:chOff x="1117800" y="5464800"/>
              <a:chExt cx="1115280" cy="227160"/>
            </a:xfrm>
          </p:grpSpPr>
          <p:grpSp>
            <p:nvGrpSpPr>
              <p:cNvPr id="779" name="Group 100"/>
              <p:cNvGrpSpPr/>
              <p:nvPr/>
            </p:nvGrpSpPr>
            <p:grpSpPr>
              <a:xfrm>
                <a:off x="1119240" y="5464800"/>
                <a:ext cx="1113840" cy="147240"/>
                <a:chOff x="1119240" y="5464800"/>
                <a:chExt cx="1113840" cy="147240"/>
              </a:xfrm>
            </p:grpSpPr>
            <p:sp>
              <p:nvSpPr>
                <p:cNvPr id="780" name="Rectangle 101"/>
                <p:cNvSpPr/>
                <p:nvPr/>
              </p:nvSpPr>
              <p:spPr>
                <a:xfrm flipH="1" rot="21334800">
                  <a:off x="1150560" y="5507640"/>
                  <a:ext cx="1051200" cy="615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Oval 102"/>
                <p:cNvSpPr/>
                <p:nvPr/>
              </p:nvSpPr>
              <p:spPr>
                <a:xfrm flipH="1" rot="21334800">
                  <a:off x="2168640" y="54669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Oval 103"/>
                <p:cNvSpPr/>
                <p:nvPr/>
              </p:nvSpPr>
              <p:spPr>
                <a:xfrm flipH="1" rot="21334800">
                  <a:off x="1120680" y="55479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3" name="Group 104"/>
              <p:cNvGrpSpPr/>
              <p:nvPr/>
            </p:nvGrpSpPr>
            <p:grpSpPr>
              <a:xfrm>
                <a:off x="1117800" y="5545080"/>
                <a:ext cx="1113480" cy="146880"/>
                <a:chOff x="1117800" y="5545080"/>
                <a:chExt cx="1113480" cy="146880"/>
              </a:xfrm>
            </p:grpSpPr>
            <p:sp>
              <p:nvSpPr>
                <p:cNvPr id="784" name="Rectangle 105"/>
                <p:cNvSpPr/>
                <p:nvPr/>
              </p:nvSpPr>
              <p:spPr>
                <a:xfrm flipH="1" rot="265800">
                  <a:off x="1148400" y="5587200"/>
                  <a:ext cx="1050840" cy="6084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040" bIns="140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Oval 106"/>
                <p:cNvSpPr/>
                <p:nvPr/>
              </p:nvSpPr>
              <p:spPr>
                <a:xfrm flipH="1" flipV="1" rot="265200">
                  <a:off x="2167200" y="56278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Oval 107"/>
                <p:cNvSpPr/>
                <p:nvPr/>
              </p:nvSpPr>
              <p:spPr>
                <a:xfrm flipH="1" flipV="1" rot="265200">
                  <a:off x="1119960" y="55468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87" name="Group 108"/>
            <p:cNvGrpSpPr/>
            <p:nvPr/>
          </p:nvGrpSpPr>
          <p:grpSpPr>
            <a:xfrm>
              <a:off x="1119960" y="5628600"/>
              <a:ext cx="1115280" cy="227160"/>
              <a:chOff x="1119960" y="5628600"/>
              <a:chExt cx="1115280" cy="227160"/>
            </a:xfrm>
          </p:grpSpPr>
          <p:grpSp>
            <p:nvGrpSpPr>
              <p:cNvPr id="788" name="Group 109"/>
              <p:cNvGrpSpPr/>
              <p:nvPr/>
            </p:nvGrpSpPr>
            <p:grpSpPr>
              <a:xfrm>
                <a:off x="1121400" y="5628600"/>
                <a:ext cx="1113840" cy="147240"/>
                <a:chOff x="1121400" y="5628600"/>
                <a:chExt cx="1113840" cy="147240"/>
              </a:xfrm>
            </p:grpSpPr>
            <p:sp>
              <p:nvSpPr>
                <p:cNvPr id="789" name="Rectangle 110"/>
                <p:cNvSpPr/>
                <p:nvPr/>
              </p:nvSpPr>
              <p:spPr>
                <a:xfrm flipH="1" rot="21334800">
                  <a:off x="1152720" y="5671440"/>
                  <a:ext cx="1051200" cy="615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Oval 111"/>
                <p:cNvSpPr/>
                <p:nvPr/>
              </p:nvSpPr>
              <p:spPr>
                <a:xfrm flipH="1" rot="21334800">
                  <a:off x="2170800" y="56307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Oval 112"/>
                <p:cNvSpPr/>
                <p:nvPr/>
              </p:nvSpPr>
              <p:spPr>
                <a:xfrm flipH="1" rot="21334800">
                  <a:off x="1122840" y="57117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2" name="Group 113"/>
              <p:cNvGrpSpPr/>
              <p:nvPr/>
            </p:nvGrpSpPr>
            <p:grpSpPr>
              <a:xfrm>
                <a:off x="1119960" y="5708880"/>
                <a:ext cx="1113480" cy="146880"/>
                <a:chOff x="1119960" y="5708880"/>
                <a:chExt cx="1113480" cy="146880"/>
              </a:xfrm>
            </p:grpSpPr>
            <p:sp>
              <p:nvSpPr>
                <p:cNvPr id="793" name="Rectangle 114"/>
                <p:cNvSpPr/>
                <p:nvPr/>
              </p:nvSpPr>
              <p:spPr>
                <a:xfrm flipH="1" rot="265800">
                  <a:off x="1150560" y="5751000"/>
                  <a:ext cx="1050840" cy="6084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040" bIns="140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" name="Oval 115"/>
                <p:cNvSpPr/>
                <p:nvPr/>
              </p:nvSpPr>
              <p:spPr>
                <a:xfrm flipH="1" flipV="1" rot="265200">
                  <a:off x="2169360" y="57916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" name="Oval 116"/>
                <p:cNvSpPr/>
                <p:nvPr/>
              </p:nvSpPr>
              <p:spPr>
                <a:xfrm flipH="1" flipV="1" rot="265200">
                  <a:off x="1122120" y="57106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96" name="Rectangle 117"/>
          <p:cNvSpPr/>
          <p:nvPr/>
        </p:nvSpPr>
        <p:spPr>
          <a:xfrm>
            <a:off x="698400" y="5792760"/>
            <a:ext cx="1506600" cy="619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Line 121"/>
          <p:cNvSpPr/>
          <p:nvPr/>
        </p:nvSpPr>
        <p:spPr>
          <a:xfrm>
            <a:off x="1184400" y="394344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122"/>
          <p:cNvSpPr/>
          <p:nvPr/>
        </p:nvSpPr>
        <p:spPr>
          <a:xfrm>
            <a:off x="1204920" y="617076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9" name="Group 130"/>
          <p:cNvGrpSpPr/>
          <p:nvPr/>
        </p:nvGrpSpPr>
        <p:grpSpPr>
          <a:xfrm>
            <a:off x="1397160" y="4322880"/>
            <a:ext cx="2071080" cy="449280"/>
            <a:chOff x="1397160" y="4322880"/>
            <a:chExt cx="2071080" cy="449280"/>
          </a:xfrm>
        </p:grpSpPr>
        <p:sp>
          <p:nvSpPr>
            <p:cNvPr id="800" name="Oval 131"/>
            <p:cNvSpPr/>
            <p:nvPr/>
          </p:nvSpPr>
          <p:spPr>
            <a:xfrm>
              <a:off x="1397160" y="4322880"/>
              <a:ext cx="442800" cy="442800"/>
            </a:xfrm>
            <a:prstGeom prst="ellipse">
              <a:avLst/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1" name="Group 132"/>
            <p:cNvGrpSpPr/>
            <p:nvPr/>
          </p:nvGrpSpPr>
          <p:grpSpPr>
            <a:xfrm>
              <a:off x="1839960" y="4408200"/>
              <a:ext cx="1188000" cy="294120"/>
              <a:chOff x="1839960" y="4408200"/>
              <a:chExt cx="1188000" cy="294120"/>
            </a:xfrm>
          </p:grpSpPr>
          <p:sp>
            <p:nvSpPr>
              <p:cNvPr id="802" name="Line 133"/>
              <p:cNvSpPr/>
              <p:nvPr/>
            </p:nvSpPr>
            <p:spPr>
              <a:xfrm>
                <a:off x="1839960" y="4552920"/>
                <a:ext cx="30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Line 134"/>
              <p:cNvSpPr/>
              <p:nvPr/>
            </p:nvSpPr>
            <p:spPr>
              <a:xfrm flipV="1">
                <a:off x="2144160" y="4408200"/>
                <a:ext cx="7848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Line 135"/>
              <p:cNvSpPr/>
              <p:nvPr/>
            </p:nvSpPr>
            <p:spPr>
              <a:xfrm>
                <a:off x="2223000" y="4408560"/>
                <a:ext cx="160560" cy="29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Line 136"/>
              <p:cNvSpPr/>
              <p:nvPr/>
            </p:nvSpPr>
            <p:spPr>
              <a:xfrm flipV="1">
                <a:off x="2383560" y="4408560"/>
                <a:ext cx="159840" cy="29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Line 137"/>
              <p:cNvSpPr/>
              <p:nvPr/>
            </p:nvSpPr>
            <p:spPr>
              <a:xfrm>
                <a:off x="2543760" y="4408560"/>
                <a:ext cx="158400" cy="29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Line 138"/>
              <p:cNvSpPr/>
              <p:nvPr/>
            </p:nvSpPr>
            <p:spPr>
              <a:xfrm flipV="1">
                <a:off x="2702520" y="4552560"/>
                <a:ext cx="79200" cy="14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Line 139"/>
              <p:cNvSpPr/>
              <p:nvPr/>
            </p:nvSpPr>
            <p:spPr>
              <a:xfrm>
                <a:off x="2781720" y="4552920"/>
                <a:ext cx="246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9" name="Oval 140"/>
            <p:cNvSpPr/>
            <p:nvPr/>
          </p:nvSpPr>
          <p:spPr>
            <a:xfrm>
              <a:off x="3028680" y="4332240"/>
              <a:ext cx="439560" cy="439920"/>
            </a:xfrm>
            <a:prstGeom prst="ellipse">
              <a:avLst/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WP MathA"/>
                  <a:ea typeface="WP MathA"/>
                </a:rPr>
                <a:t>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0" name="Group 141"/>
          <p:cNvGrpSpPr/>
          <p:nvPr/>
        </p:nvGrpSpPr>
        <p:grpSpPr>
          <a:xfrm>
            <a:off x="1592280" y="1808280"/>
            <a:ext cx="2071800" cy="449280"/>
            <a:chOff x="1592280" y="1808280"/>
            <a:chExt cx="2071800" cy="449280"/>
          </a:xfrm>
        </p:grpSpPr>
        <p:sp>
          <p:nvSpPr>
            <p:cNvPr id="811" name="Oval 142"/>
            <p:cNvSpPr/>
            <p:nvPr/>
          </p:nvSpPr>
          <p:spPr>
            <a:xfrm>
              <a:off x="1592280" y="1808280"/>
              <a:ext cx="443160" cy="442800"/>
            </a:xfrm>
            <a:prstGeom prst="ellipse">
              <a:avLst/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2" name="Group 143"/>
            <p:cNvGrpSpPr/>
            <p:nvPr/>
          </p:nvGrpSpPr>
          <p:grpSpPr>
            <a:xfrm>
              <a:off x="2035440" y="1893600"/>
              <a:ext cx="1188720" cy="294120"/>
              <a:chOff x="2035440" y="1893600"/>
              <a:chExt cx="1188720" cy="294120"/>
            </a:xfrm>
          </p:grpSpPr>
          <p:sp>
            <p:nvSpPr>
              <p:cNvPr id="813" name="Line 144"/>
              <p:cNvSpPr/>
              <p:nvPr/>
            </p:nvSpPr>
            <p:spPr>
              <a:xfrm>
                <a:off x="2035440" y="2038320"/>
                <a:ext cx="30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Line 145"/>
              <p:cNvSpPr/>
              <p:nvPr/>
            </p:nvSpPr>
            <p:spPr>
              <a:xfrm flipV="1">
                <a:off x="2339640" y="1893600"/>
                <a:ext cx="7848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Line 146"/>
              <p:cNvSpPr/>
              <p:nvPr/>
            </p:nvSpPr>
            <p:spPr>
              <a:xfrm>
                <a:off x="2418480" y="1893960"/>
                <a:ext cx="160560" cy="29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Line 147"/>
              <p:cNvSpPr/>
              <p:nvPr/>
            </p:nvSpPr>
            <p:spPr>
              <a:xfrm flipV="1">
                <a:off x="2579400" y="1893960"/>
                <a:ext cx="159840" cy="29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Line 148"/>
              <p:cNvSpPr/>
              <p:nvPr/>
            </p:nvSpPr>
            <p:spPr>
              <a:xfrm>
                <a:off x="2739600" y="1893960"/>
                <a:ext cx="158400" cy="29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Line 149"/>
              <p:cNvSpPr/>
              <p:nvPr/>
            </p:nvSpPr>
            <p:spPr>
              <a:xfrm flipV="1">
                <a:off x="2898360" y="2037960"/>
                <a:ext cx="79200" cy="14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Line 150"/>
              <p:cNvSpPr/>
              <p:nvPr/>
            </p:nvSpPr>
            <p:spPr>
              <a:xfrm>
                <a:off x="2977560" y="2038320"/>
                <a:ext cx="246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0" name="Oval 151"/>
            <p:cNvSpPr/>
            <p:nvPr/>
          </p:nvSpPr>
          <p:spPr>
            <a:xfrm>
              <a:off x="3224160" y="1817640"/>
              <a:ext cx="439920" cy="439920"/>
            </a:xfrm>
            <a:prstGeom prst="ellipse">
              <a:avLst/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WP MathA"/>
                  <a:ea typeface="WP MathA"/>
                </a:rPr>
                <a:t>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Solar heating system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AutoShape 19"/>
          <p:cNvSpPr/>
          <p:nvPr/>
        </p:nvSpPr>
        <p:spPr>
          <a:xfrm>
            <a:off x="976320" y="1066680"/>
            <a:ext cx="609480" cy="609840"/>
          </a:xfrm>
          <a:prstGeom prst="sun">
            <a:avLst>
              <a:gd name="adj" fmla="val 25000"/>
            </a:avLst>
          </a:prstGeom>
          <a:solidFill>
            <a:srgbClr val="faf138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3" name="Group 22"/>
          <p:cNvGrpSpPr/>
          <p:nvPr/>
        </p:nvGrpSpPr>
        <p:grpSpPr>
          <a:xfrm>
            <a:off x="1654200" y="5629320"/>
            <a:ext cx="404640" cy="404640"/>
            <a:chOff x="1654200" y="5629320"/>
            <a:chExt cx="404640" cy="404640"/>
          </a:xfrm>
        </p:grpSpPr>
        <p:sp>
          <p:nvSpPr>
            <p:cNvPr id="824" name="Oval 20"/>
            <p:cNvSpPr/>
            <p:nvPr/>
          </p:nvSpPr>
          <p:spPr>
            <a:xfrm>
              <a:off x="1654200" y="5629320"/>
              <a:ext cx="404640" cy="404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AutoShape 21"/>
            <p:cNvSpPr/>
            <p:nvPr/>
          </p:nvSpPr>
          <p:spPr>
            <a:xfrm rot="16200000">
              <a:off x="1633680" y="5679360"/>
              <a:ext cx="350640" cy="303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Rectangle 23"/>
          <p:cNvSpPr/>
          <p:nvPr/>
        </p:nvSpPr>
        <p:spPr>
          <a:xfrm>
            <a:off x="3619440" y="3943440"/>
            <a:ext cx="1486080" cy="222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Rectangle 29"/>
          <p:cNvSpPr/>
          <p:nvPr/>
        </p:nvSpPr>
        <p:spPr>
          <a:xfrm>
            <a:off x="3376440" y="5138640"/>
            <a:ext cx="1506600" cy="619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Oval 31"/>
          <p:cNvSpPr/>
          <p:nvPr/>
        </p:nvSpPr>
        <p:spPr>
          <a:xfrm>
            <a:off x="4853160" y="5138640"/>
            <a:ext cx="61920" cy="61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9" name="Group 70"/>
          <p:cNvGrpSpPr/>
          <p:nvPr/>
        </p:nvGrpSpPr>
        <p:grpSpPr>
          <a:xfrm>
            <a:off x="3800160" y="5137200"/>
            <a:ext cx="1123200" cy="718560"/>
            <a:chOff x="3800160" y="5137200"/>
            <a:chExt cx="1123200" cy="718560"/>
          </a:xfrm>
        </p:grpSpPr>
        <p:grpSp>
          <p:nvGrpSpPr>
            <p:cNvPr id="830" name="Group 42"/>
            <p:cNvGrpSpPr/>
            <p:nvPr/>
          </p:nvGrpSpPr>
          <p:grpSpPr>
            <a:xfrm>
              <a:off x="3800160" y="5137200"/>
              <a:ext cx="1115640" cy="227160"/>
              <a:chOff x="3800160" y="5137200"/>
              <a:chExt cx="1115640" cy="227160"/>
            </a:xfrm>
          </p:grpSpPr>
          <p:grpSp>
            <p:nvGrpSpPr>
              <p:cNvPr id="831" name="Group 32"/>
              <p:cNvGrpSpPr/>
              <p:nvPr/>
            </p:nvGrpSpPr>
            <p:grpSpPr>
              <a:xfrm>
                <a:off x="3801600" y="5137200"/>
                <a:ext cx="1114200" cy="147240"/>
                <a:chOff x="3801600" y="5137200"/>
                <a:chExt cx="1114200" cy="147240"/>
              </a:xfrm>
            </p:grpSpPr>
            <p:sp>
              <p:nvSpPr>
                <p:cNvPr id="832" name="Rectangle 26"/>
                <p:cNvSpPr/>
                <p:nvPr/>
              </p:nvSpPr>
              <p:spPr>
                <a:xfrm flipH="1" rot="21334800">
                  <a:off x="3832560" y="5180040"/>
                  <a:ext cx="1051560" cy="615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Oval 27"/>
                <p:cNvSpPr/>
                <p:nvPr/>
              </p:nvSpPr>
              <p:spPr>
                <a:xfrm flipH="1" rot="21334800">
                  <a:off x="4851360" y="51393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4" name="Oval 28"/>
                <p:cNvSpPr/>
                <p:nvPr/>
              </p:nvSpPr>
              <p:spPr>
                <a:xfrm flipH="1" rot="21334800">
                  <a:off x="3803040" y="52203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5" name="Group 41"/>
              <p:cNvGrpSpPr/>
              <p:nvPr/>
            </p:nvGrpSpPr>
            <p:grpSpPr>
              <a:xfrm>
                <a:off x="3800160" y="5217480"/>
                <a:ext cx="1113840" cy="146880"/>
                <a:chOff x="3800160" y="5217480"/>
                <a:chExt cx="1113840" cy="146880"/>
              </a:xfrm>
            </p:grpSpPr>
            <p:sp>
              <p:nvSpPr>
                <p:cNvPr id="836" name="Rectangle 38"/>
                <p:cNvSpPr/>
                <p:nvPr/>
              </p:nvSpPr>
              <p:spPr>
                <a:xfrm flipH="1" rot="265800">
                  <a:off x="3831120" y="5259240"/>
                  <a:ext cx="1051200" cy="6120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Oval 39"/>
                <p:cNvSpPr/>
                <p:nvPr/>
              </p:nvSpPr>
              <p:spPr>
                <a:xfrm flipH="1" flipV="1" rot="265200">
                  <a:off x="4849920" y="53002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8" name="Oval 40"/>
                <p:cNvSpPr/>
                <p:nvPr/>
              </p:nvSpPr>
              <p:spPr>
                <a:xfrm flipH="1" flipV="1" rot="265200">
                  <a:off x="3802320" y="52192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9" name="Group 43"/>
            <p:cNvGrpSpPr/>
            <p:nvPr/>
          </p:nvGrpSpPr>
          <p:grpSpPr>
            <a:xfrm>
              <a:off x="3803040" y="5301000"/>
              <a:ext cx="1115640" cy="227160"/>
              <a:chOff x="3803040" y="5301000"/>
              <a:chExt cx="1115640" cy="227160"/>
            </a:xfrm>
          </p:grpSpPr>
          <p:grpSp>
            <p:nvGrpSpPr>
              <p:cNvPr id="840" name="Group 44"/>
              <p:cNvGrpSpPr/>
              <p:nvPr/>
            </p:nvGrpSpPr>
            <p:grpSpPr>
              <a:xfrm>
                <a:off x="3804480" y="5301000"/>
                <a:ext cx="1114200" cy="147240"/>
                <a:chOff x="3804480" y="5301000"/>
                <a:chExt cx="1114200" cy="147240"/>
              </a:xfrm>
            </p:grpSpPr>
            <p:sp>
              <p:nvSpPr>
                <p:cNvPr id="841" name="Rectangle 45"/>
                <p:cNvSpPr/>
                <p:nvPr/>
              </p:nvSpPr>
              <p:spPr>
                <a:xfrm flipH="1" rot="21334800">
                  <a:off x="3835440" y="5343840"/>
                  <a:ext cx="1051560" cy="615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Oval 46"/>
                <p:cNvSpPr/>
                <p:nvPr/>
              </p:nvSpPr>
              <p:spPr>
                <a:xfrm flipH="1" rot="21334800">
                  <a:off x="4854240" y="53031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3" name="Oval 47"/>
                <p:cNvSpPr/>
                <p:nvPr/>
              </p:nvSpPr>
              <p:spPr>
                <a:xfrm flipH="1" rot="21334800">
                  <a:off x="3805920" y="53841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4" name="Group 48"/>
              <p:cNvGrpSpPr/>
              <p:nvPr/>
            </p:nvGrpSpPr>
            <p:grpSpPr>
              <a:xfrm>
                <a:off x="3803040" y="5381280"/>
                <a:ext cx="1113840" cy="146880"/>
                <a:chOff x="3803040" y="5381280"/>
                <a:chExt cx="1113840" cy="146880"/>
              </a:xfrm>
            </p:grpSpPr>
            <p:sp>
              <p:nvSpPr>
                <p:cNvPr id="845" name="Rectangle 49"/>
                <p:cNvSpPr/>
                <p:nvPr/>
              </p:nvSpPr>
              <p:spPr>
                <a:xfrm flipH="1" rot="265800">
                  <a:off x="3834000" y="5423040"/>
                  <a:ext cx="1051200" cy="6120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Oval 50"/>
                <p:cNvSpPr/>
                <p:nvPr/>
              </p:nvSpPr>
              <p:spPr>
                <a:xfrm flipH="1" flipV="1" rot="265200">
                  <a:off x="4852800" y="54640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Oval 51"/>
                <p:cNvSpPr/>
                <p:nvPr/>
              </p:nvSpPr>
              <p:spPr>
                <a:xfrm flipH="1" flipV="1" rot="265200">
                  <a:off x="3805200" y="53830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48" name="Group 52"/>
            <p:cNvGrpSpPr/>
            <p:nvPr/>
          </p:nvGrpSpPr>
          <p:grpSpPr>
            <a:xfrm>
              <a:off x="3805560" y="5464800"/>
              <a:ext cx="1115640" cy="227160"/>
              <a:chOff x="3805560" y="5464800"/>
              <a:chExt cx="1115640" cy="227160"/>
            </a:xfrm>
          </p:grpSpPr>
          <p:grpSp>
            <p:nvGrpSpPr>
              <p:cNvPr id="849" name="Group 53"/>
              <p:cNvGrpSpPr/>
              <p:nvPr/>
            </p:nvGrpSpPr>
            <p:grpSpPr>
              <a:xfrm>
                <a:off x="3807000" y="5464800"/>
                <a:ext cx="1114200" cy="147240"/>
                <a:chOff x="3807000" y="5464800"/>
                <a:chExt cx="1114200" cy="147240"/>
              </a:xfrm>
            </p:grpSpPr>
            <p:sp>
              <p:nvSpPr>
                <p:cNvPr id="850" name="Rectangle 54"/>
                <p:cNvSpPr/>
                <p:nvPr/>
              </p:nvSpPr>
              <p:spPr>
                <a:xfrm flipH="1" rot="21334800">
                  <a:off x="3837960" y="5507640"/>
                  <a:ext cx="1051560" cy="615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1" name="Oval 55"/>
                <p:cNvSpPr/>
                <p:nvPr/>
              </p:nvSpPr>
              <p:spPr>
                <a:xfrm flipH="1" rot="21334800">
                  <a:off x="4856760" y="54669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2" name="Oval 56"/>
                <p:cNvSpPr/>
                <p:nvPr/>
              </p:nvSpPr>
              <p:spPr>
                <a:xfrm flipH="1" rot="21334800">
                  <a:off x="3808440" y="55479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3" name="Group 57"/>
              <p:cNvGrpSpPr/>
              <p:nvPr/>
            </p:nvGrpSpPr>
            <p:grpSpPr>
              <a:xfrm>
                <a:off x="3805560" y="5545080"/>
                <a:ext cx="1113840" cy="146880"/>
                <a:chOff x="3805560" y="5545080"/>
                <a:chExt cx="1113840" cy="146880"/>
              </a:xfrm>
            </p:grpSpPr>
            <p:sp>
              <p:nvSpPr>
                <p:cNvPr id="854" name="Rectangle 58"/>
                <p:cNvSpPr/>
                <p:nvPr/>
              </p:nvSpPr>
              <p:spPr>
                <a:xfrm flipH="1" rot="265800">
                  <a:off x="3836520" y="5586840"/>
                  <a:ext cx="1051200" cy="6120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5" name="Oval 59"/>
                <p:cNvSpPr/>
                <p:nvPr/>
              </p:nvSpPr>
              <p:spPr>
                <a:xfrm flipH="1" flipV="1" rot="265200">
                  <a:off x="4855320" y="56278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6" name="Oval 60"/>
                <p:cNvSpPr/>
                <p:nvPr/>
              </p:nvSpPr>
              <p:spPr>
                <a:xfrm flipH="1" flipV="1" rot="265200">
                  <a:off x="3807720" y="55468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7" name="Group 61"/>
            <p:cNvGrpSpPr/>
            <p:nvPr/>
          </p:nvGrpSpPr>
          <p:grpSpPr>
            <a:xfrm>
              <a:off x="3807720" y="5628600"/>
              <a:ext cx="1115640" cy="227160"/>
              <a:chOff x="3807720" y="5628600"/>
              <a:chExt cx="1115640" cy="227160"/>
            </a:xfrm>
          </p:grpSpPr>
          <p:grpSp>
            <p:nvGrpSpPr>
              <p:cNvPr id="858" name="Group 62"/>
              <p:cNvGrpSpPr/>
              <p:nvPr/>
            </p:nvGrpSpPr>
            <p:grpSpPr>
              <a:xfrm>
                <a:off x="3809160" y="5628600"/>
                <a:ext cx="1114200" cy="147240"/>
                <a:chOff x="3809160" y="5628600"/>
                <a:chExt cx="1114200" cy="147240"/>
              </a:xfrm>
            </p:grpSpPr>
            <p:sp>
              <p:nvSpPr>
                <p:cNvPr id="859" name="Rectangle 63"/>
                <p:cNvSpPr/>
                <p:nvPr/>
              </p:nvSpPr>
              <p:spPr>
                <a:xfrm flipH="1" rot="21334800">
                  <a:off x="3840120" y="5671440"/>
                  <a:ext cx="1051560" cy="615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0" name="Oval 64"/>
                <p:cNvSpPr/>
                <p:nvPr/>
              </p:nvSpPr>
              <p:spPr>
                <a:xfrm flipH="1" rot="21334800">
                  <a:off x="4858920" y="56307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1" name="Oval 65"/>
                <p:cNvSpPr/>
                <p:nvPr/>
              </p:nvSpPr>
              <p:spPr>
                <a:xfrm flipH="1" rot="21334800">
                  <a:off x="3810600" y="57117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2" name="Group 66"/>
              <p:cNvGrpSpPr/>
              <p:nvPr/>
            </p:nvGrpSpPr>
            <p:grpSpPr>
              <a:xfrm>
                <a:off x="3807720" y="5708880"/>
                <a:ext cx="1113840" cy="146880"/>
                <a:chOff x="3807720" y="5708880"/>
                <a:chExt cx="1113840" cy="146880"/>
              </a:xfrm>
            </p:grpSpPr>
            <p:sp>
              <p:nvSpPr>
                <p:cNvPr id="863" name="Rectangle 67"/>
                <p:cNvSpPr/>
                <p:nvPr/>
              </p:nvSpPr>
              <p:spPr>
                <a:xfrm flipH="1" rot="265800">
                  <a:off x="3838680" y="5750640"/>
                  <a:ext cx="1051200" cy="6120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4" name="Oval 68"/>
                <p:cNvSpPr/>
                <p:nvPr/>
              </p:nvSpPr>
              <p:spPr>
                <a:xfrm flipH="1" flipV="1" rot="265200">
                  <a:off x="4857480" y="57916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5" name="Oval 69"/>
                <p:cNvSpPr/>
                <p:nvPr/>
              </p:nvSpPr>
              <p:spPr>
                <a:xfrm flipH="1" flipV="1" rot="265200">
                  <a:off x="3809880" y="57106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66" name="Rectangle 71"/>
          <p:cNvSpPr/>
          <p:nvPr/>
        </p:nvSpPr>
        <p:spPr>
          <a:xfrm>
            <a:off x="3386160" y="5792760"/>
            <a:ext cx="1506600" cy="619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Rectangle 72"/>
          <p:cNvSpPr/>
          <p:nvPr/>
        </p:nvSpPr>
        <p:spPr>
          <a:xfrm>
            <a:off x="5813280" y="3943440"/>
            <a:ext cx="1484280" cy="222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8" name="Group 74"/>
          <p:cNvGrpSpPr/>
          <p:nvPr/>
        </p:nvGrpSpPr>
        <p:grpSpPr>
          <a:xfrm>
            <a:off x="4957920" y="6324480"/>
            <a:ext cx="404640" cy="405000"/>
            <a:chOff x="4957920" y="6324480"/>
            <a:chExt cx="404640" cy="405000"/>
          </a:xfrm>
        </p:grpSpPr>
        <p:sp>
          <p:nvSpPr>
            <p:cNvPr id="869" name="Oval 75"/>
            <p:cNvSpPr/>
            <p:nvPr/>
          </p:nvSpPr>
          <p:spPr>
            <a:xfrm>
              <a:off x="4957920" y="6324480"/>
              <a:ext cx="404640" cy="405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AutoShape 76"/>
            <p:cNvSpPr/>
            <p:nvPr/>
          </p:nvSpPr>
          <p:spPr>
            <a:xfrm rot="16200000">
              <a:off x="4937400" y="6374520"/>
              <a:ext cx="351000" cy="303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71" name="AutoShape 79"/>
          <p:cNvCxnSpPr>
            <a:stCxn id="866" idx="1"/>
            <a:endCxn id="824" idx="6"/>
          </p:cNvCxnSpPr>
          <p:nvPr/>
        </p:nvCxnSpPr>
        <p:spPr>
          <a:xfrm flipV="1" rot="10800000">
            <a:off x="2058120" y="5824080"/>
            <a:ext cx="1328040" cy="8640"/>
          </a:xfrm>
          <a:prstGeom prst="bentConnector3">
            <a:avLst>
              <a:gd name="adj1" fmla="val 50000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872" name="AutoShape 80"/>
          <p:cNvCxnSpPr>
            <a:stCxn id="825" idx="0"/>
            <a:endCxn id="873" idx="2"/>
          </p:cNvCxnSpPr>
          <p:nvPr/>
        </p:nvCxnSpPr>
        <p:spPr>
          <a:xfrm rot="10800000">
            <a:off x="726480" y="3199680"/>
            <a:ext cx="932400" cy="2634480"/>
          </a:xfrm>
          <a:prstGeom prst="bentConnector3">
            <a:avLst>
              <a:gd name="adj1" fmla="val 99111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874" name="AutoShape 81"/>
          <p:cNvCxnSpPr>
            <a:stCxn id="873" idx="0"/>
            <a:endCxn id="827" idx="1"/>
          </p:cNvCxnSpPr>
          <p:nvPr/>
        </p:nvCxnSpPr>
        <p:spPr>
          <a:xfrm>
            <a:off x="2452680" y="1643040"/>
            <a:ext cx="924480" cy="3528000"/>
          </a:xfrm>
          <a:prstGeom prst="bentConnector3">
            <a:avLst>
              <a:gd name="adj1" fmla="val 59446"/>
            </a:avLst>
          </a:prstGeom>
          <a:ln w="28440">
            <a:solidFill>
              <a:srgbClr val="3333cc"/>
            </a:solidFill>
            <a:miter/>
          </a:ln>
        </p:spPr>
      </p:cxnSp>
      <p:grpSp>
        <p:nvGrpSpPr>
          <p:cNvPr id="875" name="Group 86"/>
          <p:cNvGrpSpPr/>
          <p:nvPr/>
        </p:nvGrpSpPr>
        <p:grpSpPr>
          <a:xfrm>
            <a:off x="539280" y="1427040"/>
            <a:ext cx="2090160" cy="1971360"/>
            <a:chOff x="539280" y="1427040"/>
            <a:chExt cx="2090160" cy="1971360"/>
          </a:xfrm>
        </p:grpSpPr>
        <p:sp>
          <p:nvSpPr>
            <p:cNvPr id="876" name="Rectangle 85"/>
            <p:cNvSpPr/>
            <p:nvPr/>
          </p:nvSpPr>
          <p:spPr>
            <a:xfrm rot="2875200">
              <a:off x="1555560" y="1385640"/>
              <a:ext cx="269640" cy="2286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Rectangle 84"/>
            <p:cNvSpPr/>
            <p:nvPr/>
          </p:nvSpPr>
          <p:spPr>
            <a:xfrm rot="2875200">
              <a:off x="1531800" y="1290240"/>
              <a:ext cx="117360" cy="2286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Rectangle 82"/>
            <p:cNvSpPr/>
            <p:nvPr/>
          </p:nvSpPr>
          <p:spPr>
            <a:xfrm rot="2875200">
              <a:off x="1307880" y="1279440"/>
              <a:ext cx="565200" cy="2286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Rectangle 83"/>
            <p:cNvSpPr/>
            <p:nvPr/>
          </p:nvSpPr>
          <p:spPr>
            <a:xfrm rot="2875200">
              <a:off x="1368000" y="1093320"/>
              <a:ext cx="117360" cy="22860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9" name="Line 87"/>
          <p:cNvSpPr/>
          <p:nvPr/>
        </p:nvSpPr>
        <p:spPr>
          <a:xfrm>
            <a:off x="3871800" y="394344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Line 88"/>
          <p:cNvSpPr/>
          <p:nvPr/>
        </p:nvSpPr>
        <p:spPr>
          <a:xfrm>
            <a:off x="3892680" y="617076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Line 89"/>
          <p:cNvSpPr/>
          <p:nvPr/>
        </p:nvSpPr>
        <p:spPr>
          <a:xfrm>
            <a:off x="6086520" y="394344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Line 90"/>
          <p:cNvSpPr/>
          <p:nvPr/>
        </p:nvSpPr>
        <p:spPr>
          <a:xfrm>
            <a:off x="6086520" y="617076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3" name="AutoShape 91"/>
          <p:cNvCxnSpPr>
            <a:stCxn id="870" idx="0"/>
            <a:endCxn id="826" idx="2"/>
          </p:cNvCxnSpPr>
          <p:nvPr/>
        </p:nvCxnSpPr>
        <p:spPr>
          <a:xfrm rot="10800000">
            <a:off x="4361760" y="6170760"/>
            <a:ext cx="600840" cy="358920"/>
          </a:xfrm>
          <a:prstGeom prst="bentConnector2">
            <a:avLst/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884" name="AutoShape 92"/>
          <p:cNvCxnSpPr>
            <a:stCxn id="882" idx="0"/>
            <a:endCxn id="869" idx="6"/>
          </p:cNvCxnSpPr>
          <p:nvPr/>
        </p:nvCxnSpPr>
        <p:spPr>
          <a:xfrm rot="5400000">
            <a:off x="5545080" y="5987160"/>
            <a:ext cx="357840" cy="724680"/>
          </a:xfrm>
          <a:prstGeom prst="bentConnector4">
            <a:avLst>
              <a:gd name="adj1" fmla="val 101309"/>
              <a:gd name="adj2" fmla="val 50198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885" name="AutoShape 93"/>
          <p:cNvCxnSpPr>
            <a:stCxn id="881" idx="0"/>
            <a:endCxn id="826" idx="0"/>
          </p:cNvCxnSpPr>
          <p:nvPr/>
        </p:nvCxnSpPr>
        <p:spPr>
          <a:xfrm rot="5400000">
            <a:off x="5222880" y="3081960"/>
            <a:ext cx="2160" cy="1724760"/>
          </a:xfrm>
          <a:prstGeom prst="bentConnector3">
            <a:avLst>
              <a:gd name="adj1" fmla="val -14400000"/>
            </a:avLst>
          </a:prstGeom>
          <a:ln w="28440">
            <a:solidFill>
              <a:srgbClr val="3333cc"/>
            </a:solidFill>
            <a:miter/>
          </a:ln>
        </p:spPr>
      </p:cxnSp>
      <p:sp>
        <p:nvSpPr>
          <p:cNvPr id="886" name="Rectangle 94"/>
          <p:cNvSpPr/>
          <p:nvPr/>
        </p:nvSpPr>
        <p:spPr>
          <a:xfrm>
            <a:off x="6381720" y="3505320"/>
            <a:ext cx="304920" cy="21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AutoShape 95"/>
          <p:cNvSpPr/>
          <p:nvPr/>
        </p:nvSpPr>
        <p:spPr>
          <a:xfrm rot="10800000">
            <a:off x="6221520" y="5678280"/>
            <a:ext cx="627120" cy="247320"/>
          </a:xfrm>
          <a:custGeom>
            <a:avLst/>
            <a:gdLst>
              <a:gd name="textAreaLeft" fmla="*/ 130680 w 627120"/>
              <a:gd name="textAreaRight" fmla="*/ 496440 w 627120"/>
              <a:gd name="textAreaTop" fmla="*/ 51480 h 247320"/>
              <a:gd name="textAreaBottom" fmla="*/ 195840 h 247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Rectangle 96"/>
          <p:cNvSpPr/>
          <p:nvPr/>
        </p:nvSpPr>
        <p:spPr>
          <a:xfrm>
            <a:off x="5813280" y="5925960"/>
            <a:ext cx="1484280" cy="24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9" name="Group 113"/>
          <p:cNvGrpSpPr/>
          <p:nvPr/>
        </p:nvGrpSpPr>
        <p:grpSpPr>
          <a:xfrm>
            <a:off x="6861240" y="3303720"/>
            <a:ext cx="404640" cy="404640"/>
            <a:chOff x="6861240" y="3303720"/>
            <a:chExt cx="404640" cy="404640"/>
          </a:xfrm>
        </p:grpSpPr>
        <p:sp>
          <p:nvSpPr>
            <p:cNvPr id="890" name="Oval 114"/>
            <p:cNvSpPr/>
            <p:nvPr/>
          </p:nvSpPr>
          <p:spPr>
            <a:xfrm rot="5400000">
              <a:off x="6861240" y="3303720"/>
              <a:ext cx="404640" cy="404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AutoShape 115"/>
            <p:cNvSpPr/>
            <p:nvPr/>
          </p:nvSpPr>
          <p:spPr>
            <a:xfrm>
              <a:off x="6888600" y="3306960"/>
              <a:ext cx="350640" cy="303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92" name="AutoShape 116"/>
          <p:cNvCxnSpPr>
            <a:stCxn id="890" idx="6"/>
            <a:endCxn id="881" idx="1"/>
          </p:cNvCxnSpPr>
          <p:nvPr/>
        </p:nvCxnSpPr>
        <p:spPr>
          <a:xfrm rot="5400000">
            <a:off x="6947640" y="3825720"/>
            <a:ext cx="234000" cy="2520"/>
          </a:xfrm>
          <a:prstGeom prst="bentConnector3">
            <a:avLst>
              <a:gd name="adj1" fmla="val 96456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893" name="AutoShape 118"/>
          <p:cNvCxnSpPr>
            <a:stCxn id="894" idx="3"/>
            <a:endCxn id="882" idx="1"/>
          </p:cNvCxnSpPr>
          <p:nvPr/>
        </p:nvCxnSpPr>
        <p:spPr>
          <a:xfrm flipH="1">
            <a:off x="7063560" y="1504440"/>
            <a:ext cx="732600" cy="4666680"/>
          </a:xfrm>
          <a:prstGeom prst="bentConnector4">
            <a:avLst>
              <a:gd name="adj1" fmla="val -133579"/>
              <a:gd name="adj2" fmla="val 107313"/>
            </a:avLst>
          </a:prstGeom>
          <a:ln w="28440">
            <a:solidFill>
              <a:srgbClr val="3333cc"/>
            </a:solidFill>
            <a:miter/>
          </a:ln>
        </p:spPr>
      </p:cxnSp>
      <p:sp>
        <p:nvSpPr>
          <p:cNvPr id="895" name="Text Box 120"/>
          <p:cNvSpPr/>
          <p:nvPr/>
        </p:nvSpPr>
        <p:spPr>
          <a:xfrm>
            <a:off x="2927160" y="5978520"/>
            <a:ext cx="7779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ff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 Box 121"/>
          <p:cNvSpPr/>
          <p:nvPr/>
        </p:nvSpPr>
        <p:spPr>
          <a:xfrm>
            <a:off x="7348320" y="3944880"/>
            <a:ext cx="10144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s-fire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 Box 122"/>
          <p:cNvSpPr/>
          <p:nvPr/>
        </p:nvSpPr>
        <p:spPr>
          <a:xfrm>
            <a:off x="1586520" y="2517840"/>
            <a:ext cx="9824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a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Line 5"/>
          <p:cNvSpPr/>
          <p:nvPr/>
        </p:nvSpPr>
        <p:spPr>
          <a:xfrm>
            <a:off x="841680" y="1634760"/>
            <a:ext cx="675720" cy="7484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Line 123"/>
          <p:cNvSpPr/>
          <p:nvPr/>
        </p:nvSpPr>
        <p:spPr>
          <a:xfrm flipH="1" flipV="1">
            <a:off x="974160" y="2149200"/>
            <a:ext cx="398160" cy="640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Rectangle 124"/>
          <p:cNvSpPr/>
          <p:nvPr/>
        </p:nvSpPr>
        <p:spPr>
          <a:xfrm>
            <a:off x="4645080" y="1235160"/>
            <a:ext cx="3151080" cy="5382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Rectangle 125"/>
          <p:cNvSpPr/>
          <p:nvPr/>
        </p:nvSpPr>
        <p:spPr>
          <a:xfrm>
            <a:off x="4645080" y="2025720"/>
            <a:ext cx="3151080" cy="5382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1" name="AutoShape 126"/>
          <p:cNvCxnSpPr>
            <a:stCxn id="894" idx="1"/>
            <a:endCxn id="891" idx="0"/>
          </p:cNvCxnSpPr>
          <p:nvPr/>
        </p:nvCxnSpPr>
        <p:spPr>
          <a:xfrm flipH="1" flipV="1" rot="10800000">
            <a:off x="4645080" y="1503720"/>
            <a:ext cx="2419560" cy="1802520"/>
          </a:xfrm>
          <a:prstGeom prst="bentConnector4">
            <a:avLst>
              <a:gd name="adj1" fmla="val -26443"/>
              <a:gd name="adj2" fmla="val 85177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902" name="AutoShape 127"/>
          <p:cNvCxnSpPr>
            <a:stCxn id="891" idx="0"/>
            <a:endCxn id="900" idx="1"/>
          </p:cNvCxnSpPr>
          <p:nvPr/>
        </p:nvCxnSpPr>
        <p:spPr>
          <a:xfrm flipV="1" rot="16200000">
            <a:off x="5348880" y="1590840"/>
            <a:ext cx="1011960" cy="2419560"/>
          </a:xfrm>
          <a:prstGeom prst="bentConnector4">
            <a:avLst>
              <a:gd name="adj1" fmla="val 26192"/>
              <a:gd name="adj2" fmla="val 126383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903" name="AutoShape 128"/>
          <p:cNvCxnSpPr>
            <a:stCxn id="900" idx="3"/>
            <a:endCxn id="882" idx="1"/>
          </p:cNvCxnSpPr>
          <p:nvPr/>
        </p:nvCxnSpPr>
        <p:spPr>
          <a:xfrm flipH="1">
            <a:off x="7063560" y="2295000"/>
            <a:ext cx="732600" cy="3876120"/>
          </a:xfrm>
          <a:prstGeom prst="bentConnector4">
            <a:avLst>
              <a:gd name="adj1" fmla="val -135103"/>
              <a:gd name="adj2" fmla="val 109251"/>
            </a:avLst>
          </a:prstGeom>
          <a:ln w="28440">
            <a:solidFill>
              <a:srgbClr val="3333cc"/>
            </a:solidFill>
            <a:miter/>
          </a:ln>
        </p:spPr>
      </p:cxnSp>
      <p:sp>
        <p:nvSpPr>
          <p:cNvPr id="904" name="Text Box 129"/>
          <p:cNvSpPr/>
          <p:nvPr/>
        </p:nvSpPr>
        <p:spPr>
          <a:xfrm>
            <a:off x="7346880" y="2563920"/>
            <a:ext cx="10494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di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AutoShape 3"/>
          <p:cNvSpPr/>
          <p:nvPr/>
        </p:nvSpPr>
        <p:spPr>
          <a:xfrm>
            <a:off x="976320" y="1066680"/>
            <a:ext cx="609480" cy="609840"/>
          </a:xfrm>
          <a:prstGeom prst="sun">
            <a:avLst>
              <a:gd name="adj" fmla="val 25000"/>
            </a:avLst>
          </a:prstGeom>
          <a:solidFill>
            <a:srgbClr val="faf138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7" name="Group 4"/>
          <p:cNvGrpSpPr/>
          <p:nvPr/>
        </p:nvGrpSpPr>
        <p:grpSpPr>
          <a:xfrm>
            <a:off x="1654200" y="5629320"/>
            <a:ext cx="404640" cy="404640"/>
            <a:chOff x="1654200" y="5629320"/>
            <a:chExt cx="404640" cy="404640"/>
          </a:xfrm>
        </p:grpSpPr>
        <p:sp>
          <p:nvSpPr>
            <p:cNvPr id="908" name="Oval 5"/>
            <p:cNvSpPr/>
            <p:nvPr/>
          </p:nvSpPr>
          <p:spPr>
            <a:xfrm>
              <a:off x="1654200" y="5629320"/>
              <a:ext cx="404640" cy="404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AutoShape 6"/>
            <p:cNvSpPr/>
            <p:nvPr/>
          </p:nvSpPr>
          <p:spPr>
            <a:xfrm rot="16200000">
              <a:off x="1633680" y="5679360"/>
              <a:ext cx="350640" cy="303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0" name="Rectangle 7"/>
          <p:cNvSpPr/>
          <p:nvPr/>
        </p:nvSpPr>
        <p:spPr>
          <a:xfrm>
            <a:off x="3619440" y="3943440"/>
            <a:ext cx="1486080" cy="222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ectangle 8"/>
          <p:cNvSpPr/>
          <p:nvPr/>
        </p:nvSpPr>
        <p:spPr>
          <a:xfrm>
            <a:off x="3376440" y="5138640"/>
            <a:ext cx="1506600" cy="619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Oval 9"/>
          <p:cNvSpPr/>
          <p:nvPr/>
        </p:nvSpPr>
        <p:spPr>
          <a:xfrm>
            <a:off x="4853160" y="5138640"/>
            <a:ext cx="61920" cy="61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3" name="Group 10"/>
          <p:cNvGrpSpPr/>
          <p:nvPr/>
        </p:nvGrpSpPr>
        <p:grpSpPr>
          <a:xfrm>
            <a:off x="3800160" y="5137200"/>
            <a:ext cx="1123200" cy="718560"/>
            <a:chOff x="3800160" y="5137200"/>
            <a:chExt cx="1123200" cy="718560"/>
          </a:xfrm>
        </p:grpSpPr>
        <p:grpSp>
          <p:nvGrpSpPr>
            <p:cNvPr id="914" name="Group 11"/>
            <p:cNvGrpSpPr/>
            <p:nvPr/>
          </p:nvGrpSpPr>
          <p:grpSpPr>
            <a:xfrm>
              <a:off x="3800160" y="5137200"/>
              <a:ext cx="1115640" cy="227160"/>
              <a:chOff x="3800160" y="5137200"/>
              <a:chExt cx="1115640" cy="227160"/>
            </a:xfrm>
          </p:grpSpPr>
          <p:grpSp>
            <p:nvGrpSpPr>
              <p:cNvPr id="915" name="Group 12"/>
              <p:cNvGrpSpPr/>
              <p:nvPr/>
            </p:nvGrpSpPr>
            <p:grpSpPr>
              <a:xfrm>
                <a:off x="3801600" y="5137200"/>
                <a:ext cx="1114200" cy="147240"/>
                <a:chOff x="3801600" y="5137200"/>
                <a:chExt cx="1114200" cy="147240"/>
              </a:xfrm>
            </p:grpSpPr>
            <p:sp>
              <p:nvSpPr>
                <p:cNvPr id="916" name="Rectangle 13"/>
                <p:cNvSpPr/>
                <p:nvPr/>
              </p:nvSpPr>
              <p:spPr>
                <a:xfrm flipH="1" rot="21334800">
                  <a:off x="3832560" y="5180040"/>
                  <a:ext cx="1051560" cy="615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7" name="Oval 14"/>
                <p:cNvSpPr/>
                <p:nvPr/>
              </p:nvSpPr>
              <p:spPr>
                <a:xfrm flipH="1" rot="21334800">
                  <a:off x="4851360" y="51393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8" name="Oval 15"/>
                <p:cNvSpPr/>
                <p:nvPr/>
              </p:nvSpPr>
              <p:spPr>
                <a:xfrm flipH="1" rot="21334800">
                  <a:off x="3803040" y="52203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9" name="Group 16"/>
              <p:cNvGrpSpPr/>
              <p:nvPr/>
            </p:nvGrpSpPr>
            <p:grpSpPr>
              <a:xfrm>
                <a:off x="3800160" y="5217480"/>
                <a:ext cx="1113840" cy="146880"/>
                <a:chOff x="3800160" y="5217480"/>
                <a:chExt cx="1113840" cy="146880"/>
              </a:xfrm>
            </p:grpSpPr>
            <p:sp>
              <p:nvSpPr>
                <p:cNvPr id="920" name="Rectangle 17"/>
                <p:cNvSpPr/>
                <p:nvPr/>
              </p:nvSpPr>
              <p:spPr>
                <a:xfrm flipH="1" rot="265800">
                  <a:off x="3831120" y="5259240"/>
                  <a:ext cx="1051200" cy="6120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Oval 18"/>
                <p:cNvSpPr/>
                <p:nvPr/>
              </p:nvSpPr>
              <p:spPr>
                <a:xfrm flipH="1" flipV="1" rot="265200">
                  <a:off x="4849920" y="53002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2" name="Oval 19"/>
                <p:cNvSpPr/>
                <p:nvPr/>
              </p:nvSpPr>
              <p:spPr>
                <a:xfrm flipH="1" flipV="1" rot="265200">
                  <a:off x="3802320" y="52192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23" name="Group 20"/>
            <p:cNvGrpSpPr/>
            <p:nvPr/>
          </p:nvGrpSpPr>
          <p:grpSpPr>
            <a:xfrm>
              <a:off x="3803040" y="5301000"/>
              <a:ext cx="1115640" cy="227160"/>
              <a:chOff x="3803040" y="5301000"/>
              <a:chExt cx="1115640" cy="227160"/>
            </a:xfrm>
          </p:grpSpPr>
          <p:grpSp>
            <p:nvGrpSpPr>
              <p:cNvPr id="924" name="Group 21"/>
              <p:cNvGrpSpPr/>
              <p:nvPr/>
            </p:nvGrpSpPr>
            <p:grpSpPr>
              <a:xfrm>
                <a:off x="3804480" y="5301000"/>
                <a:ext cx="1114200" cy="147240"/>
                <a:chOff x="3804480" y="5301000"/>
                <a:chExt cx="1114200" cy="147240"/>
              </a:xfrm>
            </p:grpSpPr>
            <p:sp>
              <p:nvSpPr>
                <p:cNvPr id="925" name="Rectangle 22"/>
                <p:cNvSpPr/>
                <p:nvPr/>
              </p:nvSpPr>
              <p:spPr>
                <a:xfrm flipH="1" rot="21334800">
                  <a:off x="3835440" y="5343840"/>
                  <a:ext cx="1051560" cy="615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Oval 23"/>
                <p:cNvSpPr/>
                <p:nvPr/>
              </p:nvSpPr>
              <p:spPr>
                <a:xfrm flipH="1" rot="21334800">
                  <a:off x="4854240" y="53031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7" name="Oval 24"/>
                <p:cNvSpPr/>
                <p:nvPr/>
              </p:nvSpPr>
              <p:spPr>
                <a:xfrm flipH="1" rot="21334800">
                  <a:off x="3805920" y="53841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8" name="Group 25"/>
              <p:cNvGrpSpPr/>
              <p:nvPr/>
            </p:nvGrpSpPr>
            <p:grpSpPr>
              <a:xfrm>
                <a:off x="3803040" y="5381280"/>
                <a:ext cx="1113840" cy="146880"/>
                <a:chOff x="3803040" y="5381280"/>
                <a:chExt cx="1113840" cy="146880"/>
              </a:xfrm>
            </p:grpSpPr>
            <p:sp>
              <p:nvSpPr>
                <p:cNvPr id="929" name="Rectangle 26"/>
                <p:cNvSpPr/>
                <p:nvPr/>
              </p:nvSpPr>
              <p:spPr>
                <a:xfrm flipH="1" rot="265800">
                  <a:off x="3834000" y="5423040"/>
                  <a:ext cx="1051200" cy="6120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0" name="Oval 27"/>
                <p:cNvSpPr/>
                <p:nvPr/>
              </p:nvSpPr>
              <p:spPr>
                <a:xfrm flipH="1" flipV="1" rot="265200">
                  <a:off x="4852800" y="54640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1" name="Oval 28"/>
                <p:cNvSpPr/>
                <p:nvPr/>
              </p:nvSpPr>
              <p:spPr>
                <a:xfrm flipH="1" flipV="1" rot="265200">
                  <a:off x="3805200" y="53830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32" name="Group 29"/>
            <p:cNvGrpSpPr/>
            <p:nvPr/>
          </p:nvGrpSpPr>
          <p:grpSpPr>
            <a:xfrm>
              <a:off x="3805560" y="5464800"/>
              <a:ext cx="1115640" cy="227160"/>
              <a:chOff x="3805560" y="5464800"/>
              <a:chExt cx="1115640" cy="227160"/>
            </a:xfrm>
          </p:grpSpPr>
          <p:grpSp>
            <p:nvGrpSpPr>
              <p:cNvPr id="933" name="Group 30"/>
              <p:cNvGrpSpPr/>
              <p:nvPr/>
            </p:nvGrpSpPr>
            <p:grpSpPr>
              <a:xfrm>
                <a:off x="3807000" y="5464800"/>
                <a:ext cx="1114200" cy="147240"/>
                <a:chOff x="3807000" y="5464800"/>
                <a:chExt cx="1114200" cy="147240"/>
              </a:xfrm>
            </p:grpSpPr>
            <p:sp>
              <p:nvSpPr>
                <p:cNvPr id="934" name="Rectangle 31"/>
                <p:cNvSpPr/>
                <p:nvPr/>
              </p:nvSpPr>
              <p:spPr>
                <a:xfrm flipH="1" rot="21334800">
                  <a:off x="3837960" y="5507640"/>
                  <a:ext cx="1051560" cy="615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5" name="Oval 32"/>
                <p:cNvSpPr/>
                <p:nvPr/>
              </p:nvSpPr>
              <p:spPr>
                <a:xfrm flipH="1" rot="21334800">
                  <a:off x="4856760" y="54669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6" name="Oval 33"/>
                <p:cNvSpPr/>
                <p:nvPr/>
              </p:nvSpPr>
              <p:spPr>
                <a:xfrm flipH="1" rot="21334800">
                  <a:off x="3808440" y="55479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7" name="Group 34"/>
              <p:cNvGrpSpPr/>
              <p:nvPr/>
            </p:nvGrpSpPr>
            <p:grpSpPr>
              <a:xfrm>
                <a:off x="3805560" y="5545080"/>
                <a:ext cx="1113840" cy="146880"/>
                <a:chOff x="3805560" y="5545080"/>
                <a:chExt cx="1113840" cy="146880"/>
              </a:xfrm>
            </p:grpSpPr>
            <p:sp>
              <p:nvSpPr>
                <p:cNvPr id="938" name="Rectangle 35"/>
                <p:cNvSpPr/>
                <p:nvPr/>
              </p:nvSpPr>
              <p:spPr>
                <a:xfrm flipH="1" rot="265800">
                  <a:off x="3836520" y="5586840"/>
                  <a:ext cx="1051200" cy="6120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9" name="Oval 36"/>
                <p:cNvSpPr/>
                <p:nvPr/>
              </p:nvSpPr>
              <p:spPr>
                <a:xfrm flipH="1" flipV="1" rot="265200">
                  <a:off x="4855320" y="56278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0" name="Oval 37"/>
                <p:cNvSpPr/>
                <p:nvPr/>
              </p:nvSpPr>
              <p:spPr>
                <a:xfrm flipH="1" flipV="1" rot="265200">
                  <a:off x="3807720" y="55468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41" name="Group 38"/>
            <p:cNvGrpSpPr/>
            <p:nvPr/>
          </p:nvGrpSpPr>
          <p:grpSpPr>
            <a:xfrm>
              <a:off x="3807720" y="5628600"/>
              <a:ext cx="1115640" cy="227160"/>
              <a:chOff x="3807720" y="5628600"/>
              <a:chExt cx="1115640" cy="227160"/>
            </a:xfrm>
          </p:grpSpPr>
          <p:grpSp>
            <p:nvGrpSpPr>
              <p:cNvPr id="942" name="Group 39"/>
              <p:cNvGrpSpPr/>
              <p:nvPr/>
            </p:nvGrpSpPr>
            <p:grpSpPr>
              <a:xfrm>
                <a:off x="3809160" y="5628600"/>
                <a:ext cx="1114200" cy="147240"/>
                <a:chOff x="3809160" y="5628600"/>
                <a:chExt cx="1114200" cy="147240"/>
              </a:xfrm>
            </p:grpSpPr>
            <p:sp>
              <p:nvSpPr>
                <p:cNvPr id="943" name="Rectangle 40"/>
                <p:cNvSpPr/>
                <p:nvPr/>
              </p:nvSpPr>
              <p:spPr>
                <a:xfrm flipH="1" rot="21334800">
                  <a:off x="3840120" y="5671440"/>
                  <a:ext cx="1051560" cy="615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4" name="Oval 41"/>
                <p:cNvSpPr/>
                <p:nvPr/>
              </p:nvSpPr>
              <p:spPr>
                <a:xfrm flipH="1" rot="21334800">
                  <a:off x="4858920" y="56307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5" name="Oval 42"/>
                <p:cNvSpPr/>
                <p:nvPr/>
              </p:nvSpPr>
              <p:spPr>
                <a:xfrm flipH="1" rot="21334800">
                  <a:off x="3810600" y="57117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6" name="Group 43"/>
              <p:cNvGrpSpPr/>
              <p:nvPr/>
            </p:nvGrpSpPr>
            <p:grpSpPr>
              <a:xfrm>
                <a:off x="3807720" y="5708880"/>
                <a:ext cx="1113840" cy="146880"/>
                <a:chOff x="3807720" y="5708880"/>
                <a:chExt cx="1113840" cy="146880"/>
              </a:xfrm>
            </p:grpSpPr>
            <p:sp>
              <p:nvSpPr>
                <p:cNvPr id="947" name="Rectangle 44"/>
                <p:cNvSpPr/>
                <p:nvPr/>
              </p:nvSpPr>
              <p:spPr>
                <a:xfrm flipH="1" rot="265800">
                  <a:off x="3838680" y="5750640"/>
                  <a:ext cx="1051200" cy="6120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8" name="Oval 45"/>
                <p:cNvSpPr/>
                <p:nvPr/>
              </p:nvSpPr>
              <p:spPr>
                <a:xfrm flipH="1" flipV="1" rot="265200">
                  <a:off x="4857480" y="57916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9" name="Oval 46"/>
                <p:cNvSpPr/>
                <p:nvPr/>
              </p:nvSpPr>
              <p:spPr>
                <a:xfrm flipH="1" flipV="1" rot="265200">
                  <a:off x="3809880" y="57106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50" name="Rectangle 47"/>
          <p:cNvSpPr/>
          <p:nvPr/>
        </p:nvSpPr>
        <p:spPr>
          <a:xfrm>
            <a:off x="3386160" y="5792760"/>
            <a:ext cx="1506600" cy="619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Rectangle 48"/>
          <p:cNvSpPr/>
          <p:nvPr/>
        </p:nvSpPr>
        <p:spPr>
          <a:xfrm>
            <a:off x="5813280" y="3943440"/>
            <a:ext cx="1484280" cy="222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2" name="Group 49"/>
          <p:cNvGrpSpPr/>
          <p:nvPr/>
        </p:nvGrpSpPr>
        <p:grpSpPr>
          <a:xfrm>
            <a:off x="4957920" y="6324480"/>
            <a:ext cx="404640" cy="405000"/>
            <a:chOff x="4957920" y="6324480"/>
            <a:chExt cx="404640" cy="405000"/>
          </a:xfrm>
        </p:grpSpPr>
        <p:sp>
          <p:nvSpPr>
            <p:cNvPr id="953" name="Oval 50"/>
            <p:cNvSpPr/>
            <p:nvPr/>
          </p:nvSpPr>
          <p:spPr>
            <a:xfrm>
              <a:off x="4957920" y="6324480"/>
              <a:ext cx="404640" cy="405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AutoShape 51"/>
            <p:cNvSpPr/>
            <p:nvPr/>
          </p:nvSpPr>
          <p:spPr>
            <a:xfrm rot="16200000">
              <a:off x="4937400" y="6374520"/>
              <a:ext cx="351000" cy="303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955" name="AutoShape 52"/>
          <p:cNvCxnSpPr>
            <a:stCxn id="950" idx="1"/>
            <a:endCxn id="908" idx="6"/>
          </p:cNvCxnSpPr>
          <p:nvPr/>
        </p:nvCxnSpPr>
        <p:spPr>
          <a:xfrm flipV="1" rot="10800000">
            <a:off x="2058120" y="5824080"/>
            <a:ext cx="1328040" cy="8640"/>
          </a:xfrm>
          <a:prstGeom prst="bentConnector3">
            <a:avLst>
              <a:gd name="adj1" fmla="val 50000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956" name="AutoShape 53"/>
          <p:cNvCxnSpPr>
            <a:stCxn id="909" idx="0"/>
            <a:endCxn id="957" idx="2"/>
          </p:cNvCxnSpPr>
          <p:nvPr/>
        </p:nvCxnSpPr>
        <p:spPr>
          <a:xfrm rot="10800000">
            <a:off x="726480" y="3199680"/>
            <a:ext cx="932400" cy="2634480"/>
          </a:xfrm>
          <a:prstGeom prst="bentConnector3">
            <a:avLst>
              <a:gd name="adj1" fmla="val 99111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958" name="AutoShape 54"/>
          <p:cNvCxnSpPr>
            <a:stCxn id="957" idx="0"/>
            <a:endCxn id="911" idx="1"/>
          </p:cNvCxnSpPr>
          <p:nvPr/>
        </p:nvCxnSpPr>
        <p:spPr>
          <a:xfrm>
            <a:off x="2452680" y="1643040"/>
            <a:ext cx="924480" cy="3528000"/>
          </a:xfrm>
          <a:prstGeom prst="bentConnector3">
            <a:avLst>
              <a:gd name="adj1" fmla="val 59446"/>
            </a:avLst>
          </a:prstGeom>
          <a:ln w="28440">
            <a:solidFill>
              <a:srgbClr val="3333cc"/>
            </a:solidFill>
            <a:miter/>
          </a:ln>
        </p:spPr>
      </p:cxnSp>
      <p:grpSp>
        <p:nvGrpSpPr>
          <p:cNvPr id="959" name="Group 55"/>
          <p:cNvGrpSpPr/>
          <p:nvPr/>
        </p:nvGrpSpPr>
        <p:grpSpPr>
          <a:xfrm>
            <a:off x="539280" y="1427040"/>
            <a:ext cx="2090160" cy="1971360"/>
            <a:chOff x="539280" y="1427040"/>
            <a:chExt cx="2090160" cy="1971360"/>
          </a:xfrm>
        </p:grpSpPr>
        <p:sp>
          <p:nvSpPr>
            <p:cNvPr id="960" name="Rectangle 56"/>
            <p:cNvSpPr/>
            <p:nvPr/>
          </p:nvSpPr>
          <p:spPr>
            <a:xfrm rot="2875200">
              <a:off x="1555560" y="1385640"/>
              <a:ext cx="269640" cy="2286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Rectangle 57"/>
            <p:cNvSpPr/>
            <p:nvPr/>
          </p:nvSpPr>
          <p:spPr>
            <a:xfrm rot="2875200">
              <a:off x="1531800" y="1290240"/>
              <a:ext cx="117360" cy="2286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Rectangle 58"/>
            <p:cNvSpPr/>
            <p:nvPr/>
          </p:nvSpPr>
          <p:spPr>
            <a:xfrm rot="2875200">
              <a:off x="1307880" y="1279440"/>
              <a:ext cx="565200" cy="2286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Rectangle 59"/>
            <p:cNvSpPr/>
            <p:nvPr/>
          </p:nvSpPr>
          <p:spPr>
            <a:xfrm rot="2875200">
              <a:off x="1368000" y="1093320"/>
              <a:ext cx="117360" cy="22860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3" name="Line 60"/>
          <p:cNvSpPr/>
          <p:nvPr/>
        </p:nvSpPr>
        <p:spPr>
          <a:xfrm>
            <a:off x="3871800" y="394344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Line 61"/>
          <p:cNvSpPr/>
          <p:nvPr/>
        </p:nvSpPr>
        <p:spPr>
          <a:xfrm>
            <a:off x="3892680" y="617076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Line 62"/>
          <p:cNvSpPr/>
          <p:nvPr/>
        </p:nvSpPr>
        <p:spPr>
          <a:xfrm>
            <a:off x="6086520" y="394344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Line 63"/>
          <p:cNvSpPr/>
          <p:nvPr/>
        </p:nvSpPr>
        <p:spPr>
          <a:xfrm>
            <a:off x="6086520" y="617076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7" name="AutoShape 64"/>
          <p:cNvCxnSpPr>
            <a:stCxn id="954" idx="0"/>
            <a:endCxn id="910" idx="2"/>
          </p:cNvCxnSpPr>
          <p:nvPr/>
        </p:nvCxnSpPr>
        <p:spPr>
          <a:xfrm rot="10800000">
            <a:off x="4361760" y="6170760"/>
            <a:ext cx="600840" cy="358920"/>
          </a:xfrm>
          <a:prstGeom prst="bentConnector2">
            <a:avLst/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968" name="AutoShape 65"/>
          <p:cNvCxnSpPr>
            <a:stCxn id="966" idx="0"/>
            <a:endCxn id="953" idx="6"/>
          </p:cNvCxnSpPr>
          <p:nvPr/>
        </p:nvCxnSpPr>
        <p:spPr>
          <a:xfrm rot="5400000">
            <a:off x="5545080" y="5987160"/>
            <a:ext cx="357840" cy="724680"/>
          </a:xfrm>
          <a:prstGeom prst="bentConnector4">
            <a:avLst>
              <a:gd name="adj1" fmla="val 101309"/>
              <a:gd name="adj2" fmla="val 50198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969" name="AutoShape 66"/>
          <p:cNvCxnSpPr>
            <a:stCxn id="965" idx="0"/>
            <a:endCxn id="910" idx="0"/>
          </p:cNvCxnSpPr>
          <p:nvPr/>
        </p:nvCxnSpPr>
        <p:spPr>
          <a:xfrm rot="5400000">
            <a:off x="5222880" y="3081960"/>
            <a:ext cx="2160" cy="1724760"/>
          </a:xfrm>
          <a:prstGeom prst="bentConnector3">
            <a:avLst>
              <a:gd name="adj1" fmla="val -14400000"/>
            </a:avLst>
          </a:prstGeom>
          <a:ln w="28440">
            <a:solidFill>
              <a:srgbClr val="3333cc"/>
            </a:solidFill>
            <a:miter/>
          </a:ln>
        </p:spPr>
      </p:cxnSp>
      <p:sp>
        <p:nvSpPr>
          <p:cNvPr id="970" name="Rectangle 67"/>
          <p:cNvSpPr/>
          <p:nvPr/>
        </p:nvSpPr>
        <p:spPr>
          <a:xfrm>
            <a:off x="6381720" y="3505320"/>
            <a:ext cx="304920" cy="21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AutoShape 68"/>
          <p:cNvSpPr/>
          <p:nvPr/>
        </p:nvSpPr>
        <p:spPr>
          <a:xfrm rot="10800000">
            <a:off x="6221520" y="5678280"/>
            <a:ext cx="627120" cy="247320"/>
          </a:xfrm>
          <a:custGeom>
            <a:avLst/>
            <a:gdLst>
              <a:gd name="textAreaLeft" fmla="*/ 130680 w 627120"/>
              <a:gd name="textAreaRight" fmla="*/ 496440 w 627120"/>
              <a:gd name="textAreaTop" fmla="*/ 51480 h 247320"/>
              <a:gd name="textAreaBottom" fmla="*/ 195840 h 247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Rectangle 69"/>
          <p:cNvSpPr/>
          <p:nvPr/>
        </p:nvSpPr>
        <p:spPr>
          <a:xfrm>
            <a:off x="5813280" y="5925960"/>
            <a:ext cx="1484280" cy="24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3" name="Group 70"/>
          <p:cNvGrpSpPr/>
          <p:nvPr/>
        </p:nvGrpSpPr>
        <p:grpSpPr>
          <a:xfrm>
            <a:off x="6861240" y="3303720"/>
            <a:ext cx="404640" cy="404640"/>
            <a:chOff x="6861240" y="3303720"/>
            <a:chExt cx="404640" cy="404640"/>
          </a:xfrm>
        </p:grpSpPr>
        <p:sp>
          <p:nvSpPr>
            <p:cNvPr id="974" name="Oval 71"/>
            <p:cNvSpPr/>
            <p:nvPr/>
          </p:nvSpPr>
          <p:spPr>
            <a:xfrm rot="5400000">
              <a:off x="6861240" y="3303720"/>
              <a:ext cx="404640" cy="404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AutoShape 72"/>
            <p:cNvSpPr/>
            <p:nvPr/>
          </p:nvSpPr>
          <p:spPr>
            <a:xfrm>
              <a:off x="6888600" y="3306960"/>
              <a:ext cx="350640" cy="303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976" name="AutoShape 73"/>
          <p:cNvCxnSpPr>
            <a:stCxn id="974" idx="6"/>
            <a:endCxn id="965" idx="1"/>
          </p:cNvCxnSpPr>
          <p:nvPr/>
        </p:nvCxnSpPr>
        <p:spPr>
          <a:xfrm rot="5400000">
            <a:off x="6947640" y="3825720"/>
            <a:ext cx="234000" cy="2520"/>
          </a:xfrm>
          <a:prstGeom prst="bentConnector3">
            <a:avLst>
              <a:gd name="adj1" fmla="val 96456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977" name="AutoShape 74"/>
          <p:cNvCxnSpPr>
            <a:stCxn id="978" idx="3"/>
            <a:endCxn id="966" idx="1"/>
          </p:cNvCxnSpPr>
          <p:nvPr/>
        </p:nvCxnSpPr>
        <p:spPr>
          <a:xfrm flipH="1">
            <a:off x="7063560" y="1504440"/>
            <a:ext cx="732600" cy="4666680"/>
          </a:xfrm>
          <a:prstGeom prst="bentConnector4">
            <a:avLst>
              <a:gd name="adj1" fmla="val -133579"/>
              <a:gd name="adj2" fmla="val 107313"/>
            </a:avLst>
          </a:prstGeom>
          <a:ln w="28440">
            <a:solidFill>
              <a:srgbClr val="3333cc"/>
            </a:solidFill>
            <a:miter/>
          </a:ln>
        </p:spPr>
      </p:cxnSp>
      <p:sp>
        <p:nvSpPr>
          <p:cNvPr id="979" name="Text Box 75"/>
          <p:cNvSpPr/>
          <p:nvPr/>
        </p:nvSpPr>
        <p:spPr>
          <a:xfrm>
            <a:off x="2927160" y="5978520"/>
            <a:ext cx="7779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ff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 Box 76"/>
          <p:cNvSpPr/>
          <p:nvPr/>
        </p:nvSpPr>
        <p:spPr>
          <a:xfrm>
            <a:off x="7348320" y="3944880"/>
            <a:ext cx="10144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s-fire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Text Box 77"/>
          <p:cNvSpPr/>
          <p:nvPr/>
        </p:nvSpPr>
        <p:spPr>
          <a:xfrm>
            <a:off x="1586520" y="2517840"/>
            <a:ext cx="9824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a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Line 78"/>
          <p:cNvSpPr/>
          <p:nvPr/>
        </p:nvSpPr>
        <p:spPr>
          <a:xfrm>
            <a:off x="841680" y="1634760"/>
            <a:ext cx="675720" cy="7484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Line 79"/>
          <p:cNvSpPr/>
          <p:nvPr/>
        </p:nvSpPr>
        <p:spPr>
          <a:xfrm flipH="1" flipV="1">
            <a:off x="974160" y="2149200"/>
            <a:ext cx="398160" cy="640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Rectangle 80"/>
          <p:cNvSpPr/>
          <p:nvPr/>
        </p:nvSpPr>
        <p:spPr>
          <a:xfrm>
            <a:off x="4645080" y="1235160"/>
            <a:ext cx="3151080" cy="5382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Rectangle 81"/>
          <p:cNvSpPr/>
          <p:nvPr/>
        </p:nvSpPr>
        <p:spPr>
          <a:xfrm>
            <a:off x="4645080" y="2025720"/>
            <a:ext cx="3151080" cy="5382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5" name="AutoShape 82"/>
          <p:cNvCxnSpPr>
            <a:stCxn id="978" idx="1"/>
            <a:endCxn id="975" idx="0"/>
          </p:cNvCxnSpPr>
          <p:nvPr/>
        </p:nvCxnSpPr>
        <p:spPr>
          <a:xfrm flipH="1" flipV="1" rot="10800000">
            <a:off x="4645080" y="1503720"/>
            <a:ext cx="2419560" cy="1802520"/>
          </a:xfrm>
          <a:prstGeom prst="bentConnector4">
            <a:avLst>
              <a:gd name="adj1" fmla="val -26443"/>
              <a:gd name="adj2" fmla="val 85177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986" name="AutoShape 83"/>
          <p:cNvCxnSpPr>
            <a:stCxn id="975" idx="0"/>
            <a:endCxn id="984" idx="1"/>
          </p:cNvCxnSpPr>
          <p:nvPr/>
        </p:nvCxnSpPr>
        <p:spPr>
          <a:xfrm flipV="1" rot="16200000">
            <a:off x="5348880" y="1590840"/>
            <a:ext cx="1011960" cy="2419560"/>
          </a:xfrm>
          <a:prstGeom prst="bentConnector4">
            <a:avLst>
              <a:gd name="adj1" fmla="val 26192"/>
              <a:gd name="adj2" fmla="val 126383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987" name="AutoShape 84"/>
          <p:cNvCxnSpPr>
            <a:stCxn id="984" idx="3"/>
            <a:endCxn id="966" idx="1"/>
          </p:cNvCxnSpPr>
          <p:nvPr/>
        </p:nvCxnSpPr>
        <p:spPr>
          <a:xfrm flipH="1">
            <a:off x="7063560" y="2295000"/>
            <a:ext cx="732600" cy="3876120"/>
          </a:xfrm>
          <a:prstGeom prst="bentConnector4">
            <a:avLst>
              <a:gd name="adj1" fmla="val -135103"/>
              <a:gd name="adj2" fmla="val 109251"/>
            </a:avLst>
          </a:prstGeom>
          <a:ln w="28440">
            <a:solidFill>
              <a:srgbClr val="3333cc"/>
            </a:solidFill>
            <a:miter/>
          </a:ln>
        </p:spPr>
      </p:cxnSp>
      <p:sp>
        <p:nvSpPr>
          <p:cNvPr id="988" name="Text Box 85"/>
          <p:cNvSpPr/>
          <p:nvPr/>
        </p:nvSpPr>
        <p:spPr>
          <a:xfrm>
            <a:off x="7346880" y="2563920"/>
            <a:ext cx="10494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di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Oval 86"/>
          <p:cNvSpPr/>
          <p:nvPr/>
        </p:nvSpPr>
        <p:spPr>
          <a:xfrm>
            <a:off x="6675480" y="3097080"/>
            <a:ext cx="815760" cy="816120"/>
          </a:xfrm>
          <a:prstGeom prst="ellipse">
            <a:avLst/>
          </a:prstGeom>
          <a:solidFill>
            <a:srgbClr val="faf138">
              <a:alpha val="30000"/>
            </a:srgbClr>
          </a:solidFill>
          <a:ln w="38160">
            <a:solidFill>
              <a:srgbClr val="faf1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Oval 87"/>
          <p:cNvSpPr/>
          <p:nvPr/>
        </p:nvSpPr>
        <p:spPr>
          <a:xfrm>
            <a:off x="4741920" y="6075360"/>
            <a:ext cx="815760" cy="816120"/>
          </a:xfrm>
          <a:prstGeom prst="ellipse">
            <a:avLst/>
          </a:prstGeom>
          <a:solidFill>
            <a:srgbClr val="faf138">
              <a:alpha val="30000"/>
            </a:srgbClr>
          </a:solidFill>
          <a:ln w="38160">
            <a:solidFill>
              <a:srgbClr val="faf1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Oval 88"/>
          <p:cNvSpPr/>
          <p:nvPr/>
        </p:nvSpPr>
        <p:spPr>
          <a:xfrm>
            <a:off x="1474920" y="5424480"/>
            <a:ext cx="815760" cy="816120"/>
          </a:xfrm>
          <a:prstGeom prst="ellipse">
            <a:avLst/>
          </a:prstGeom>
          <a:solidFill>
            <a:srgbClr val="faf138">
              <a:alpha val="30000"/>
            </a:srgbClr>
          </a:solidFill>
          <a:ln w="38160">
            <a:solidFill>
              <a:srgbClr val="faf1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Oval 89"/>
          <p:cNvSpPr/>
          <p:nvPr/>
        </p:nvSpPr>
        <p:spPr>
          <a:xfrm>
            <a:off x="6086520" y="5527800"/>
            <a:ext cx="815760" cy="815760"/>
          </a:xfrm>
          <a:prstGeom prst="ellipse">
            <a:avLst/>
          </a:prstGeom>
          <a:solidFill>
            <a:srgbClr val="faf138">
              <a:alpha val="30000"/>
            </a:srgbClr>
          </a:solidFill>
          <a:ln w="38160">
            <a:solidFill>
              <a:srgbClr val="faf1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ontrols: Buffer tank pump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AutoShape 3"/>
          <p:cNvSpPr/>
          <p:nvPr/>
        </p:nvSpPr>
        <p:spPr>
          <a:xfrm>
            <a:off x="1879560" y="1066680"/>
            <a:ext cx="609480" cy="609840"/>
          </a:xfrm>
          <a:prstGeom prst="sun">
            <a:avLst>
              <a:gd name="adj" fmla="val 25000"/>
            </a:avLst>
          </a:prstGeom>
          <a:solidFill>
            <a:srgbClr val="faf138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5" name="Group 4"/>
          <p:cNvGrpSpPr/>
          <p:nvPr/>
        </p:nvGrpSpPr>
        <p:grpSpPr>
          <a:xfrm>
            <a:off x="2557440" y="5629320"/>
            <a:ext cx="405000" cy="404640"/>
            <a:chOff x="2557440" y="5629320"/>
            <a:chExt cx="405000" cy="404640"/>
          </a:xfrm>
        </p:grpSpPr>
        <p:sp>
          <p:nvSpPr>
            <p:cNvPr id="996" name="Oval 5"/>
            <p:cNvSpPr/>
            <p:nvPr/>
          </p:nvSpPr>
          <p:spPr>
            <a:xfrm>
              <a:off x="2557440" y="5629320"/>
              <a:ext cx="405000" cy="404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AutoShape 6"/>
            <p:cNvSpPr/>
            <p:nvPr/>
          </p:nvSpPr>
          <p:spPr>
            <a:xfrm rot="16200000">
              <a:off x="2537280" y="5679360"/>
              <a:ext cx="350640" cy="3038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8" name="Rectangle 7"/>
          <p:cNvSpPr/>
          <p:nvPr/>
        </p:nvSpPr>
        <p:spPr>
          <a:xfrm>
            <a:off x="4280040" y="4002120"/>
            <a:ext cx="1485720" cy="222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9" name="AutoShape 52"/>
          <p:cNvCxnSpPr>
            <a:endCxn id="996" idx="6"/>
          </p:cNvCxnSpPr>
          <p:nvPr/>
        </p:nvCxnSpPr>
        <p:spPr>
          <a:xfrm flipV="1" rot="10800000">
            <a:off x="2961720" y="5824080"/>
            <a:ext cx="1327680" cy="8640"/>
          </a:xfrm>
          <a:prstGeom prst="bentConnector3">
            <a:avLst>
              <a:gd name="adj1" fmla="val 49986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1000" name="AutoShape 53"/>
          <p:cNvCxnSpPr>
            <a:stCxn id="997" idx="0"/>
            <a:endCxn id="1001" idx="2"/>
          </p:cNvCxnSpPr>
          <p:nvPr/>
        </p:nvCxnSpPr>
        <p:spPr>
          <a:xfrm rot="10800000">
            <a:off x="1629720" y="3199680"/>
            <a:ext cx="932400" cy="2634480"/>
          </a:xfrm>
          <a:prstGeom prst="bentConnector3">
            <a:avLst>
              <a:gd name="adj1" fmla="val 105600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1002" name="AutoShape 54"/>
          <p:cNvCxnSpPr>
            <a:stCxn id="1001" idx="0"/>
          </p:cNvCxnSpPr>
          <p:nvPr/>
        </p:nvCxnSpPr>
        <p:spPr>
          <a:xfrm>
            <a:off x="3355560" y="1643040"/>
            <a:ext cx="924840" cy="3528000"/>
          </a:xfrm>
          <a:prstGeom prst="bentConnector3">
            <a:avLst>
              <a:gd name="adj1" fmla="val 59423"/>
            </a:avLst>
          </a:prstGeom>
          <a:ln w="28440">
            <a:solidFill>
              <a:srgbClr val="3333cc"/>
            </a:solidFill>
            <a:miter/>
          </a:ln>
        </p:spPr>
      </p:cxnSp>
      <p:grpSp>
        <p:nvGrpSpPr>
          <p:cNvPr id="1003" name="Group 55"/>
          <p:cNvGrpSpPr/>
          <p:nvPr/>
        </p:nvGrpSpPr>
        <p:grpSpPr>
          <a:xfrm>
            <a:off x="1442520" y="1427040"/>
            <a:ext cx="2090160" cy="1971360"/>
            <a:chOff x="1442520" y="1427040"/>
            <a:chExt cx="2090160" cy="1971360"/>
          </a:xfrm>
        </p:grpSpPr>
        <p:sp>
          <p:nvSpPr>
            <p:cNvPr id="1004" name="Rectangle 56"/>
            <p:cNvSpPr/>
            <p:nvPr/>
          </p:nvSpPr>
          <p:spPr>
            <a:xfrm rot="2875200">
              <a:off x="2458800" y="1385640"/>
              <a:ext cx="269640" cy="2286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Rectangle 57"/>
            <p:cNvSpPr/>
            <p:nvPr/>
          </p:nvSpPr>
          <p:spPr>
            <a:xfrm rot="2875200">
              <a:off x="2435040" y="1290240"/>
              <a:ext cx="117360" cy="2286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Rectangle 58"/>
            <p:cNvSpPr/>
            <p:nvPr/>
          </p:nvSpPr>
          <p:spPr>
            <a:xfrm rot="2875200">
              <a:off x="2211120" y="1279440"/>
              <a:ext cx="565200" cy="2286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Rectangle 59"/>
            <p:cNvSpPr/>
            <p:nvPr/>
          </p:nvSpPr>
          <p:spPr>
            <a:xfrm rot="2875200">
              <a:off x="2271240" y="1093320"/>
              <a:ext cx="117360" cy="22860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Text Box 75"/>
          <p:cNvSpPr/>
          <p:nvPr/>
        </p:nvSpPr>
        <p:spPr>
          <a:xfrm>
            <a:off x="3503520" y="5931000"/>
            <a:ext cx="7779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ff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Text Box 77"/>
          <p:cNvSpPr/>
          <p:nvPr/>
        </p:nvSpPr>
        <p:spPr>
          <a:xfrm>
            <a:off x="2489760" y="2517840"/>
            <a:ext cx="9824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a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Line 78"/>
          <p:cNvSpPr/>
          <p:nvPr/>
        </p:nvSpPr>
        <p:spPr>
          <a:xfrm>
            <a:off x="1745280" y="1634760"/>
            <a:ext cx="675720" cy="7484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Line 79"/>
          <p:cNvSpPr/>
          <p:nvPr/>
        </p:nvSpPr>
        <p:spPr>
          <a:xfrm flipH="1" flipV="1">
            <a:off x="1877400" y="2149200"/>
            <a:ext cx="398160" cy="640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Rectangle 90"/>
          <p:cNvSpPr/>
          <p:nvPr/>
        </p:nvSpPr>
        <p:spPr>
          <a:xfrm>
            <a:off x="654120" y="3198960"/>
            <a:ext cx="533160" cy="59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2" name="AutoShape 91"/>
          <p:cNvCxnSpPr>
            <a:stCxn id="1011" idx="2"/>
            <a:endCxn id="1013" idx="4"/>
          </p:cNvCxnSpPr>
          <p:nvPr/>
        </p:nvCxnSpPr>
        <p:spPr>
          <a:xfrm flipH="1" rot="16200000">
            <a:off x="619920" y="4094640"/>
            <a:ext cx="2431440" cy="1829520"/>
          </a:xfrm>
          <a:prstGeom prst="bentConnector3">
            <a:avLst>
              <a:gd name="adj1" fmla="val 108618"/>
            </a:avLst>
          </a:prstGeom>
          <a:ln w="28440">
            <a:solidFill>
              <a:srgbClr val="000000"/>
            </a:solidFill>
            <a:prstDash val="sysDot"/>
            <a:miter/>
          </a:ln>
        </p:spPr>
      </p:cxnSp>
      <p:sp>
        <p:nvSpPr>
          <p:cNvPr id="1014" name="Line 92"/>
          <p:cNvSpPr/>
          <p:nvPr/>
        </p:nvSpPr>
        <p:spPr>
          <a:xfrm>
            <a:off x="4799160" y="1290600"/>
            <a:ext cx="0" cy="215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Line 93"/>
          <p:cNvSpPr/>
          <p:nvPr/>
        </p:nvSpPr>
        <p:spPr>
          <a:xfrm>
            <a:off x="4799160" y="3448080"/>
            <a:ext cx="286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Text Box 94"/>
          <p:cNvSpPr/>
          <p:nvPr/>
        </p:nvSpPr>
        <p:spPr>
          <a:xfrm rot="16200000">
            <a:off x="4078080" y="1604880"/>
            <a:ext cx="974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rrad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Line 95"/>
          <p:cNvSpPr/>
          <p:nvPr/>
        </p:nvSpPr>
        <p:spPr>
          <a:xfrm flipH="1">
            <a:off x="4799160" y="2994120"/>
            <a:ext cx="2860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Freeform 97"/>
          <p:cNvSpPr/>
          <p:nvPr/>
        </p:nvSpPr>
        <p:spPr>
          <a:xfrm>
            <a:off x="4968720" y="1492200"/>
            <a:ext cx="2095560" cy="1854360"/>
          </a:xfrm>
          <a:custGeom>
            <a:avLst/>
            <a:gdLst/>
            <a:ahLst/>
            <a:rect l="l" t="t" r="r" b="b"/>
            <a:pathLst>
              <a:path w="1653" h="645">
                <a:moveTo>
                  <a:pt x="0" y="645"/>
                </a:moveTo>
                <a:cubicBezTo>
                  <a:pt x="9" y="641"/>
                  <a:pt x="45" y="625"/>
                  <a:pt x="53" y="615"/>
                </a:cubicBezTo>
                <a:cubicBezTo>
                  <a:pt x="76" y="586"/>
                  <a:pt x="43" y="596"/>
                  <a:pt x="76" y="569"/>
                </a:cubicBezTo>
                <a:cubicBezTo>
                  <a:pt x="79" y="567"/>
                  <a:pt x="119" y="555"/>
                  <a:pt x="122" y="554"/>
                </a:cubicBezTo>
                <a:cubicBezTo>
                  <a:pt x="145" y="509"/>
                  <a:pt x="149" y="514"/>
                  <a:pt x="175" y="554"/>
                </a:cubicBezTo>
                <a:cubicBezTo>
                  <a:pt x="183" y="550"/>
                  <a:pt x="220" y="533"/>
                  <a:pt x="228" y="524"/>
                </a:cubicBezTo>
                <a:cubicBezTo>
                  <a:pt x="290" y="453"/>
                  <a:pt x="229" y="497"/>
                  <a:pt x="281" y="463"/>
                </a:cubicBezTo>
                <a:cubicBezTo>
                  <a:pt x="305" y="415"/>
                  <a:pt x="334" y="365"/>
                  <a:pt x="379" y="334"/>
                </a:cubicBezTo>
                <a:cubicBezTo>
                  <a:pt x="391" y="291"/>
                  <a:pt x="399" y="284"/>
                  <a:pt x="425" y="251"/>
                </a:cubicBezTo>
                <a:cubicBezTo>
                  <a:pt x="468" y="196"/>
                  <a:pt x="434" y="212"/>
                  <a:pt x="478" y="198"/>
                </a:cubicBezTo>
                <a:cubicBezTo>
                  <a:pt x="488" y="153"/>
                  <a:pt x="528" y="124"/>
                  <a:pt x="554" y="84"/>
                </a:cubicBezTo>
                <a:cubicBezTo>
                  <a:pt x="580" y="102"/>
                  <a:pt x="582" y="119"/>
                  <a:pt x="599" y="145"/>
                </a:cubicBezTo>
                <a:cubicBezTo>
                  <a:pt x="653" y="108"/>
                  <a:pt x="645" y="35"/>
                  <a:pt x="698" y="1"/>
                </a:cubicBezTo>
                <a:cubicBezTo>
                  <a:pt x="718" y="3"/>
                  <a:pt x="740" y="0"/>
                  <a:pt x="758" y="8"/>
                </a:cubicBezTo>
                <a:cubicBezTo>
                  <a:pt x="765" y="11"/>
                  <a:pt x="763" y="23"/>
                  <a:pt x="766" y="31"/>
                </a:cubicBezTo>
                <a:cubicBezTo>
                  <a:pt x="774" y="56"/>
                  <a:pt x="778" y="72"/>
                  <a:pt x="796" y="92"/>
                </a:cubicBezTo>
                <a:cubicBezTo>
                  <a:pt x="815" y="146"/>
                  <a:pt x="817" y="193"/>
                  <a:pt x="857" y="236"/>
                </a:cubicBezTo>
                <a:cubicBezTo>
                  <a:pt x="862" y="251"/>
                  <a:pt x="863" y="268"/>
                  <a:pt x="872" y="281"/>
                </a:cubicBezTo>
                <a:cubicBezTo>
                  <a:pt x="877" y="289"/>
                  <a:pt x="883" y="296"/>
                  <a:pt x="887" y="304"/>
                </a:cubicBezTo>
                <a:cubicBezTo>
                  <a:pt x="913" y="363"/>
                  <a:pt x="884" y="337"/>
                  <a:pt x="925" y="364"/>
                </a:cubicBezTo>
                <a:cubicBezTo>
                  <a:pt x="934" y="331"/>
                  <a:pt x="936" y="302"/>
                  <a:pt x="955" y="273"/>
                </a:cubicBezTo>
                <a:cubicBezTo>
                  <a:pt x="966" y="233"/>
                  <a:pt x="966" y="206"/>
                  <a:pt x="1001" y="183"/>
                </a:cubicBezTo>
                <a:cubicBezTo>
                  <a:pt x="1012" y="165"/>
                  <a:pt x="1017" y="142"/>
                  <a:pt x="1046" y="167"/>
                </a:cubicBezTo>
                <a:cubicBezTo>
                  <a:pt x="1060" y="179"/>
                  <a:pt x="1077" y="213"/>
                  <a:pt x="1077" y="213"/>
                </a:cubicBezTo>
                <a:cubicBezTo>
                  <a:pt x="1102" y="297"/>
                  <a:pt x="1160" y="364"/>
                  <a:pt x="1221" y="425"/>
                </a:cubicBezTo>
                <a:cubicBezTo>
                  <a:pt x="1229" y="451"/>
                  <a:pt x="1239" y="467"/>
                  <a:pt x="1259" y="486"/>
                </a:cubicBezTo>
                <a:cubicBezTo>
                  <a:pt x="1261" y="493"/>
                  <a:pt x="1259" y="506"/>
                  <a:pt x="1266" y="508"/>
                </a:cubicBezTo>
                <a:cubicBezTo>
                  <a:pt x="1275" y="510"/>
                  <a:pt x="1284" y="501"/>
                  <a:pt x="1289" y="493"/>
                </a:cubicBezTo>
                <a:cubicBezTo>
                  <a:pt x="1295" y="484"/>
                  <a:pt x="1292" y="472"/>
                  <a:pt x="1296" y="463"/>
                </a:cubicBezTo>
                <a:cubicBezTo>
                  <a:pt x="1306" y="440"/>
                  <a:pt x="1315" y="438"/>
                  <a:pt x="1334" y="425"/>
                </a:cubicBezTo>
                <a:cubicBezTo>
                  <a:pt x="1344" y="388"/>
                  <a:pt x="1367" y="362"/>
                  <a:pt x="1380" y="327"/>
                </a:cubicBezTo>
                <a:cubicBezTo>
                  <a:pt x="1417" y="338"/>
                  <a:pt x="1427" y="371"/>
                  <a:pt x="1448" y="402"/>
                </a:cubicBezTo>
                <a:cubicBezTo>
                  <a:pt x="1463" y="425"/>
                  <a:pt x="1478" y="448"/>
                  <a:pt x="1493" y="471"/>
                </a:cubicBezTo>
                <a:cubicBezTo>
                  <a:pt x="1497" y="478"/>
                  <a:pt x="1496" y="487"/>
                  <a:pt x="1501" y="493"/>
                </a:cubicBezTo>
                <a:cubicBezTo>
                  <a:pt x="1521" y="516"/>
                  <a:pt x="1563" y="534"/>
                  <a:pt x="1584" y="554"/>
                </a:cubicBezTo>
                <a:cubicBezTo>
                  <a:pt x="1599" y="568"/>
                  <a:pt x="1633" y="592"/>
                  <a:pt x="1653" y="5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 Box 98"/>
          <p:cNvSpPr/>
          <p:nvPr/>
        </p:nvSpPr>
        <p:spPr>
          <a:xfrm>
            <a:off x="7084440" y="3489480"/>
            <a:ext cx="575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 Box 99"/>
          <p:cNvSpPr/>
          <p:nvPr/>
        </p:nvSpPr>
        <p:spPr>
          <a:xfrm>
            <a:off x="7722360" y="2801880"/>
            <a:ext cx="11728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00 W - o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Line 100"/>
          <p:cNvSpPr/>
          <p:nvPr/>
        </p:nvSpPr>
        <p:spPr>
          <a:xfrm flipH="1">
            <a:off x="4782600" y="2496960"/>
            <a:ext cx="2860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 Box 101"/>
          <p:cNvSpPr/>
          <p:nvPr/>
        </p:nvSpPr>
        <p:spPr>
          <a:xfrm>
            <a:off x="7766280" y="2352600"/>
            <a:ext cx="11728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00 W - 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Oval 102"/>
          <p:cNvSpPr/>
          <p:nvPr/>
        </p:nvSpPr>
        <p:spPr>
          <a:xfrm>
            <a:off x="2341440" y="5389560"/>
            <a:ext cx="816120" cy="816120"/>
          </a:xfrm>
          <a:prstGeom prst="ellipse">
            <a:avLst/>
          </a:prstGeom>
          <a:solidFill>
            <a:srgbClr val="faf138">
              <a:alpha val="30000"/>
            </a:srgbClr>
          </a:solidFill>
          <a:ln w="38160">
            <a:solidFill>
              <a:srgbClr val="faf1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ontrols: Gas burner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Rectangle 7"/>
          <p:cNvSpPr/>
          <p:nvPr/>
        </p:nvSpPr>
        <p:spPr>
          <a:xfrm>
            <a:off x="3797280" y="3851280"/>
            <a:ext cx="1486080" cy="222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Rectangle 48"/>
          <p:cNvSpPr/>
          <p:nvPr/>
        </p:nvSpPr>
        <p:spPr>
          <a:xfrm>
            <a:off x="5991120" y="3851280"/>
            <a:ext cx="1484280" cy="222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6" name="Group 49"/>
          <p:cNvGrpSpPr/>
          <p:nvPr/>
        </p:nvGrpSpPr>
        <p:grpSpPr>
          <a:xfrm>
            <a:off x="5135400" y="6232680"/>
            <a:ext cx="405000" cy="404640"/>
            <a:chOff x="5135400" y="6232680"/>
            <a:chExt cx="405000" cy="404640"/>
          </a:xfrm>
        </p:grpSpPr>
        <p:sp>
          <p:nvSpPr>
            <p:cNvPr id="1027" name="Oval 50"/>
            <p:cNvSpPr/>
            <p:nvPr/>
          </p:nvSpPr>
          <p:spPr>
            <a:xfrm>
              <a:off x="5135400" y="6232680"/>
              <a:ext cx="405000" cy="404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AutoShape 51"/>
            <p:cNvSpPr/>
            <p:nvPr/>
          </p:nvSpPr>
          <p:spPr>
            <a:xfrm rot="16200000">
              <a:off x="5115240" y="6282720"/>
              <a:ext cx="350640" cy="3038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9" name="Line 60"/>
          <p:cNvSpPr/>
          <p:nvPr/>
        </p:nvSpPr>
        <p:spPr>
          <a:xfrm>
            <a:off x="4049640" y="385128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Line 61"/>
          <p:cNvSpPr/>
          <p:nvPr/>
        </p:nvSpPr>
        <p:spPr>
          <a:xfrm>
            <a:off x="4070520" y="607860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Line 62"/>
          <p:cNvSpPr/>
          <p:nvPr/>
        </p:nvSpPr>
        <p:spPr>
          <a:xfrm>
            <a:off x="6264360" y="385128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Line 63"/>
          <p:cNvSpPr/>
          <p:nvPr/>
        </p:nvSpPr>
        <p:spPr>
          <a:xfrm>
            <a:off x="6264360" y="607860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3" name="AutoShape 64"/>
          <p:cNvCxnSpPr>
            <a:stCxn id="1028" idx="0"/>
            <a:endCxn id="1024" idx="2"/>
          </p:cNvCxnSpPr>
          <p:nvPr/>
        </p:nvCxnSpPr>
        <p:spPr>
          <a:xfrm rot="10800000">
            <a:off x="4539600" y="6078600"/>
            <a:ext cx="600840" cy="358920"/>
          </a:xfrm>
          <a:prstGeom prst="bentConnector2">
            <a:avLst/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1034" name="AutoShape 65"/>
          <p:cNvCxnSpPr>
            <a:stCxn id="1032" idx="0"/>
            <a:endCxn id="1027" idx="6"/>
          </p:cNvCxnSpPr>
          <p:nvPr/>
        </p:nvCxnSpPr>
        <p:spPr>
          <a:xfrm rot="5400000">
            <a:off x="5722920" y="5895000"/>
            <a:ext cx="357840" cy="724680"/>
          </a:xfrm>
          <a:prstGeom prst="bentConnector4">
            <a:avLst>
              <a:gd name="adj1" fmla="val -63947"/>
              <a:gd name="adj2" fmla="val 3677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1035" name="AutoShape 66"/>
          <p:cNvCxnSpPr>
            <a:stCxn id="1031" idx="0"/>
            <a:endCxn id="1024" idx="0"/>
          </p:cNvCxnSpPr>
          <p:nvPr/>
        </p:nvCxnSpPr>
        <p:spPr>
          <a:xfrm rot="5400000">
            <a:off x="5400720" y="2989800"/>
            <a:ext cx="2160" cy="1724760"/>
          </a:xfrm>
          <a:prstGeom prst="bentConnector3">
            <a:avLst>
              <a:gd name="adj1" fmla="val -14400000"/>
            </a:avLst>
          </a:prstGeom>
          <a:ln w="28440">
            <a:solidFill>
              <a:srgbClr val="3333cc"/>
            </a:solidFill>
            <a:miter/>
          </a:ln>
        </p:spPr>
      </p:cxnSp>
      <p:sp>
        <p:nvSpPr>
          <p:cNvPr id="1036" name="Rectangle 67"/>
          <p:cNvSpPr/>
          <p:nvPr/>
        </p:nvSpPr>
        <p:spPr>
          <a:xfrm>
            <a:off x="6559560" y="3413160"/>
            <a:ext cx="304920" cy="21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AutoShape 68"/>
          <p:cNvSpPr/>
          <p:nvPr/>
        </p:nvSpPr>
        <p:spPr>
          <a:xfrm rot="10800000">
            <a:off x="6399000" y="5586480"/>
            <a:ext cx="626760" cy="247680"/>
          </a:xfrm>
          <a:custGeom>
            <a:avLst/>
            <a:gdLst>
              <a:gd name="textAreaLeft" fmla="*/ 130320 w 626760"/>
              <a:gd name="textAreaRight" fmla="*/ 496440 w 626760"/>
              <a:gd name="textAreaTop" fmla="*/ 51480 h 247680"/>
              <a:gd name="textAreaBottom" fmla="*/ 196200 h 24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Rectangle 69"/>
          <p:cNvSpPr/>
          <p:nvPr/>
        </p:nvSpPr>
        <p:spPr>
          <a:xfrm>
            <a:off x="5991120" y="5834160"/>
            <a:ext cx="14842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Text Box 75"/>
          <p:cNvSpPr/>
          <p:nvPr/>
        </p:nvSpPr>
        <p:spPr>
          <a:xfrm>
            <a:off x="3105000" y="5886360"/>
            <a:ext cx="7779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ff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Text Box 76"/>
          <p:cNvSpPr/>
          <p:nvPr/>
        </p:nvSpPr>
        <p:spPr>
          <a:xfrm>
            <a:off x="7526160" y="3852720"/>
            <a:ext cx="10144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s-fire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Oval 89"/>
          <p:cNvSpPr/>
          <p:nvPr/>
        </p:nvSpPr>
        <p:spPr>
          <a:xfrm>
            <a:off x="6310440" y="5413320"/>
            <a:ext cx="815760" cy="816120"/>
          </a:xfrm>
          <a:prstGeom prst="ellipse">
            <a:avLst/>
          </a:prstGeom>
          <a:solidFill>
            <a:srgbClr val="faf138">
              <a:alpha val="30000"/>
            </a:srgbClr>
          </a:solidFill>
          <a:ln w="38160">
            <a:solidFill>
              <a:srgbClr val="faf1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Rectangle 90"/>
          <p:cNvSpPr/>
          <p:nvPr/>
        </p:nvSpPr>
        <p:spPr>
          <a:xfrm>
            <a:off x="6935760" y="4357800"/>
            <a:ext cx="439920" cy="49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3" name="AutoShape 91"/>
          <p:cNvCxnSpPr>
            <a:stCxn id="1042" idx="3"/>
            <a:endCxn id="1041" idx="4"/>
          </p:cNvCxnSpPr>
          <p:nvPr/>
        </p:nvCxnSpPr>
        <p:spPr>
          <a:xfrm flipH="1">
            <a:off x="6717960" y="4603320"/>
            <a:ext cx="658080" cy="1645560"/>
          </a:xfrm>
          <a:prstGeom prst="bentConnector4">
            <a:avLst>
              <a:gd name="adj1" fmla="val -34537"/>
              <a:gd name="adj2" fmla="val 112735"/>
            </a:avLst>
          </a:prstGeom>
          <a:ln w="28440">
            <a:solidFill>
              <a:srgbClr val="000000"/>
            </a:solidFill>
            <a:prstDash val="sysDot"/>
            <a:miter/>
          </a:ln>
        </p:spPr>
      </p:cxnSp>
      <p:sp>
        <p:nvSpPr>
          <p:cNvPr id="1044" name="Line 92"/>
          <p:cNvSpPr/>
          <p:nvPr/>
        </p:nvSpPr>
        <p:spPr>
          <a:xfrm>
            <a:off x="789120" y="1103400"/>
            <a:ext cx="0" cy="215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Line 93"/>
          <p:cNvSpPr/>
          <p:nvPr/>
        </p:nvSpPr>
        <p:spPr>
          <a:xfrm>
            <a:off x="789120" y="3260880"/>
            <a:ext cx="286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Text Box 94"/>
          <p:cNvSpPr/>
          <p:nvPr/>
        </p:nvSpPr>
        <p:spPr>
          <a:xfrm rot="16200000">
            <a:off x="-42840" y="1448640"/>
            <a:ext cx="1200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Line 95"/>
          <p:cNvSpPr/>
          <p:nvPr/>
        </p:nvSpPr>
        <p:spPr>
          <a:xfrm flipH="1">
            <a:off x="789120" y="2806560"/>
            <a:ext cx="2860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Text Box 97"/>
          <p:cNvSpPr/>
          <p:nvPr/>
        </p:nvSpPr>
        <p:spPr>
          <a:xfrm>
            <a:off x="3074400" y="3301920"/>
            <a:ext cx="575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Text Box 98"/>
          <p:cNvSpPr/>
          <p:nvPr/>
        </p:nvSpPr>
        <p:spPr>
          <a:xfrm>
            <a:off x="3712320" y="2614680"/>
            <a:ext cx="109512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55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°C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- o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Line 99"/>
          <p:cNvSpPr/>
          <p:nvPr/>
        </p:nvSpPr>
        <p:spPr>
          <a:xfrm flipH="1">
            <a:off x="773280" y="2309760"/>
            <a:ext cx="2860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Text Box 100"/>
          <p:cNvSpPr/>
          <p:nvPr/>
        </p:nvSpPr>
        <p:spPr>
          <a:xfrm>
            <a:off x="3756960" y="2165400"/>
            <a:ext cx="109512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60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°C - o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Freeform 103"/>
          <p:cNvSpPr/>
          <p:nvPr/>
        </p:nvSpPr>
        <p:spPr>
          <a:xfrm>
            <a:off x="820800" y="1593720"/>
            <a:ext cx="2708280" cy="1208160"/>
          </a:xfrm>
          <a:custGeom>
            <a:avLst/>
            <a:gdLst/>
            <a:ahLst/>
            <a:rect l="l" t="t" r="r" b="b"/>
            <a:pathLst>
              <a:path w="1706" h="761">
                <a:moveTo>
                  <a:pt x="0" y="118"/>
                </a:moveTo>
                <a:cubicBezTo>
                  <a:pt x="33" y="54"/>
                  <a:pt x="117" y="17"/>
                  <a:pt x="185" y="0"/>
                </a:cubicBezTo>
                <a:cubicBezTo>
                  <a:pt x="269" y="7"/>
                  <a:pt x="329" y="17"/>
                  <a:pt x="406" y="45"/>
                </a:cubicBezTo>
                <a:cubicBezTo>
                  <a:pt x="456" y="95"/>
                  <a:pt x="433" y="78"/>
                  <a:pt x="473" y="104"/>
                </a:cubicBezTo>
                <a:cubicBezTo>
                  <a:pt x="508" y="157"/>
                  <a:pt x="490" y="136"/>
                  <a:pt x="524" y="170"/>
                </a:cubicBezTo>
                <a:cubicBezTo>
                  <a:pt x="543" y="223"/>
                  <a:pt x="615" y="326"/>
                  <a:pt x="650" y="377"/>
                </a:cubicBezTo>
                <a:cubicBezTo>
                  <a:pt x="667" y="402"/>
                  <a:pt x="678" y="432"/>
                  <a:pt x="694" y="458"/>
                </a:cubicBezTo>
                <a:cubicBezTo>
                  <a:pt x="703" y="473"/>
                  <a:pt x="724" y="502"/>
                  <a:pt x="724" y="502"/>
                </a:cubicBezTo>
                <a:cubicBezTo>
                  <a:pt x="733" y="532"/>
                  <a:pt x="742" y="544"/>
                  <a:pt x="768" y="562"/>
                </a:cubicBezTo>
                <a:cubicBezTo>
                  <a:pt x="779" y="578"/>
                  <a:pt x="786" y="597"/>
                  <a:pt x="797" y="613"/>
                </a:cubicBezTo>
                <a:cubicBezTo>
                  <a:pt x="808" y="629"/>
                  <a:pt x="836" y="646"/>
                  <a:pt x="849" y="658"/>
                </a:cubicBezTo>
                <a:cubicBezTo>
                  <a:pt x="893" y="698"/>
                  <a:pt x="910" y="713"/>
                  <a:pt x="967" y="731"/>
                </a:cubicBezTo>
                <a:cubicBezTo>
                  <a:pt x="974" y="736"/>
                  <a:pt x="981" y="742"/>
                  <a:pt x="989" y="746"/>
                </a:cubicBezTo>
                <a:cubicBezTo>
                  <a:pt x="1003" y="752"/>
                  <a:pt x="1034" y="761"/>
                  <a:pt x="1034" y="761"/>
                </a:cubicBezTo>
                <a:cubicBezTo>
                  <a:pt x="1105" y="756"/>
                  <a:pt x="1178" y="758"/>
                  <a:pt x="1248" y="746"/>
                </a:cubicBezTo>
                <a:cubicBezTo>
                  <a:pt x="1265" y="743"/>
                  <a:pt x="1292" y="717"/>
                  <a:pt x="1292" y="717"/>
                </a:cubicBezTo>
                <a:cubicBezTo>
                  <a:pt x="1297" y="707"/>
                  <a:pt x="1300" y="696"/>
                  <a:pt x="1307" y="687"/>
                </a:cubicBezTo>
                <a:cubicBezTo>
                  <a:pt x="1313" y="680"/>
                  <a:pt x="1324" y="679"/>
                  <a:pt x="1329" y="672"/>
                </a:cubicBezTo>
                <a:cubicBezTo>
                  <a:pt x="1335" y="664"/>
                  <a:pt x="1332" y="652"/>
                  <a:pt x="1337" y="643"/>
                </a:cubicBezTo>
                <a:cubicBezTo>
                  <a:pt x="1343" y="632"/>
                  <a:pt x="1352" y="623"/>
                  <a:pt x="1359" y="613"/>
                </a:cubicBezTo>
                <a:cubicBezTo>
                  <a:pt x="1371" y="574"/>
                  <a:pt x="1398" y="556"/>
                  <a:pt x="1418" y="525"/>
                </a:cubicBezTo>
                <a:cubicBezTo>
                  <a:pt x="1467" y="447"/>
                  <a:pt x="1422" y="483"/>
                  <a:pt x="1469" y="451"/>
                </a:cubicBezTo>
                <a:cubicBezTo>
                  <a:pt x="1513" y="364"/>
                  <a:pt x="1455" y="466"/>
                  <a:pt x="1506" y="406"/>
                </a:cubicBezTo>
                <a:cubicBezTo>
                  <a:pt x="1513" y="398"/>
                  <a:pt x="1513" y="385"/>
                  <a:pt x="1521" y="377"/>
                </a:cubicBezTo>
                <a:cubicBezTo>
                  <a:pt x="1559" y="339"/>
                  <a:pt x="1580" y="349"/>
                  <a:pt x="1625" y="318"/>
                </a:cubicBezTo>
                <a:cubicBezTo>
                  <a:pt x="1654" y="298"/>
                  <a:pt x="1670" y="288"/>
                  <a:pt x="170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ontrols: Gas-fired-tank pump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Rectangle 3"/>
          <p:cNvSpPr/>
          <p:nvPr/>
        </p:nvSpPr>
        <p:spPr>
          <a:xfrm>
            <a:off x="3797280" y="3851280"/>
            <a:ext cx="1486080" cy="222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Rectangle 4"/>
          <p:cNvSpPr/>
          <p:nvPr/>
        </p:nvSpPr>
        <p:spPr>
          <a:xfrm>
            <a:off x="5991120" y="3851280"/>
            <a:ext cx="1484280" cy="222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6" name="Group 5"/>
          <p:cNvGrpSpPr/>
          <p:nvPr/>
        </p:nvGrpSpPr>
        <p:grpSpPr>
          <a:xfrm>
            <a:off x="5135400" y="6232680"/>
            <a:ext cx="405000" cy="404640"/>
            <a:chOff x="5135400" y="6232680"/>
            <a:chExt cx="405000" cy="404640"/>
          </a:xfrm>
        </p:grpSpPr>
        <p:sp>
          <p:nvSpPr>
            <p:cNvPr id="1057" name="Oval 6"/>
            <p:cNvSpPr/>
            <p:nvPr/>
          </p:nvSpPr>
          <p:spPr>
            <a:xfrm>
              <a:off x="5135400" y="6232680"/>
              <a:ext cx="405000" cy="404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AutoShape 7"/>
            <p:cNvSpPr/>
            <p:nvPr/>
          </p:nvSpPr>
          <p:spPr>
            <a:xfrm rot="16200000">
              <a:off x="5115240" y="6282720"/>
              <a:ext cx="350640" cy="3038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9" name="Line 8"/>
          <p:cNvSpPr/>
          <p:nvPr/>
        </p:nvSpPr>
        <p:spPr>
          <a:xfrm>
            <a:off x="4049640" y="385128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Line 9"/>
          <p:cNvSpPr/>
          <p:nvPr/>
        </p:nvSpPr>
        <p:spPr>
          <a:xfrm>
            <a:off x="4070520" y="607860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Line 10"/>
          <p:cNvSpPr/>
          <p:nvPr/>
        </p:nvSpPr>
        <p:spPr>
          <a:xfrm>
            <a:off x="6264360" y="385128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Line 11"/>
          <p:cNvSpPr/>
          <p:nvPr/>
        </p:nvSpPr>
        <p:spPr>
          <a:xfrm>
            <a:off x="6264360" y="607860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3" name="AutoShape 12"/>
          <p:cNvCxnSpPr>
            <a:stCxn id="1058" idx="0"/>
            <a:endCxn id="1054" idx="2"/>
          </p:cNvCxnSpPr>
          <p:nvPr/>
        </p:nvCxnSpPr>
        <p:spPr>
          <a:xfrm rot="10800000">
            <a:off x="4539600" y="6078600"/>
            <a:ext cx="600840" cy="358920"/>
          </a:xfrm>
          <a:prstGeom prst="bentConnector2">
            <a:avLst/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1064" name="AutoShape 13"/>
          <p:cNvCxnSpPr>
            <a:stCxn id="1062" idx="0"/>
            <a:endCxn id="1057" idx="6"/>
          </p:cNvCxnSpPr>
          <p:nvPr/>
        </p:nvCxnSpPr>
        <p:spPr>
          <a:xfrm rot="5400000">
            <a:off x="5722920" y="5895000"/>
            <a:ext cx="357840" cy="724680"/>
          </a:xfrm>
          <a:prstGeom prst="bentConnector4">
            <a:avLst>
              <a:gd name="adj1" fmla="val -63947"/>
              <a:gd name="adj2" fmla="val 3677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1065" name="AutoShape 14"/>
          <p:cNvCxnSpPr>
            <a:stCxn id="1061" idx="0"/>
            <a:endCxn id="1054" idx="0"/>
          </p:cNvCxnSpPr>
          <p:nvPr/>
        </p:nvCxnSpPr>
        <p:spPr>
          <a:xfrm rot="5400000">
            <a:off x="5400720" y="2989800"/>
            <a:ext cx="2160" cy="1724760"/>
          </a:xfrm>
          <a:prstGeom prst="bentConnector3">
            <a:avLst>
              <a:gd name="adj1" fmla="val -14400000"/>
            </a:avLst>
          </a:prstGeom>
          <a:ln w="28440">
            <a:solidFill>
              <a:srgbClr val="3333cc"/>
            </a:solidFill>
            <a:miter/>
          </a:ln>
        </p:spPr>
      </p:cxnSp>
      <p:sp>
        <p:nvSpPr>
          <p:cNvPr id="1066" name="Rectangle 15"/>
          <p:cNvSpPr/>
          <p:nvPr/>
        </p:nvSpPr>
        <p:spPr>
          <a:xfrm>
            <a:off x="6559560" y="3413160"/>
            <a:ext cx="304920" cy="21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AutoShape 16"/>
          <p:cNvSpPr/>
          <p:nvPr/>
        </p:nvSpPr>
        <p:spPr>
          <a:xfrm rot="10800000">
            <a:off x="6399000" y="5586480"/>
            <a:ext cx="626760" cy="247680"/>
          </a:xfrm>
          <a:custGeom>
            <a:avLst/>
            <a:gdLst>
              <a:gd name="textAreaLeft" fmla="*/ 130320 w 626760"/>
              <a:gd name="textAreaRight" fmla="*/ 496440 w 626760"/>
              <a:gd name="textAreaTop" fmla="*/ 51480 h 247680"/>
              <a:gd name="textAreaBottom" fmla="*/ 196200 h 24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Rectangle 17"/>
          <p:cNvSpPr/>
          <p:nvPr/>
        </p:nvSpPr>
        <p:spPr>
          <a:xfrm>
            <a:off x="5991120" y="5834160"/>
            <a:ext cx="14842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Text Box 18"/>
          <p:cNvSpPr/>
          <p:nvPr/>
        </p:nvSpPr>
        <p:spPr>
          <a:xfrm>
            <a:off x="3105000" y="5886360"/>
            <a:ext cx="7779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ff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Text Box 19"/>
          <p:cNvSpPr/>
          <p:nvPr/>
        </p:nvSpPr>
        <p:spPr>
          <a:xfrm>
            <a:off x="7526160" y="3852720"/>
            <a:ext cx="10144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s-fire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Oval 20"/>
          <p:cNvSpPr/>
          <p:nvPr/>
        </p:nvSpPr>
        <p:spPr>
          <a:xfrm>
            <a:off x="4862520" y="6022800"/>
            <a:ext cx="816120" cy="816120"/>
          </a:xfrm>
          <a:prstGeom prst="ellipse">
            <a:avLst/>
          </a:prstGeom>
          <a:solidFill>
            <a:srgbClr val="faf138">
              <a:alpha val="30000"/>
            </a:srgbClr>
          </a:solidFill>
          <a:ln w="38160">
            <a:solidFill>
              <a:srgbClr val="faf1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21"/>
          <p:cNvSpPr/>
          <p:nvPr/>
        </p:nvSpPr>
        <p:spPr>
          <a:xfrm>
            <a:off x="4481640" y="4572000"/>
            <a:ext cx="439560" cy="49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3" name="AutoShape 22"/>
          <p:cNvCxnSpPr>
            <a:stCxn id="1072" idx="3"/>
            <a:endCxn id="1071" idx="7"/>
          </p:cNvCxnSpPr>
          <p:nvPr/>
        </p:nvCxnSpPr>
        <p:spPr>
          <a:xfrm>
            <a:off x="4920840" y="4818240"/>
            <a:ext cx="639000" cy="1305360"/>
          </a:xfrm>
          <a:prstGeom prst="bentConnector2">
            <a:avLst/>
          </a:prstGeom>
          <a:ln w="28440">
            <a:solidFill>
              <a:srgbClr val="000000"/>
            </a:solidFill>
            <a:prstDash val="sysDot"/>
            <a:miter/>
          </a:ln>
        </p:spPr>
      </p:cxnSp>
      <p:sp>
        <p:nvSpPr>
          <p:cNvPr id="1074" name="Line 23"/>
          <p:cNvSpPr/>
          <p:nvPr/>
        </p:nvSpPr>
        <p:spPr>
          <a:xfrm>
            <a:off x="789120" y="1103400"/>
            <a:ext cx="0" cy="215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Line 24"/>
          <p:cNvSpPr/>
          <p:nvPr/>
        </p:nvSpPr>
        <p:spPr>
          <a:xfrm>
            <a:off x="789120" y="3260880"/>
            <a:ext cx="286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Text Box 25"/>
          <p:cNvSpPr/>
          <p:nvPr/>
        </p:nvSpPr>
        <p:spPr>
          <a:xfrm rot="16200000">
            <a:off x="-42840" y="1448640"/>
            <a:ext cx="1200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Line 26"/>
          <p:cNvSpPr/>
          <p:nvPr/>
        </p:nvSpPr>
        <p:spPr>
          <a:xfrm flipH="1">
            <a:off x="789120" y="2090880"/>
            <a:ext cx="2860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Text Box 27"/>
          <p:cNvSpPr/>
          <p:nvPr/>
        </p:nvSpPr>
        <p:spPr>
          <a:xfrm>
            <a:off x="3074400" y="3301920"/>
            <a:ext cx="575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Text Box 28"/>
          <p:cNvSpPr/>
          <p:nvPr/>
        </p:nvSpPr>
        <p:spPr>
          <a:xfrm>
            <a:off x="3712320" y="1898640"/>
            <a:ext cx="109512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55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°C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- o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Line 29"/>
          <p:cNvSpPr/>
          <p:nvPr/>
        </p:nvSpPr>
        <p:spPr>
          <a:xfrm flipH="1">
            <a:off x="773280" y="1593720"/>
            <a:ext cx="2860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Text Box 30"/>
          <p:cNvSpPr/>
          <p:nvPr/>
        </p:nvSpPr>
        <p:spPr>
          <a:xfrm>
            <a:off x="3756240" y="1449360"/>
            <a:ext cx="109512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60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°C - 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Freeform 31"/>
          <p:cNvSpPr/>
          <p:nvPr/>
        </p:nvSpPr>
        <p:spPr>
          <a:xfrm>
            <a:off x="820800" y="1593720"/>
            <a:ext cx="2708280" cy="1208160"/>
          </a:xfrm>
          <a:custGeom>
            <a:avLst/>
            <a:gdLst/>
            <a:ahLst/>
            <a:rect l="l" t="t" r="r" b="b"/>
            <a:pathLst>
              <a:path w="1706" h="761">
                <a:moveTo>
                  <a:pt x="0" y="118"/>
                </a:moveTo>
                <a:cubicBezTo>
                  <a:pt x="33" y="54"/>
                  <a:pt x="117" y="17"/>
                  <a:pt x="185" y="0"/>
                </a:cubicBezTo>
                <a:cubicBezTo>
                  <a:pt x="269" y="7"/>
                  <a:pt x="329" y="17"/>
                  <a:pt x="406" y="45"/>
                </a:cubicBezTo>
                <a:cubicBezTo>
                  <a:pt x="456" y="95"/>
                  <a:pt x="433" y="78"/>
                  <a:pt x="473" y="104"/>
                </a:cubicBezTo>
                <a:cubicBezTo>
                  <a:pt x="508" y="157"/>
                  <a:pt x="490" y="136"/>
                  <a:pt x="524" y="170"/>
                </a:cubicBezTo>
                <a:cubicBezTo>
                  <a:pt x="543" y="223"/>
                  <a:pt x="615" y="326"/>
                  <a:pt x="650" y="377"/>
                </a:cubicBezTo>
                <a:cubicBezTo>
                  <a:pt x="667" y="402"/>
                  <a:pt x="678" y="432"/>
                  <a:pt x="694" y="458"/>
                </a:cubicBezTo>
                <a:cubicBezTo>
                  <a:pt x="703" y="473"/>
                  <a:pt x="724" y="502"/>
                  <a:pt x="724" y="502"/>
                </a:cubicBezTo>
                <a:cubicBezTo>
                  <a:pt x="733" y="532"/>
                  <a:pt x="742" y="544"/>
                  <a:pt x="768" y="562"/>
                </a:cubicBezTo>
                <a:cubicBezTo>
                  <a:pt x="779" y="578"/>
                  <a:pt x="786" y="597"/>
                  <a:pt x="797" y="613"/>
                </a:cubicBezTo>
                <a:cubicBezTo>
                  <a:pt x="808" y="629"/>
                  <a:pt x="836" y="646"/>
                  <a:pt x="849" y="658"/>
                </a:cubicBezTo>
                <a:cubicBezTo>
                  <a:pt x="893" y="698"/>
                  <a:pt x="910" y="713"/>
                  <a:pt x="967" y="731"/>
                </a:cubicBezTo>
                <a:cubicBezTo>
                  <a:pt x="974" y="736"/>
                  <a:pt x="981" y="742"/>
                  <a:pt x="989" y="746"/>
                </a:cubicBezTo>
                <a:cubicBezTo>
                  <a:pt x="1003" y="752"/>
                  <a:pt x="1034" y="761"/>
                  <a:pt x="1034" y="761"/>
                </a:cubicBezTo>
                <a:cubicBezTo>
                  <a:pt x="1105" y="756"/>
                  <a:pt x="1178" y="758"/>
                  <a:pt x="1248" y="746"/>
                </a:cubicBezTo>
                <a:cubicBezTo>
                  <a:pt x="1265" y="743"/>
                  <a:pt x="1292" y="717"/>
                  <a:pt x="1292" y="717"/>
                </a:cubicBezTo>
                <a:cubicBezTo>
                  <a:pt x="1297" y="707"/>
                  <a:pt x="1300" y="696"/>
                  <a:pt x="1307" y="687"/>
                </a:cubicBezTo>
                <a:cubicBezTo>
                  <a:pt x="1313" y="680"/>
                  <a:pt x="1324" y="679"/>
                  <a:pt x="1329" y="672"/>
                </a:cubicBezTo>
                <a:cubicBezTo>
                  <a:pt x="1335" y="664"/>
                  <a:pt x="1332" y="652"/>
                  <a:pt x="1337" y="643"/>
                </a:cubicBezTo>
                <a:cubicBezTo>
                  <a:pt x="1343" y="632"/>
                  <a:pt x="1352" y="623"/>
                  <a:pt x="1359" y="613"/>
                </a:cubicBezTo>
                <a:cubicBezTo>
                  <a:pt x="1371" y="574"/>
                  <a:pt x="1398" y="556"/>
                  <a:pt x="1418" y="525"/>
                </a:cubicBezTo>
                <a:cubicBezTo>
                  <a:pt x="1467" y="447"/>
                  <a:pt x="1422" y="483"/>
                  <a:pt x="1469" y="451"/>
                </a:cubicBezTo>
                <a:cubicBezTo>
                  <a:pt x="1513" y="364"/>
                  <a:pt x="1455" y="466"/>
                  <a:pt x="1506" y="406"/>
                </a:cubicBezTo>
                <a:cubicBezTo>
                  <a:pt x="1513" y="398"/>
                  <a:pt x="1513" y="385"/>
                  <a:pt x="1521" y="377"/>
                </a:cubicBezTo>
                <a:cubicBezTo>
                  <a:pt x="1559" y="339"/>
                  <a:pt x="1580" y="349"/>
                  <a:pt x="1625" y="318"/>
                </a:cubicBezTo>
                <a:cubicBezTo>
                  <a:pt x="1654" y="298"/>
                  <a:pt x="1670" y="288"/>
                  <a:pt x="170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 algn="ctr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How does ESP-r model buildings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What is ESP-r capable of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How do I model buildings in ESP-r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ontrols: Radiator pump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Rectangle 48"/>
          <p:cNvSpPr/>
          <p:nvPr/>
        </p:nvSpPr>
        <p:spPr>
          <a:xfrm>
            <a:off x="5813280" y="3943440"/>
            <a:ext cx="1484280" cy="222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Line 62"/>
          <p:cNvSpPr/>
          <p:nvPr/>
        </p:nvSpPr>
        <p:spPr>
          <a:xfrm>
            <a:off x="6086520" y="394344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Line 63"/>
          <p:cNvSpPr/>
          <p:nvPr/>
        </p:nvSpPr>
        <p:spPr>
          <a:xfrm>
            <a:off x="6086520" y="617076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Rectangle 67"/>
          <p:cNvSpPr/>
          <p:nvPr/>
        </p:nvSpPr>
        <p:spPr>
          <a:xfrm>
            <a:off x="6381720" y="3505320"/>
            <a:ext cx="304920" cy="21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AutoShape 68"/>
          <p:cNvSpPr/>
          <p:nvPr/>
        </p:nvSpPr>
        <p:spPr>
          <a:xfrm rot="10800000">
            <a:off x="6221520" y="5678280"/>
            <a:ext cx="627120" cy="247320"/>
          </a:xfrm>
          <a:custGeom>
            <a:avLst/>
            <a:gdLst>
              <a:gd name="textAreaLeft" fmla="*/ 130680 w 627120"/>
              <a:gd name="textAreaRight" fmla="*/ 496440 w 627120"/>
              <a:gd name="textAreaTop" fmla="*/ 51480 h 247320"/>
              <a:gd name="textAreaBottom" fmla="*/ 195840 h 247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Rectangle 69"/>
          <p:cNvSpPr/>
          <p:nvPr/>
        </p:nvSpPr>
        <p:spPr>
          <a:xfrm>
            <a:off x="5813280" y="5925960"/>
            <a:ext cx="1484280" cy="24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0" name="Group 70"/>
          <p:cNvGrpSpPr/>
          <p:nvPr/>
        </p:nvGrpSpPr>
        <p:grpSpPr>
          <a:xfrm>
            <a:off x="6861240" y="3303720"/>
            <a:ext cx="404640" cy="404640"/>
            <a:chOff x="6861240" y="3303720"/>
            <a:chExt cx="404640" cy="404640"/>
          </a:xfrm>
        </p:grpSpPr>
        <p:sp>
          <p:nvSpPr>
            <p:cNvPr id="1091" name="Oval 71"/>
            <p:cNvSpPr/>
            <p:nvPr/>
          </p:nvSpPr>
          <p:spPr>
            <a:xfrm rot="5400000">
              <a:off x="6861240" y="3303720"/>
              <a:ext cx="404640" cy="404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AutoShape 72"/>
            <p:cNvSpPr/>
            <p:nvPr/>
          </p:nvSpPr>
          <p:spPr>
            <a:xfrm>
              <a:off x="6888600" y="3306960"/>
              <a:ext cx="350640" cy="303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93" name="AutoShape 73"/>
          <p:cNvCxnSpPr>
            <a:stCxn id="1091" idx="6"/>
            <a:endCxn id="1085" idx="0"/>
          </p:cNvCxnSpPr>
          <p:nvPr/>
        </p:nvCxnSpPr>
        <p:spPr>
          <a:xfrm rot="5400000">
            <a:off x="6947640" y="3825720"/>
            <a:ext cx="234000" cy="2520"/>
          </a:xfrm>
          <a:prstGeom prst="bentConnector3">
            <a:avLst>
              <a:gd name="adj1" fmla="val 96456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1094" name="AutoShape 74"/>
          <p:cNvCxnSpPr>
            <a:stCxn id="1095" idx="3"/>
            <a:endCxn id="1086" idx="0"/>
          </p:cNvCxnSpPr>
          <p:nvPr/>
        </p:nvCxnSpPr>
        <p:spPr>
          <a:xfrm flipH="1">
            <a:off x="7063560" y="1504440"/>
            <a:ext cx="732600" cy="4666680"/>
          </a:xfrm>
          <a:prstGeom prst="bentConnector4">
            <a:avLst>
              <a:gd name="adj1" fmla="val -133579"/>
              <a:gd name="adj2" fmla="val 107313"/>
            </a:avLst>
          </a:prstGeom>
          <a:ln w="28440">
            <a:solidFill>
              <a:srgbClr val="3333cc"/>
            </a:solidFill>
            <a:miter/>
          </a:ln>
        </p:spPr>
      </p:cxnSp>
      <p:sp>
        <p:nvSpPr>
          <p:cNvPr id="1096" name="Text Box 76"/>
          <p:cNvSpPr/>
          <p:nvPr/>
        </p:nvSpPr>
        <p:spPr>
          <a:xfrm>
            <a:off x="7348320" y="3944880"/>
            <a:ext cx="10144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s-fire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Rectangle 80"/>
          <p:cNvSpPr/>
          <p:nvPr/>
        </p:nvSpPr>
        <p:spPr>
          <a:xfrm>
            <a:off x="4645080" y="1235160"/>
            <a:ext cx="3151080" cy="5382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Rectangle 81"/>
          <p:cNvSpPr/>
          <p:nvPr/>
        </p:nvSpPr>
        <p:spPr>
          <a:xfrm>
            <a:off x="4645080" y="2025720"/>
            <a:ext cx="3151080" cy="5382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8" name="AutoShape 82"/>
          <p:cNvCxnSpPr>
            <a:stCxn id="1095" idx="1"/>
            <a:endCxn id="1092" idx="0"/>
          </p:cNvCxnSpPr>
          <p:nvPr/>
        </p:nvCxnSpPr>
        <p:spPr>
          <a:xfrm flipH="1" flipV="1" rot="10800000">
            <a:off x="4645080" y="1503720"/>
            <a:ext cx="2419560" cy="1802520"/>
          </a:xfrm>
          <a:prstGeom prst="bentConnector4">
            <a:avLst>
              <a:gd name="adj1" fmla="val -26443"/>
              <a:gd name="adj2" fmla="val 85177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1099" name="AutoShape 83"/>
          <p:cNvCxnSpPr>
            <a:stCxn id="1092" idx="0"/>
            <a:endCxn id="1097" idx="1"/>
          </p:cNvCxnSpPr>
          <p:nvPr/>
        </p:nvCxnSpPr>
        <p:spPr>
          <a:xfrm flipV="1" rot="16200000">
            <a:off x="5348880" y="1590840"/>
            <a:ext cx="1011960" cy="2419560"/>
          </a:xfrm>
          <a:prstGeom prst="bentConnector4">
            <a:avLst>
              <a:gd name="adj1" fmla="val 26192"/>
              <a:gd name="adj2" fmla="val 126383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1100" name="AutoShape 84"/>
          <p:cNvCxnSpPr>
            <a:stCxn id="1097" idx="3"/>
            <a:endCxn id="1086" idx="1"/>
          </p:cNvCxnSpPr>
          <p:nvPr/>
        </p:nvCxnSpPr>
        <p:spPr>
          <a:xfrm flipH="1">
            <a:off x="7063560" y="2295000"/>
            <a:ext cx="732600" cy="3876120"/>
          </a:xfrm>
          <a:prstGeom prst="bentConnector4">
            <a:avLst>
              <a:gd name="adj1" fmla="val -135103"/>
              <a:gd name="adj2" fmla="val 109251"/>
            </a:avLst>
          </a:prstGeom>
          <a:ln w="28440">
            <a:solidFill>
              <a:srgbClr val="3333cc"/>
            </a:solidFill>
            <a:miter/>
          </a:ln>
        </p:spPr>
      </p:cxnSp>
      <p:sp>
        <p:nvSpPr>
          <p:cNvPr id="1101" name="Text Box 85"/>
          <p:cNvSpPr/>
          <p:nvPr/>
        </p:nvSpPr>
        <p:spPr>
          <a:xfrm>
            <a:off x="7346880" y="2563920"/>
            <a:ext cx="10494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di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Oval 86"/>
          <p:cNvSpPr/>
          <p:nvPr/>
        </p:nvSpPr>
        <p:spPr>
          <a:xfrm>
            <a:off x="6675480" y="3097080"/>
            <a:ext cx="815760" cy="816120"/>
          </a:xfrm>
          <a:prstGeom prst="ellipse">
            <a:avLst/>
          </a:prstGeom>
          <a:solidFill>
            <a:srgbClr val="faf138">
              <a:alpha val="30000"/>
            </a:srgbClr>
          </a:solidFill>
          <a:ln w="38160">
            <a:solidFill>
              <a:srgbClr val="faf1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Line 90"/>
          <p:cNvSpPr/>
          <p:nvPr/>
        </p:nvSpPr>
        <p:spPr>
          <a:xfrm>
            <a:off x="743040" y="3936960"/>
            <a:ext cx="0" cy="215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Line 91"/>
          <p:cNvSpPr/>
          <p:nvPr/>
        </p:nvSpPr>
        <p:spPr>
          <a:xfrm>
            <a:off x="743040" y="6094440"/>
            <a:ext cx="286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Text Box 92"/>
          <p:cNvSpPr/>
          <p:nvPr/>
        </p:nvSpPr>
        <p:spPr>
          <a:xfrm rot="16200000">
            <a:off x="-88920" y="4282560"/>
            <a:ext cx="1200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Line 93"/>
          <p:cNvSpPr/>
          <p:nvPr/>
        </p:nvSpPr>
        <p:spPr>
          <a:xfrm flipH="1">
            <a:off x="743040" y="5672160"/>
            <a:ext cx="2860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Text Box 94"/>
          <p:cNvSpPr/>
          <p:nvPr/>
        </p:nvSpPr>
        <p:spPr>
          <a:xfrm>
            <a:off x="3028320" y="6135840"/>
            <a:ext cx="575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Text Box 95"/>
          <p:cNvSpPr/>
          <p:nvPr/>
        </p:nvSpPr>
        <p:spPr>
          <a:xfrm>
            <a:off x="3665520" y="5479920"/>
            <a:ext cx="109512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9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°C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- 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Line 96"/>
          <p:cNvSpPr/>
          <p:nvPr/>
        </p:nvSpPr>
        <p:spPr>
          <a:xfrm flipH="1">
            <a:off x="712800" y="4976640"/>
            <a:ext cx="2860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Text Box 97"/>
          <p:cNvSpPr/>
          <p:nvPr/>
        </p:nvSpPr>
        <p:spPr>
          <a:xfrm>
            <a:off x="3680640" y="4832280"/>
            <a:ext cx="109512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1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°C - o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Freeform 100"/>
          <p:cNvSpPr/>
          <p:nvPr/>
        </p:nvSpPr>
        <p:spPr>
          <a:xfrm>
            <a:off x="746280" y="4968720"/>
            <a:ext cx="2759040" cy="793800"/>
          </a:xfrm>
          <a:custGeom>
            <a:avLst/>
            <a:gdLst/>
            <a:ahLst/>
            <a:rect l="l" t="t" r="r" b="b"/>
            <a:pathLst>
              <a:path w="1738" h="500">
                <a:moveTo>
                  <a:pt x="0" y="364"/>
                </a:moveTo>
                <a:cubicBezTo>
                  <a:pt x="72" y="295"/>
                  <a:pt x="92" y="184"/>
                  <a:pt x="164" y="115"/>
                </a:cubicBezTo>
                <a:cubicBezTo>
                  <a:pt x="177" y="89"/>
                  <a:pt x="189" y="64"/>
                  <a:pt x="202" y="38"/>
                </a:cubicBezTo>
                <a:cubicBezTo>
                  <a:pt x="212" y="17"/>
                  <a:pt x="260" y="0"/>
                  <a:pt x="260" y="0"/>
                </a:cubicBezTo>
                <a:cubicBezTo>
                  <a:pt x="328" y="23"/>
                  <a:pt x="300" y="8"/>
                  <a:pt x="346" y="38"/>
                </a:cubicBezTo>
                <a:cubicBezTo>
                  <a:pt x="397" y="115"/>
                  <a:pt x="330" y="22"/>
                  <a:pt x="394" y="86"/>
                </a:cubicBezTo>
                <a:cubicBezTo>
                  <a:pt x="420" y="112"/>
                  <a:pt x="408" y="114"/>
                  <a:pt x="423" y="144"/>
                </a:cubicBezTo>
                <a:cubicBezTo>
                  <a:pt x="434" y="166"/>
                  <a:pt x="445" y="175"/>
                  <a:pt x="461" y="192"/>
                </a:cubicBezTo>
                <a:cubicBezTo>
                  <a:pt x="479" y="243"/>
                  <a:pt x="550" y="325"/>
                  <a:pt x="596" y="355"/>
                </a:cubicBezTo>
                <a:cubicBezTo>
                  <a:pt x="650" y="438"/>
                  <a:pt x="578" y="341"/>
                  <a:pt x="644" y="393"/>
                </a:cubicBezTo>
                <a:cubicBezTo>
                  <a:pt x="653" y="400"/>
                  <a:pt x="653" y="416"/>
                  <a:pt x="663" y="422"/>
                </a:cubicBezTo>
                <a:cubicBezTo>
                  <a:pt x="680" y="433"/>
                  <a:pt x="720" y="441"/>
                  <a:pt x="720" y="441"/>
                </a:cubicBezTo>
                <a:cubicBezTo>
                  <a:pt x="782" y="500"/>
                  <a:pt x="1019" y="464"/>
                  <a:pt x="1095" y="384"/>
                </a:cubicBezTo>
                <a:cubicBezTo>
                  <a:pt x="1111" y="367"/>
                  <a:pt x="1117" y="342"/>
                  <a:pt x="1133" y="326"/>
                </a:cubicBezTo>
                <a:cubicBezTo>
                  <a:pt x="1156" y="303"/>
                  <a:pt x="1184" y="287"/>
                  <a:pt x="1210" y="268"/>
                </a:cubicBezTo>
                <a:cubicBezTo>
                  <a:pt x="1228" y="254"/>
                  <a:pt x="1268" y="230"/>
                  <a:pt x="1268" y="230"/>
                </a:cubicBezTo>
                <a:cubicBezTo>
                  <a:pt x="1317" y="131"/>
                  <a:pt x="1430" y="93"/>
                  <a:pt x="1527" y="57"/>
                </a:cubicBezTo>
                <a:cubicBezTo>
                  <a:pt x="1559" y="45"/>
                  <a:pt x="1623" y="19"/>
                  <a:pt x="1623" y="19"/>
                </a:cubicBezTo>
                <a:cubicBezTo>
                  <a:pt x="1664" y="27"/>
                  <a:pt x="1696" y="38"/>
                  <a:pt x="1738" y="3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400" y="1383840"/>
            <a:ext cx="684036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is Building s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P-r method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P-r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monstration and hands-on exerc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ilding thermal doma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twork air flow mode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Solar heating system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3"/>
          <p:cNvSpPr/>
          <p:nvPr/>
        </p:nvSpPr>
        <p:spPr>
          <a:xfrm>
            <a:off x="976320" y="1066680"/>
            <a:ext cx="609480" cy="609840"/>
          </a:xfrm>
          <a:prstGeom prst="sun">
            <a:avLst>
              <a:gd name="adj" fmla="val 25000"/>
            </a:avLst>
          </a:prstGeom>
          <a:solidFill>
            <a:srgbClr val="faf138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4"/>
          <p:cNvGrpSpPr/>
          <p:nvPr/>
        </p:nvGrpSpPr>
        <p:grpSpPr>
          <a:xfrm>
            <a:off x="1654200" y="5629320"/>
            <a:ext cx="404640" cy="404640"/>
            <a:chOff x="1654200" y="5629320"/>
            <a:chExt cx="404640" cy="404640"/>
          </a:xfrm>
        </p:grpSpPr>
        <p:sp>
          <p:nvSpPr>
            <p:cNvPr id="100" name="Oval 5"/>
            <p:cNvSpPr/>
            <p:nvPr/>
          </p:nvSpPr>
          <p:spPr>
            <a:xfrm>
              <a:off x="1654200" y="5629320"/>
              <a:ext cx="404640" cy="404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6"/>
            <p:cNvSpPr/>
            <p:nvPr/>
          </p:nvSpPr>
          <p:spPr>
            <a:xfrm rot="16200000">
              <a:off x="1633680" y="5679360"/>
              <a:ext cx="350640" cy="303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Rectangle 7"/>
          <p:cNvSpPr/>
          <p:nvPr/>
        </p:nvSpPr>
        <p:spPr>
          <a:xfrm>
            <a:off x="3619440" y="3943440"/>
            <a:ext cx="1486080" cy="222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3376440" y="5138640"/>
            <a:ext cx="1506600" cy="619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9"/>
          <p:cNvSpPr/>
          <p:nvPr/>
        </p:nvSpPr>
        <p:spPr>
          <a:xfrm>
            <a:off x="4853160" y="5138640"/>
            <a:ext cx="61920" cy="61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10"/>
          <p:cNvGrpSpPr/>
          <p:nvPr/>
        </p:nvGrpSpPr>
        <p:grpSpPr>
          <a:xfrm>
            <a:off x="3800160" y="5137200"/>
            <a:ext cx="1123200" cy="718560"/>
            <a:chOff x="3800160" y="5137200"/>
            <a:chExt cx="1123200" cy="718560"/>
          </a:xfrm>
        </p:grpSpPr>
        <p:grpSp>
          <p:nvGrpSpPr>
            <p:cNvPr id="106" name="Group 11"/>
            <p:cNvGrpSpPr/>
            <p:nvPr/>
          </p:nvGrpSpPr>
          <p:grpSpPr>
            <a:xfrm>
              <a:off x="3800160" y="5137200"/>
              <a:ext cx="1115640" cy="227160"/>
              <a:chOff x="3800160" y="5137200"/>
              <a:chExt cx="1115640" cy="227160"/>
            </a:xfrm>
          </p:grpSpPr>
          <p:grpSp>
            <p:nvGrpSpPr>
              <p:cNvPr id="107" name="Group 12"/>
              <p:cNvGrpSpPr/>
              <p:nvPr/>
            </p:nvGrpSpPr>
            <p:grpSpPr>
              <a:xfrm>
                <a:off x="3801600" y="5137200"/>
                <a:ext cx="1114200" cy="147240"/>
                <a:chOff x="3801600" y="5137200"/>
                <a:chExt cx="1114200" cy="147240"/>
              </a:xfrm>
            </p:grpSpPr>
            <p:sp>
              <p:nvSpPr>
                <p:cNvPr id="108" name="Rectangle 13"/>
                <p:cNvSpPr/>
                <p:nvPr/>
              </p:nvSpPr>
              <p:spPr>
                <a:xfrm flipH="1" rot="21334800">
                  <a:off x="3832560" y="5180040"/>
                  <a:ext cx="1051560" cy="615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Oval 14"/>
                <p:cNvSpPr/>
                <p:nvPr/>
              </p:nvSpPr>
              <p:spPr>
                <a:xfrm flipH="1" rot="21334800">
                  <a:off x="4851360" y="51393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Oval 15"/>
                <p:cNvSpPr/>
                <p:nvPr/>
              </p:nvSpPr>
              <p:spPr>
                <a:xfrm flipH="1" rot="21334800">
                  <a:off x="3803040" y="52203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" name="Group 16"/>
              <p:cNvGrpSpPr/>
              <p:nvPr/>
            </p:nvGrpSpPr>
            <p:grpSpPr>
              <a:xfrm>
                <a:off x="3800160" y="5217480"/>
                <a:ext cx="1113840" cy="146880"/>
                <a:chOff x="3800160" y="5217480"/>
                <a:chExt cx="1113840" cy="146880"/>
              </a:xfrm>
            </p:grpSpPr>
            <p:sp>
              <p:nvSpPr>
                <p:cNvPr id="112" name="Rectangle 17"/>
                <p:cNvSpPr/>
                <p:nvPr/>
              </p:nvSpPr>
              <p:spPr>
                <a:xfrm flipH="1" rot="265800">
                  <a:off x="3831120" y="5259240"/>
                  <a:ext cx="1051200" cy="6120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Oval 18"/>
                <p:cNvSpPr/>
                <p:nvPr/>
              </p:nvSpPr>
              <p:spPr>
                <a:xfrm flipH="1" flipV="1" rot="265200">
                  <a:off x="4849920" y="53002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Oval 19"/>
                <p:cNvSpPr/>
                <p:nvPr/>
              </p:nvSpPr>
              <p:spPr>
                <a:xfrm flipH="1" flipV="1" rot="265200">
                  <a:off x="3802320" y="52192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5" name="Group 20"/>
            <p:cNvGrpSpPr/>
            <p:nvPr/>
          </p:nvGrpSpPr>
          <p:grpSpPr>
            <a:xfrm>
              <a:off x="3803040" y="5301000"/>
              <a:ext cx="1115640" cy="227160"/>
              <a:chOff x="3803040" y="5301000"/>
              <a:chExt cx="1115640" cy="227160"/>
            </a:xfrm>
          </p:grpSpPr>
          <p:grpSp>
            <p:nvGrpSpPr>
              <p:cNvPr id="116" name="Group 21"/>
              <p:cNvGrpSpPr/>
              <p:nvPr/>
            </p:nvGrpSpPr>
            <p:grpSpPr>
              <a:xfrm>
                <a:off x="3804480" y="5301000"/>
                <a:ext cx="1114200" cy="147240"/>
                <a:chOff x="3804480" y="5301000"/>
                <a:chExt cx="1114200" cy="147240"/>
              </a:xfrm>
            </p:grpSpPr>
            <p:sp>
              <p:nvSpPr>
                <p:cNvPr id="117" name="Rectangle 22"/>
                <p:cNvSpPr/>
                <p:nvPr/>
              </p:nvSpPr>
              <p:spPr>
                <a:xfrm flipH="1" rot="21334800">
                  <a:off x="3835440" y="5343840"/>
                  <a:ext cx="1051560" cy="615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Oval 23"/>
                <p:cNvSpPr/>
                <p:nvPr/>
              </p:nvSpPr>
              <p:spPr>
                <a:xfrm flipH="1" rot="21334800">
                  <a:off x="4854240" y="53031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Oval 24"/>
                <p:cNvSpPr/>
                <p:nvPr/>
              </p:nvSpPr>
              <p:spPr>
                <a:xfrm flipH="1" rot="21334800">
                  <a:off x="3805920" y="53841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" name="Group 25"/>
              <p:cNvGrpSpPr/>
              <p:nvPr/>
            </p:nvGrpSpPr>
            <p:grpSpPr>
              <a:xfrm>
                <a:off x="3803040" y="5381280"/>
                <a:ext cx="1113840" cy="146880"/>
                <a:chOff x="3803040" y="5381280"/>
                <a:chExt cx="1113840" cy="146880"/>
              </a:xfrm>
            </p:grpSpPr>
            <p:sp>
              <p:nvSpPr>
                <p:cNvPr id="121" name="Rectangle 26"/>
                <p:cNvSpPr/>
                <p:nvPr/>
              </p:nvSpPr>
              <p:spPr>
                <a:xfrm flipH="1" rot="265800">
                  <a:off x="3834000" y="5423040"/>
                  <a:ext cx="1051200" cy="6120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Oval 27"/>
                <p:cNvSpPr/>
                <p:nvPr/>
              </p:nvSpPr>
              <p:spPr>
                <a:xfrm flipH="1" flipV="1" rot="265200">
                  <a:off x="4852800" y="54640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Oval 28"/>
                <p:cNvSpPr/>
                <p:nvPr/>
              </p:nvSpPr>
              <p:spPr>
                <a:xfrm flipH="1" flipV="1" rot="265200">
                  <a:off x="3805200" y="53830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4" name="Group 29"/>
            <p:cNvGrpSpPr/>
            <p:nvPr/>
          </p:nvGrpSpPr>
          <p:grpSpPr>
            <a:xfrm>
              <a:off x="3805560" y="5464800"/>
              <a:ext cx="1115640" cy="227160"/>
              <a:chOff x="3805560" y="5464800"/>
              <a:chExt cx="1115640" cy="227160"/>
            </a:xfrm>
          </p:grpSpPr>
          <p:grpSp>
            <p:nvGrpSpPr>
              <p:cNvPr id="125" name="Group 30"/>
              <p:cNvGrpSpPr/>
              <p:nvPr/>
            </p:nvGrpSpPr>
            <p:grpSpPr>
              <a:xfrm>
                <a:off x="3807000" y="5464800"/>
                <a:ext cx="1114200" cy="147240"/>
                <a:chOff x="3807000" y="5464800"/>
                <a:chExt cx="1114200" cy="147240"/>
              </a:xfrm>
            </p:grpSpPr>
            <p:sp>
              <p:nvSpPr>
                <p:cNvPr id="126" name="Rectangle 31"/>
                <p:cNvSpPr/>
                <p:nvPr/>
              </p:nvSpPr>
              <p:spPr>
                <a:xfrm flipH="1" rot="21334800">
                  <a:off x="3837960" y="5507640"/>
                  <a:ext cx="1051560" cy="615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Oval 32"/>
                <p:cNvSpPr/>
                <p:nvPr/>
              </p:nvSpPr>
              <p:spPr>
                <a:xfrm flipH="1" rot="21334800">
                  <a:off x="4856760" y="54669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Oval 33"/>
                <p:cNvSpPr/>
                <p:nvPr/>
              </p:nvSpPr>
              <p:spPr>
                <a:xfrm flipH="1" rot="21334800">
                  <a:off x="3808440" y="55479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" name="Group 34"/>
              <p:cNvGrpSpPr/>
              <p:nvPr/>
            </p:nvGrpSpPr>
            <p:grpSpPr>
              <a:xfrm>
                <a:off x="3805560" y="5545080"/>
                <a:ext cx="1113840" cy="146880"/>
                <a:chOff x="3805560" y="5545080"/>
                <a:chExt cx="1113840" cy="146880"/>
              </a:xfrm>
            </p:grpSpPr>
            <p:sp>
              <p:nvSpPr>
                <p:cNvPr id="130" name="Rectangle 35"/>
                <p:cNvSpPr/>
                <p:nvPr/>
              </p:nvSpPr>
              <p:spPr>
                <a:xfrm flipH="1" rot="265800">
                  <a:off x="3836520" y="5586840"/>
                  <a:ext cx="1051200" cy="6120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Oval 36"/>
                <p:cNvSpPr/>
                <p:nvPr/>
              </p:nvSpPr>
              <p:spPr>
                <a:xfrm flipH="1" flipV="1" rot="265200">
                  <a:off x="4855320" y="56278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Oval 37"/>
                <p:cNvSpPr/>
                <p:nvPr/>
              </p:nvSpPr>
              <p:spPr>
                <a:xfrm flipH="1" flipV="1" rot="265200">
                  <a:off x="3807720" y="55468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38"/>
            <p:cNvGrpSpPr/>
            <p:nvPr/>
          </p:nvGrpSpPr>
          <p:grpSpPr>
            <a:xfrm>
              <a:off x="3807720" y="5628600"/>
              <a:ext cx="1115640" cy="227160"/>
              <a:chOff x="3807720" y="5628600"/>
              <a:chExt cx="1115640" cy="227160"/>
            </a:xfrm>
          </p:grpSpPr>
          <p:grpSp>
            <p:nvGrpSpPr>
              <p:cNvPr id="134" name="Group 39"/>
              <p:cNvGrpSpPr/>
              <p:nvPr/>
            </p:nvGrpSpPr>
            <p:grpSpPr>
              <a:xfrm>
                <a:off x="3809160" y="5628600"/>
                <a:ext cx="1114200" cy="147240"/>
                <a:chOff x="3809160" y="5628600"/>
                <a:chExt cx="1114200" cy="147240"/>
              </a:xfrm>
            </p:grpSpPr>
            <p:sp>
              <p:nvSpPr>
                <p:cNvPr id="135" name="Rectangle 40"/>
                <p:cNvSpPr/>
                <p:nvPr/>
              </p:nvSpPr>
              <p:spPr>
                <a:xfrm flipH="1" rot="21334800">
                  <a:off x="3840120" y="5671440"/>
                  <a:ext cx="1051560" cy="615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Oval 41"/>
                <p:cNvSpPr/>
                <p:nvPr/>
              </p:nvSpPr>
              <p:spPr>
                <a:xfrm flipH="1" rot="21334800">
                  <a:off x="4858920" y="56307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Oval 42"/>
                <p:cNvSpPr/>
                <p:nvPr/>
              </p:nvSpPr>
              <p:spPr>
                <a:xfrm flipH="1" rot="21334800">
                  <a:off x="3810600" y="57117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" name="Group 43"/>
              <p:cNvGrpSpPr/>
              <p:nvPr/>
            </p:nvGrpSpPr>
            <p:grpSpPr>
              <a:xfrm>
                <a:off x="3807720" y="5708880"/>
                <a:ext cx="1113840" cy="146880"/>
                <a:chOff x="3807720" y="5708880"/>
                <a:chExt cx="1113840" cy="146880"/>
              </a:xfrm>
            </p:grpSpPr>
            <p:sp>
              <p:nvSpPr>
                <p:cNvPr id="139" name="Rectangle 44"/>
                <p:cNvSpPr/>
                <p:nvPr/>
              </p:nvSpPr>
              <p:spPr>
                <a:xfrm flipH="1" rot="265800">
                  <a:off x="3838680" y="5750640"/>
                  <a:ext cx="1051200" cy="6120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Oval 45"/>
                <p:cNvSpPr/>
                <p:nvPr/>
              </p:nvSpPr>
              <p:spPr>
                <a:xfrm flipH="1" flipV="1" rot="265200">
                  <a:off x="4857480" y="57916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Oval 46"/>
                <p:cNvSpPr/>
                <p:nvPr/>
              </p:nvSpPr>
              <p:spPr>
                <a:xfrm flipH="1" flipV="1" rot="265200">
                  <a:off x="3809880" y="57106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2" name="Rectangle 47"/>
          <p:cNvSpPr/>
          <p:nvPr/>
        </p:nvSpPr>
        <p:spPr>
          <a:xfrm>
            <a:off x="3386160" y="5792760"/>
            <a:ext cx="1506600" cy="619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8"/>
          <p:cNvSpPr/>
          <p:nvPr/>
        </p:nvSpPr>
        <p:spPr>
          <a:xfrm>
            <a:off x="5813280" y="3943440"/>
            <a:ext cx="1484280" cy="222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49"/>
          <p:cNvGrpSpPr/>
          <p:nvPr/>
        </p:nvGrpSpPr>
        <p:grpSpPr>
          <a:xfrm>
            <a:off x="4957920" y="6324480"/>
            <a:ext cx="404640" cy="405000"/>
            <a:chOff x="4957920" y="6324480"/>
            <a:chExt cx="404640" cy="405000"/>
          </a:xfrm>
        </p:grpSpPr>
        <p:sp>
          <p:nvSpPr>
            <p:cNvPr id="145" name="Oval 50"/>
            <p:cNvSpPr/>
            <p:nvPr/>
          </p:nvSpPr>
          <p:spPr>
            <a:xfrm>
              <a:off x="4957920" y="6324480"/>
              <a:ext cx="404640" cy="405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51"/>
            <p:cNvSpPr/>
            <p:nvPr/>
          </p:nvSpPr>
          <p:spPr>
            <a:xfrm rot="16200000">
              <a:off x="4937400" y="6374520"/>
              <a:ext cx="351000" cy="303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47" name="AutoShape 52"/>
          <p:cNvCxnSpPr>
            <a:stCxn id="142" idx="1"/>
            <a:endCxn id="100" idx="6"/>
          </p:cNvCxnSpPr>
          <p:nvPr/>
        </p:nvCxnSpPr>
        <p:spPr>
          <a:xfrm flipV="1" rot="10800000">
            <a:off x="2058120" y="5824080"/>
            <a:ext cx="1328040" cy="8640"/>
          </a:xfrm>
          <a:prstGeom prst="bentConnector3">
            <a:avLst>
              <a:gd name="adj1" fmla="val 50000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148" name="AutoShape 53"/>
          <p:cNvCxnSpPr>
            <a:stCxn id="101" idx="0"/>
            <a:endCxn id="149" idx="2"/>
          </p:cNvCxnSpPr>
          <p:nvPr/>
        </p:nvCxnSpPr>
        <p:spPr>
          <a:xfrm rot="10800000">
            <a:off x="726480" y="3199680"/>
            <a:ext cx="932400" cy="2634480"/>
          </a:xfrm>
          <a:prstGeom prst="bentConnector3">
            <a:avLst>
              <a:gd name="adj1" fmla="val 99111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150" name="AutoShape 54"/>
          <p:cNvCxnSpPr>
            <a:stCxn id="149" idx="0"/>
            <a:endCxn id="103" idx="1"/>
          </p:cNvCxnSpPr>
          <p:nvPr/>
        </p:nvCxnSpPr>
        <p:spPr>
          <a:xfrm>
            <a:off x="2452680" y="1643040"/>
            <a:ext cx="924480" cy="3528000"/>
          </a:xfrm>
          <a:prstGeom prst="bentConnector3">
            <a:avLst>
              <a:gd name="adj1" fmla="val 59446"/>
            </a:avLst>
          </a:prstGeom>
          <a:ln w="28440">
            <a:solidFill>
              <a:srgbClr val="3333cc"/>
            </a:solidFill>
            <a:miter/>
          </a:ln>
        </p:spPr>
      </p:cxnSp>
      <p:grpSp>
        <p:nvGrpSpPr>
          <p:cNvPr id="151" name="Group 55"/>
          <p:cNvGrpSpPr/>
          <p:nvPr/>
        </p:nvGrpSpPr>
        <p:grpSpPr>
          <a:xfrm>
            <a:off x="539280" y="1427040"/>
            <a:ext cx="2090160" cy="1971360"/>
            <a:chOff x="539280" y="1427040"/>
            <a:chExt cx="2090160" cy="1971360"/>
          </a:xfrm>
        </p:grpSpPr>
        <p:sp>
          <p:nvSpPr>
            <p:cNvPr id="152" name="Rectangle 56"/>
            <p:cNvSpPr/>
            <p:nvPr/>
          </p:nvSpPr>
          <p:spPr>
            <a:xfrm rot="2875200">
              <a:off x="1555560" y="1385640"/>
              <a:ext cx="269640" cy="2286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57"/>
            <p:cNvSpPr/>
            <p:nvPr/>
          </p:nvSpPr>
          <p:spPr>
            <a:xfrm rot="2875200">
              <a:off x="1531800" y="1290240"/>
              <a:ext cx="117360" cy="2286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58"/>
            <p:cNvSpPr/>
            <p:nvPr/>
          </p:nvSpPr>
          <p:spPr>
            <a:xfrm rot="2875200">
              <a:off x="1307880" y="1279440"/>
              <a:ext cx="565200" cy="2286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59"/>
            <p:cNvSpPr/>
            <p:nvPr/>
          </p:nvSpPr>
          <p:spPr>
            <a:xfrm rot="2875200">
              <a:off x="1368000" y="1093320"/>
              <a:ext cx="117360" cy="22860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Line 60"/>
          <p:cNvSpPr/>
          <p:nvPr/>
        </p:nvSpPr>
        <p:spPr>
          <a:xfrm>
            <a:off x="3871800" y="394344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61"/>
          <p:cNvSpPr/>
          <p:nvPr/>
        </p:nvSpPr>
        <p:spPr>
          <a:xfrm>
            <a:off x="3892680" y="617076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62"/>
          <p:cNvSpPr/>
          <p:nvPr/>
        </p:nvSpPr>
        <p:spPr>
          <a:xfrm>
            <a:off x="6086520" y="394344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63"/>
          <p:cNvSpPr/>
          <p:nvPr/>
        </p:nvSpPr>
        <p:spPr>
          <a:xfrm>
            <a:off x="6086520" y="617076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AutoShape 64"/>
          <p:cNvCxnSpPr>
            <a:stCxn id="146" idx="0"/>
            <a:endCxn id="102" idx="2"/>
          </p:cNvCxnSpPr>
          <p:nvPr/>
        </p:nvCxnSpPr>
        <p:spPr>
          <a:xfrm rot="10800000">
            <a:off x="4361760" y="6170760"/>
            <a:ext cx="600840" cy="358920"/>
          </a:xfrm>
          <a:prstGeom prst="bentConnector2">
            <a:avLst/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160" name="AutoShape 65"/>
          <p:cNvCxnSpPr>
            <a:stCxn id="158" idx="0"/>
            <a:endCxn id="145" idx="6"/>
          </p:cNvCxnSpPr>
          <p:nvPr/>
        </p:nvCxnSpPr>
        <p:spPr>
          <a:xfrm rot="5400000">
            <a:off x="5545080" y="5987160"/>
            <a:ext cx="357840" cy="724680"/>
          </a:xfrm>
          <a:prstGeom prst="bentConnector4">
            <a:avLst>
              <a:gd name="adj1" fmla="val 101309"/>
              <a:gd name="adj2" fmla="val 50198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161" name="AutoShape 66"/>
          <p:cNvCxnSpPr>
            <a:stCxn id="157" idx="0"/>
            <a:endCxn id="102" idx="0"/>
          </p:cNvCxnSpPr>
          <p:nvPr/>
        </p:nvCxnSpPr>
        <p:spPr>
          <a:xfrm rot="5400000">
            <a:off x="5222880" y="3081960"/>
            <a:ext cx="2160" cy="1724760"/>
          </a:xfrm>
          <a:prstGeom prst="bentConnector3">
            <a:avLst>
              <a:gd name="adj1" fmla="val -14400000"/>
            </a:avLst>
          </a:prstGeom>
          <a:ln w="28440">
            <a:solidFill>
              <a:srgbClr val="3333cc"/>
            </a:solidFill>
            <a:miter/>
          </a:ln>
        </p:spPr>
      </p:cxnSp>
      <p:sp>
        <p:nvSpPr>
          <p:cNvPr id="162" name="Rectangle 67"/>
          <p:cNvSpPr/>
          <p:nvPr/>
        </p:nvSpPr>
        <p:spPr>
          <a:xfrm>
            <a:off x="6381720" y="3505320"/>
            <a:ext cx="304920" cy="21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68"/>
          <p:cNvSpPr/>
          <p:nvPr/>
        </p:nvSpPr>
        <p:spPr>
          <a:xfrm rot="10800000">
            <a:off x="6221520" y="5678280"/>
            <a:ext cx="627120" cy="247320"/>
          </a:xfrm>
          <a:custGeom>
            <a:avLst/>
            <a:gdLst>
              <a:gd name="textAreaLeft" fmla="*/ 130680 w 627120"/>
              <a:gd name="textAreaRight" fmla="*/ 496440 w 627120"/>
              <a:gd name="textAreaTop" fmla="*/ 51480 h 247320"/>
              <a:gd name="textAreaBottom" fmla="*/ 195840 h 247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9"/>
          <p:cNvSpPr/>
          <p:nvPr/>
        </p:nvSpPr>
        <p:spPr>
          <a:xfrm>
            <a:off x="5813280" y="5925960"/>
            <a:ext cx="1484280" cy="24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70"/>
          <p:cNvGrpSpPr/>
          <p:nvPr/>
        </p:nvGrpSpPr>
        <p:grpSpPr>
          <a:xfrm>
            <a:off x="6861240" y="3303720"/>
            <a:ext cx="404640" cy="404640"/>
            <a:chOff x="6861240" y="3303720"/>
            <a:chExt cx="404640" cy="404640"/>
          </a:xfrm>
        </p:grpSpPr>
        <p:sp>
          <p:nvSpPr>
            <p:cNvPr id="166" name="Oval 71"/>
            <p:cNvSpPr/>
            <p:nvPr/>
          </p:nvSpPr>
          <p:spPr>
            <a:xfrm rot="5400000">
              <a:off x="6861240" y="3303720"/>
              <a:ext cx="404640" cy="404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AutoShape 72"/>
            <p:cNvSpPr/>
            <p:nvPr/>
          </p:nvSpPr>
          <p:spPr>
            <a:xfrm>
              <a:off x="6888600" y="3306960"/>
              <a:ext cx="350640" cy="303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68" name="AutoShape 73"/>
          <p:cNvCxnSpPr>
            <a:stCxn id="166" idx="6"/>
            <a:endCxn id="157" idx="1"/>
          </p:cNvCxnSpPr>
          <p:nvPr/>
        </p:nvCxnSpPr>
        <p:spPr>
          <a:xfrm rot="5400000">
            <a:off x="6947640" y="3825720"/>
            <a:ext cx="234000" cy="2520"/>
          </a:xfrm>
          <a:prstGeom prst="bentConnector3">
            <a:avLst>
              <a:gd name="adj1" fmla="val 96456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169" name="AutoShape 74"/>
          <p:cNvCxnSpPr>
            <a:stCxn id="170" idx="3"/>
            <a:endCxn id="158" idx="1"/>
          </p:cNvCxnSpPr>
          <p:nvPr/>
        </p:nvCxnSpPr>
        <p:spPr>
          <a:xfrm flipH="1">
            <a:off x="7063560" y="1504440"/>
            <a:ext cx="732600" cy="4666680"/>
          </a:xfrm>
          <a:prstGeom prst="bentConnector4">
            <a:avLst>
              <a:gd name="adj1" fmla="val -133579"/>
              <a:gd name="adj2" fmla="val 107313"/>
            </a:avLst>
          </a:prstGeom>
          <a:ln w="28440">
            <a:solidFill>
              <a:srgbClr val="3333cc"/>
            </a:solidFill>
            <a:miter/>
          </a:ln>
        </p:spPr>
      </p:cxnSp>
      <p:sp>
        <p:nvSpPr>
          <p:cNvPr id="171" name="Text Box 75"/>
          <p:cNvSpPr/>
          <p:nvPr/>
        </p:nvSpPr>
        <p:spPr>
          <a:xfrm>
            <a:off x="2927160" y="5978520"/>
            <a:ext cx="7779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ff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76"/>
          <p:cNvSpPr/>
          <p:nvPr/>
        </p:nvSpPr>
        <p:spPr>
          <a:xfrm>
            <a:off x="7348320" y="3944880"/>
            <a:ext cx="10144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s-fire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77"/>
          <p:cNvSpPr/>
          <p:nvPr/>
        </p:nvSpPr>
        <p:spPr>
          <a:xfrm>
            <a:off x="1586520" y="2517840"/>
            <a:ext cx="9824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a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78"/>
          <p:cNvSpPr/>
          <p:nvPr/>
        </p:nvSpPr>
        <p:spPr>
          <a:xfrm>
            <a:off x="841680" y="1634760"/>
            <a:ext cx="675720" cy="7484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79"/>
          <p:cNvSpPr/>
          <p:nvPr/>
        </p:nvSpPr>
        <p:spPr>
          <a:xfrm flipH="1" flipV="1">
            <a:off x="974160" y="2149200"/>
            <a:ext cx="398160" cy="640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80"/>
          <p:cNvSpPr/>
          <p:nvPr/>
        </p:nvSpPr>
        <p:spPr>
          <a:xfrm>
            <a:off x="4645080" y="1235160"/>
            <a:ext cx="3151080" cy="5382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81"/>
          <p:cNvSpPr/>
          <p:nvPr/>
        </p:nvSpPr>
        <p:spPr>
          <a:xfrm>
            <a:off x="4645080" y="2025720"/>
            <a:ext cx="3151080" cy="5382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AutoShape 82"/>
          <p:cNvCxnSpPr>
            <a:stCxn id="170" idx="1"/>
            <a:endCxn id="167" idx="0"/>
          </p:cNvCxnSpPr>
          <p:nvPr/>
        </p:nvCxnSpPr>
        <p:spPr>
          <a:xfrm flipH="1" flipV="1" rot="10800000">
            <a:off x="4645080" y="1503720"/>
            <a:ext cx="2419560" cy="1802520"/>
          </a:xfrm>
          <a:prstGeom prst="bentConnector4">
            <a:avLst>
              <a:gd name="adj1" fmla="val -26443"/>
              <a:gd name="adj2" fmla="val 85177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178" name="AutoShape 83"/>
          <p:cNvCxnSpPr>
            <a:stCxn id="167" idx="0"/>
            <a:endCxn id="176" idx="1"/>
          </p:cNvCxnSpPr>
          <p:nvPr/>
        </p:nvCxnSpPr>
        <p:spPr>
          <a:xfrm flipV="1" rot="16200000">
            <a:off x="5348880" y="1590840"/>
            <a:ext cx="1011960" cy="2419560"/>
          </a:xfrm>
          <a:prstGeom prst="bentConnector4">
            <a:avLst>
              <a:gd name="adj1" fmla="val 26192"/>
              <a:gd name="adj2" fmla="val 126383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179" name="AutoShape 84"/>
          <p:cNvCxnSpPr>
            <a:stCxn id="176" idx="3"/>
            <a:endCxn id="158" idx="1"/>
          </p:cNvCxnSpPr>
          <p:nvPr/>
        </p:nvCxnSpPr>
        <p:spPr>
          <a:xfrm flipH="1">
            <a:off x="7063560" y="2295000"/>
            <a:ext cx="732600" cy="3876120"/>
          </a:xfrm>
          <a:prstGeom prst="bentConnector4">
            <a:avLst>
              <a:gd name="adj1" fmla="val -135103"/>
              <a:gd name="adj2" fmla="val 109251"/>
            </a:avLst>
          </a:prstGeom>
          <a:ln w="28440">
            <a:solidFill>
              <a:srgbClr val="3333cc"/>
            </a:solidFill>
            <a:miter/>
          </a:ln>
        </p:spPr>
      </p:cxnSp>
      <p:sp>
        <p:nvSpPr>
          <p:cNvPr id="180" name="Text Box 85"/>
          <p:cNvSpPr/>
          <p:nvPr/>
        </p:nvSpPr>
        <p:spPr>
          <a:xfrm>
            <a:off x="7346880" y="2563920"/>
            <a:ext cx="10494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di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Plant-networks: Component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3"/>
          <p:cNvSpPr/>
          <p:nvPr/>
        </p:nvSpPr>
        <p:spPr>
          <a:xfrm>
            <a:off x="976320" y="1066680"/>
            <a:ext cx="609480" cy="609840"/>
          </a:xfrm>
          <a:prstGeom prst="sun">
            <a:avLst>
              <a:gd name="adj" fmla="val 25000"/>
            </a:avLst>
          </a:prstGeom>
          <a:solidFill>
            <a:srgbClr val="faf138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4"/>
          <p:cNvGrpSpPr/>
          <p:nvPr/>
        </p:nvGrpSpPr>
        <p:grpSpPr>
          <a:xfrm>
            <a:off x="1654200" y="5629320"/>
            <a:ext cx="404640" cy="404640"/>
            <a:chOff x="1654200" y="5629320"/>
            <a:chExt cx="404640" cy="404640"/>
          </a:xfrm>
        </p:grpSpPr>
        <p:sp>
          <p:nvSpPr>
            <p:cNvPr id="184" name="Oval 5"/>
            <p:cNvSpPr/>
            <p:nvPr/>
          </p:nvSpPr>
          <p:spPr>
            <a:xfrm>
              <a:off x="1654200" y="5629320"/>
              <a:ext cx="404640" cy="404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6"/>
            <p:cNvSpPr/>
            <p:nvPr/>
          </p:nvSpPr>
          <p:spPr>
            <a:xfrm rot="16200000">
              <a:off x="1633680" y="5679360"/>
              <a:ext cx="350640" cy="303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Rectangle 7"/>
          <p:cNvSpPr/>
          <p:nvPr/>
        </p:nvSpPr>
        <p:spPr>
          <a:xfrm>
            <a:off x="3619440" y="3943440"/>
            <a:ext cx="1486080" cy="222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3376440" y="5138640"/>
            <a:ext cx="1506600" cy="619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9"/>
          <p:cNvSpPr/>
          <p:nvPr/>
        </p:nvSpPr>
        <p:spPr>
          <a:xfrm>
            <a:off x="4853160" y="5138640"/>
            <a:ext cx="61920" cy="61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10"/>
          <p:cNvGrpSpPr/>
          <p:nvPr/>
        </p:nvGrpSpPr>
        <p:grpSpPr>
          <a:xfrm>
            <a:off x="3800160" y="5137200"/>
            <a:ext cx="1123200" cy="718560"/>
            <a:chOff x="3800160" y="5137200"/>
            <a:chExt cx="1123200" cy="718560"/>
          </a:xfrm>
        </p:grpSpPr>
        <p:grpSp>
          <p:nvGrpSpPr>
            <p:cNvPr id="190" name="Group 11"/>
            <p:cNvGrpSpPr/>
            <p:nvPr/>
          </p:nvGrpSpPr>
          <p:grpSpPr>
            <a:xfrm>
              <a:off x="3800160" y="5137200"/>
              <a:ext cx="1115640" cy="227160"/>
              <a:chOff x="3800160" y="5137200"/>
              <a:chExt cx="1115640" cy="227160"/>
            </a:xfrm>
          </p:grpSpPr>
          <p:grpSp>
            <p:nvGrpSpPr>
              <p:cNvPr id="191" name="Group 12"/>
              <p:cNvGrpSpPr/>
              <p:nvPr/>
            </p:nvGrpSpPr>
            <p:grpSpPr>
              <a:xfrm>
                <a:off x="3801600" y="5137200"/>
                <a:ext cx="1114200" cy="147240"/>
                <a:chOff x="3801600" y="5137200"/>
                <a:chExt cx="1114200" cy="147240"/>
              </a:xfrm>
            </p:grpSpPr>
            <p:sp>
              <p:nvSpPr>
                <p:cNvPr id="192" name="Rectangle 13"/>
                <p:cNvSpPr/>
                <p:nvPr/>
              </p:nvSpPr>
              <p:spPr>
                <a:xfrm flipH="1" rot="21334800">
                  <a:off x="3832560" y="5180040"/>
                  <a:ext cx="1051560" cy="615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Oval 14"/>
                <p:cNvSpPr/>
                <p:nvPr/>
              </p:nvSpPr>
              <p:spPr>
                <a:xfrm flipH="1" rot="21334800">
                  <a:off x="4851360" y="51393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Oval 15"/>
                <p:cNvSpPr/>
                <p:nvPr/>
              </p:nvSpPr>
              <p:spPr>
                <a:xfrm flipH="1" rot="21334800">
                  <a:off x="3803040" y="52203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5" name="Group 16"/>
              <p:cNvGrpSpPr/>
              <p:nvPr/>
            </p:nvGrpSpPr>
            <p:grpSpPr>
              <a:xfrm>
                <a:off x="3800160" y="5217480"/>
                <a:ext cx="1113840" cy="146880"/>
                <a:chOff x="3800160" y="5217480"/>
                <a:chExt cx="1113840" cy="146880"/>
              </a:xfrm>
            </p:grpSpPr>
            <p:sp>
              <p:nvSpPr>
                <p:cNvPr id="196" name="Rectangle 17"/>
                <p:cNvSpPr/>
                <p:nvPr/>
              </p:nvSpPr>
              <p:spPr>
                <a:xfrm flipH="1" rot="265800">
                  <a:off x="3831120" y="5259240"/>
                  <a:ext cx="1051200" cy="6120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Oval 18"/>
                <p:cNvSpPr/>
                <p:nvPr/>
              </p:nvSpPr>
              <p:spPr>
                <a:xfrm flipH="1" flipV="1" rot="265200">
                  <a:off x="4849920" y="53002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Oval 19"/>
                <p:cNvSpPr/>
                <p:nvPr/>
              </p:nvSpPr>
              <p:spPr>
                <a:xfrm flipH="1" flipV="1" rot="265200">
                  <a:off x="3802320" y="52192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9" name="Group 20"/>
            <p:cNvGrpSpPr/>
            <p:nvPr/>
          </p:nvGrpSpPr>
          <p:grpSpPr>
            <a:xfrm>
              <a:off x="3803040" y="5301000"/>
              <a:ext cx="1115640" cy="227160"/>
              <a:chOff x="3803040" y="5301000"/>
              <a:chExt cx="1115640" cy="227160"/>
            </a:xfrm>
          </p:grpSpPr>
          <p:grpSp>
            <p:nvGrpSpPr>
              <p:cNvPr id="200" name="Group 21"/>
              <p:cNvGrpSpPr/>
              <p:nvPr/>
            </p:nvGrpSpPr>
            <p:grpSpPr>
              <a:xfrm>
                <a:off x="3804480" y="5301000"/>
                <a:ext cx="1114200" cy="147240"/>
                <a:chOff x="3804480" y="5301000"/>
                <a:chExt cx="1114200" cy="147240"/>
              </a:xfrm>
            </p:grpSpPr>
            <p:sp>
              <p:nvSpPr>
                <p:cNvPr id="201" name="Rectangle 22"/>
                <p:cNvSpPr/>
                <p:nvPr/>
              </p:nvSpPr>
              <p:spPr>
                <a:xfrm flipH="1" rot="21334800">
                  <a:off x="3835440" y="5343840"/>
                  <a:ext cx="1051560" cy="615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Oval 23"/>
                <p:cNvSpPr/>
                <p:nvPr/>
              </p:nvSpPr>
              <p:spPr>
                <a:xfrm flipH="1" rot="21334800">
                  <a:off x="4854240" y="53031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Oval 24"/>
                <p:cNvSpPr/>
                <p:nvPr/>
              </p:nvSpPr>
              <p:spPr>
                <a:xfrm flipH="1" rot="21334800">
                  <a:off x="3805920" y="53841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4" name="Group 25"/>
              <p:cNvGrpSpPr/>
              <p:nvPr/>
            </p:nvGrpSpPr>
            <p:grpSpPr>
              <a:xfrm>
                <a:off x="3803040" y="5381280"/>
                <a:ext cx="1113840" cy="146880"/>
                <a:chOff x="3803040" y="5381280"/>
                <a:chExt cx="1113840" cy="146880"/>
              </a:xfrm>
            </p:grpSpPr>
            <p:sp>
              <p:nvSpPr>
                <p:cNvPr id="205" name="Rectangle 26"/>
                <p:cNvSpPr/>
                <p:nvPr/>
              </p:nvSpPr>
              <p:spPr>
                <a:xfrm flipH="1" rot="265800">
                  <a:off x="3834000" y="5423040"/>
                  <a:ext cx="1051200" cy="6120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Oval 27"/>
                <p:cNvSpPr/>
                <p:nvPr/>
              </p:nvSpPr>
              <p:spPr>
                <a:xfrm flipH="1" flipV="1" rot="265200">
                  <a:off x="4852800" y="54640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Oval 28"/>
                <p:cNvSpPr/>
                <p:nvPr/>
              </p:nvSpPr>
              <p:spPr>
                <a:xfrm flipH="1" flipV="1" rot="265200">
                  <a:off x="3805200" y="53830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8" name="Group 29"/>
            <p:cNvGrpSpPr/>
            <p:nvPr/>
          </p:nvGrpSpPr>
          <p:grpSpPr>
            <a:xfrm>
              <a:off x="3805560" y="5464800"/>
              <a:ext cx="1115640" cy="227160"/>
              <a:chOff x="3805560" y="5464800"/>
              <a:chExt cx="1115640" cy="227160"/>
            </a:xfrm>
          </p:grpSpPr>
          <p:grpSp>
            <p:nvGrpSpPr>
              <p:cNvPr id="209" name="Group 30"/>
              <p:cNvGrpSpPr/>
              <p:nvPr/>
            </p:nvGrpSpPr>
            <p:grpSpPr>
              <a:xfrm>
                <a:off x="3807000" y="5464800"/>
                <a:ext cx="1114200" cy="147240"/>
                <a:chOff x="3807000" y="5464800"/>
                <a:chExt cx="1114200" cy="147240"/>
              </a:xfrm>
            </p:grpSpPr>
            <p:sp>
              <p:nvSpPr>
                <p:cNvPr id="210" name="Rectangle 31"/>
                <p:cNvSpPr/>
                <p:nvPr/>
              </p:nvSpPr>
              <p:spPr>
                <a:xfrm flipH="1" rot="21334800">
                  <a:off x="3837960" y="5507640"/>
                  <a:ext cx="1051560" cy="615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Oval 32"/>
                <p:cNvSpPr/>
                <p:nvPr/>
              </p:nvSpPr>
              <p:spPr>
                <a:xfrm flipH="1" rot="21334800">
                  <a:off x="4856760" y="54669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Oval 33"/>
                <p:cNvSpPr/>
                <p:nvPr/>
              </p:nvSpPr>
              <p:spPr>
                <a:xfrm flipH="1" rot="21334800">
                  <a:off x="3808440" y="55479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3" name="Group 34"/>
              <p:cNvGrpSpPr/>
              <p:nvPr/>
            </p:nvGrpSpPr>
            <p:grpSpPr>
              <a:xfrm>
                <a:off x="3805560" y="5545080"/>
                <a:ext cx="1113840" cy="146880"/>
                <a:chOff x="3805560" y="5545080"/>
                <a:chExt cx="1113840" cy="146880"/>
              </a:xfrm>
            </p:grpSpPr>
            <p:sp>
              <p:nvSpPr>
                <p:cNvPr id="214" name="Rectangle 35"/>
                <p:cNvSpPr/>
                <p:nvPr/>
              </p:nvSpPr>
              <p:spPr>
                <a:xfrm flipH="1" rot="265800">
                  <a:off x="3836520" y="5586840"/>
                  <a:ext cx="1051200" cy="6120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Oval 36"/>
                <p:cNvSpPr/>
                <p:nvPr/>
              </p:nvSpPr>
              <p:spPr>
                <a:xfrm flipH="1" flipV="1" rot="265200">
                  <a:off x="4855320" y="56278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Oval 37"/>
                <p:cNvSpPr/>
                <p:nvPr/>
              </p:nvSpPr>
              <p:spPr>
                <a:xfrm flipH="1" flipV="1" rot="265200">
                  <a:off x="3807720" y="55468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Group 38"/>
            <p:cNvGrpSpPr/>
            <p:nvPr/>
          </p:nvGrpSpPr>
          <p:grpSpPr>
            <a:xfrm>
              <a:off x="3807720" y="5628600"/>
              <a:ext cx="1115640" cy="227160"/>
              <a:chOff x="3807720" y="5628600"/>
              <a:chExt cx="1115640" cy="227160"/>
            </a:xfrm>
          </p:grpSpPr>
          <p:grpSp>
            <p:nvGrpSpPr>
              <p:cNvPr id="218" name="Group 39"/>
              <p:cNvGrpSpPr/>
              <p:nvPr/>
            </p:nvGrpSpPr>
            <p:grpSpPr>
              <a:xfrm>
                <a:off x="3809160" y="5628600"/>
                <a:ext cx="1114200" cy="147240"/>
                <a:chOff x="3809160" y="5628600"/>
                <a:chExt cx="1114200" cy="147240"/>
              </a:xfrm>
            </p:grpSpPr>
            <p:sp>
              <p:nvSpPr>
                <p:cNvPr id="219" name="Rectangle 40"/>
                <p:cNvSpPr/>
                <p:nvPr/>
              </p:nvSpPr>
              <p:spPr>
                <a:xfrm flipH="1" rot="21334800">
                  <a:off x="3840120" y="5671440"/>
                  <a:ext cx="1051560" cy="615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Oval 41"/>
                <p:cNvSpPr/>
                <p:nvPr/>
              </p:nvSpPr>
              <p:spPr>
                <a:xfrm flipH="1" rot="21334800">
                  <a:off x="4858920" y="56307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Oval 42"/>
                <p:cNvSpPr/>
                <p:nvPr/>
              </p:nvSpPr>
              <p:spPr>
                <a:xfrm flipH="1" rot="21334800">
                  <a:off x="3810600" y="57117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2" name="Group 43"/>
              <p:cNvGrpSpPr/>
              <p:nvPr/>
            </p:nvGrpSpPr>
            <p:grpSpPr>
              <a:xfrm>
                <a:off x="3807720" y="5708880"/>
                <a:ext cx="1113840" cy="146880"/>
                <a:chOff x="3807720" y="5708880"/>
                <a:chExt cx="1113840" cy="146880"/>
              </a:xfrm>
            </p:grpSpPr>
            <p:sp>
              <p:nvSpPr>
                <p:cNvPr id="223" name="Rectangle 44"/>
                <p:cNvSpPr/>
                <p:nvPr/>
              </p:nvSpPr>
              <p:spPr>
                <a:xfrm flipH="1" rot="265800">
                  <a:off x="3838680" y="5750640"/>
                  <a:ext cx="1051200" cy="6120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Oval 45"/>
                <p:cNvSpPr/>
                <p:nvPr/>
              </p:nvSpPr>
              <p:spPr>
                <a:xfrm flipH="1" flipV="1" rot="265200">
                  <a:off x="4857480" y="57916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Oval 46"/>
                <p:cNvSpPr/>
                <p:nvPr/>
              </p:nvSpPr>
              <p:spPr>
                <a:xfrm flipH="1" flipV="1" rot="265200">
                  <a:off x="3809880" y="57106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26" name="Rectangle 47"/>
          <p:cNvSpPr/>
          <p:nvPr/>
        </p:nvSpPr>
        <p:spPr>
          <a:xfrm>
            <a:off x="3386160" y="5792760"/>
            <a:ext cx="1506600" cy="619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8"/>
          <p:cNvSpPr/>
          <p:nvPr/>
        </p:nvSpPr>
        <p:spPr>
          <a:xfrm>
            <a:off x="5813280" y="3943440"/>
            <a:ext cx="1484280" cy="222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49"/>
          <p:cNvGrpSpPr/>
          <p:nvPr/>
        </p:nvGrpSpPr>
        <p:grpSpPr>
          <a:xfrm>
            <a:off x="4957920" y="6324480"/>
            <a:ext cx="404640" cy="405000"/>
            <a:chOff x="4957920" y="6324480"/>
            <a:chExt cx="404640" cy="405000"/>
          </a:xfrm>
        </p:grpSpPr>
        <p:sp>
          <p:nvSpPr>
            <p:cNvPr id="229" name="Oval 50"/>
            <p:cNvSpPr/>
            <p:nvPr/>
          </p:nvSpPr>
          <p:spPr>
            <a:xfrm>
              <a:off x="4957920" y="6324480"/>
              <a:ext cx="404640" cy="405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AutoShape 51"/>
            <p:cNvSpPr/>
            <p:nvPr/>
          </p:nvSpPr>
          <p:spPr>
            <a:xfrm rot="16200000">
              <a:off x="4937400" y="6374520"/>
              <a:ext cx="351000" cy="303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31" name="AutoShape 52"/>
          <p:cNvCxnSpPr>
            <a:stCxn id="226" idx="1"/>
            <a:endCxn id="184" idx="6"/>
          </p:cNvCxnSpPr>
          <p:nvPr/>
        </p:nvCxnSpPr>
        <p:spPr>
          <a:xfrm flipV="1" rot="10800000">
            <a:off x="2058120" y="5824080"/>
            <a:ext cx="1328040" cy="8640"/>
          </a:xfrm>
          <a:prstGeom prst="bentConnector3">
            <a:avLst>
              <a:gd name="adj1" fmla="val 50000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232" name="AutoShape 53"/>
          <p:cNvCxnSpPr>
            <a:stCxn id="185" idx="0"/>
            <a:endCxn id="233" idx="2"/>
          </p:cNvCxnSpPr>
          <p:nvPr/>
        </p:nvCxnSpPr>
        <p:spPr>
          <a:xfrm rot="10800000">
            <a:off x="726480" y="3199680"/>
            <a:ext cx="932400" cy="2634480"/>
          </a:xfrm>
          <a:prstGeom prst="bentConnector3">
            <a:avLst>
              <a:gd name="adj1" fmla="val 99111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234" name="AutoShape 54"/>
          <p:cNvCxnSpPr>
            <a:stCxn id="233" idx="0"/>
            <a:endCxn id="187" idx="1"/>
          </p:cNvCxnSpPr>
          <p:nvPr/>
        </p:nvCxnSpPr>
        <p:spPr>
          <a:xfrm>
            <a:off x="2452680" y="1643040"/>
            <a:ext cx="924480" cy="3528000"/>
          </a:xfrm>
          <a:prstGeom prst="bentConnector3">
            <a:avLst>
              <a:gd name="adj1" fmla="val 59446"/>
            </a:avLst>
          </a:prstGeom>
          <a:ln w="28440">
            <a:solidFill>
              <a:srgbClr val="3333cc"/>
            </a:solidFill>
            <a:miter/>
          </a:ln>
        </p:spPr>
      </p:cxnSp>
      <p:grpSp>
        <p:nvGrpSpPr>
          <p:cNvPr id="235" name="Group 55"/>
          <p:cNvGrpSpPr/>
          <p:nvPr/>
        </p:nvGrpSpPr>
        <p:grpSpPr>
          <a:xfrm>
            <a:off x="539280" y="1427040"/>
            <a:ext cx="2090160" cy="1971360"/>
            <a:chOff x="539280" y="1427040"/>
            <a:chExt cx="2090160" cy="1971360"/>
          </a:xfrm>
        </p:grpSpPr>
        <p:sp>
          <p:nvSpPr>
            <p:cNvPr id="236" name="Rectangle 56"/>
            <p:cNvSpPr/>
            <p:nvPr/>
          </p:nvSpPr>
          <p:spPr>
            <a:xfrm rot="2875200">
              <a:off x="1555560" y="1385640"/>
              <a:ext cx="269640" cy="2286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57"/>
            <p:cNvSpPr/>
            <p:nvPr/>
          </p:nvSpPr>
          <p:spPr>
            <a:xfrm rot="2875200">
              <a:off x="1531800" y="1290240"/>
              <a:ext cx="117360" cy="2286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58"/>
            <p:cNvSpPr/>
            <p:nvPr/>
          </p:nvSpPr>
          <p:spPr>
            <a:xfrm rot="2875200">
              <a:off x="1307880" y="1279440"/>
              <a:ext cx="565200" cy="2286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59"/>
            <p:cNvSpPr/>
            <p:nvPr/>
          </p:nvSpPr>
          <p:spPr>
            <a:xfrm rot="2875200">
              <a:off x="1368000" y="1093320"/>
              <a:ext cx="117360" cy="22860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Line 60"/>
          <p:cNvSpPr/>
          <p:nvPr/>
        </p:nvSpPr>
        <p:spPr>
          <a:xfrm>
            <a:off x="3871800" y="394344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61"/>
          <p:cNvSpPr/>
          <p:nvPr/>
        </p:nvSpPr>
        <p:spPr>
          <a:xfrm>
            <a:off x="3892680" y="617076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62"/>
          <p:cNvSpPr/>
          <p:nvPr/>
        </p:nvSpPr>
        <p:spPr>
          <a:xfrm>
            <a:off x="6086520" y="394344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63"/>
          <p:cNvSpPr/>
          <p:nvPr/>
        </p:nvSpPr>
        <p:spPr>
          <a:xfrm>
            <a:off x="6086520" y="617076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3" name="AutoShape 64"/>
          <p:cNvCxnSpPr>
            <a:stCxn id="230" idx="0"/>
            <a:endCxn id="186" idx="2"/>
          </p:cNvCxnSpPr>
          <p:nvPr/>
        </p:nvCxnSpPr>
        <p:spPr>
          <a:xfrm rot="10800000">
            <a:off x="4361760" y="6170760"/>
            <a:ext cx="600840" cy="358920"/>
          </a:xfrm>
          <a:prstGeom prst="bentConnector2">
            <a:avLst/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244" name="AutoShape 65"/>
          <p:cNvCxnSpPr>
            <a:stCxn id="242" idx="0"/>
            <a:endCxn id="229" idx="6"/>
          </p:cNvCxnSpPr>
          <p:nvPr/>
        </p:nvCxnSpPr>
        <p:spPr>
          <a:xfrm rot="5400000">
            <a:off x="5545080" y="5987160"/>
            <a:ext cx="357840" cy="724680"/>
          </a:xfrm>
          <a:prstGeom prst="bentConnector4">
            <a:avLst>
              <a:gd name="adj1" fmla="val 101309"/>
              <a:gd name="adj2" fmla="val 50198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245" name="AutoShape 66"/>
          <p:cNvCxnSpPr>
            <a:stCxn id="241" idx="0"/>
            <a:endCxn id="186" idx="0"/>
          </p:cNvCxnSpPr>
          <p:nvPr/>
        </p:nvCxnSpPr>
        <p:spPr>
          <a:xfrm rot="5400000">
            <a:off x="5222880" y="3081960"/>
            <a:ext cx="2160" cy="1724760"/>
          </a:xfrm>
          <a:prstGeom prst="bentConnector3">
            <a:avLst>
              <a:gd name="adj1" fmla="val -14400000"/>
            </a:avLst>
          </a:prstGeom>
          <a:ln w="28440">
            <a:solidFill>
              <a:srgbClr val="3333cc"/>
            </a:solidFill>
            <a:miter/>
          </a:ln>
        </p:spPr>
      </p:cxnSp>
      <p:sp>
        <p:nvSpPr>
          <p:cNvPr id="246" name="Rectangle 67"/>
          <p:cNvSpPr/>
          <p:nvPr/>
        </p:nvSpPr>
        <p:spPr>
          <a:xfrm>
            <a:off x="6381720" y="3505320"/>
            <a:ext cx="304920" cy="21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68"/>
          <p:cNvSpPr/>
          <p:nvPr/>
        </p:nvSpPr>
        <p:spPr>
          <a:xfrm rot="10800000">
            <a:off x="6221520" y="5678280"/>
            <a:ext cx="627120" cy="247320"/>
          </a:xfrm>
          <a:custGeom>
            <a:avLst/>
            <a:gdLst>
              <a:gd name="textAreaLeft" fmla="*/ 130680 w 627120"/>
              <a:gd name="textAreaRight" fmla="*/ 496440 w 627120"/>
              <a:gd name="textAreaTop" fmla="*/ 51480 h 247320"/>
              <a:gd name="textAreaBottom" fmla="*/ 195840 h 247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69"/>
          <p:cNvSpPr/>
          <p:nvPr/>
        </p:nvSpPr>
        <p:spPr>
          <a:xfrm>
            <a:off x="5813280" y="5925960"/>
            <a:ext cx="1484280" cy="24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70"/>
          <p:cNvGrpSpPr/>
          <p:nvPr/>
        </p:nvGrpSpPr>
        <p:grpSpPr>
          <a:xfrm>
            <a:off x="6861240" y="3303720"/>
            <a:ext cx="404640" cy="404640"/>
            <a:chOff x="6861240" y="3303720"/>
            <a:chExt cx="404640" cy="404640"/>
          </a:xfrm>
        </p:grpSpPr>
        <p:sp>
          <p:nvSpPr>
            <p:cNvPr id="250" name="Oval 71"/>
            <p:cNvSpPr/>
            <p:nvPr/>
          </p:nvSpPr>
          <p:spPr>
            <a:xfrm rot="5400000">
              <a:off x="6861240" y="3303720"/>
              <a:ext cx="404640" cy="404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AutoShape 72"/>
            <p:cNvSpPr/>
            <p:nvPr/>
          </p:nvSpPr>
          <p:spPr>
            <a:xfrm>
              <a:off x="6888600" y="3306960"/>
              <a:ext cx="350640" cy="303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52" name="AutoShape 73"/>
          <p:cNvCxnSpPr>
            <a:stCxn id="250" idx="6"/>
            <a:endCxn id="241" idx="1"/>
          </p:cNvCxnSpPr>
          <p:nvPr/>
        </p:nvCxnSpPr>
        <p:spPr>
          <a:xfrm rot="5400000">
            <a:off x="6947640" y="3825720"/>
            <a:ext cx="234000" cy="2520"/>
          </a:xfrm>
          <a:prstGeom prst="bentConnector3">
            <a:avLst>
              <a:gd name="adj1" fmla="val 96456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253" name="AutoShape 74"/>
          <p:cNvCxnSpPr>
            <a:stCxn id="254" idx="3"/>
            <a:endCxn id="242" idx="1"/>
          </p:cNvCxnSpPr>
          <p:nvPr/>
        </p:nvCxnSpPr>
        <p:spPr>
          <a:xfrm flipH="1">
            <a:off x="7063560" y="1504440"/>
            <a:ext cx="732600" cy="4666680"/>
          </a:xfrm>
          <a:prstGeom prst="bentConnector4">
            <a:avLst>
              <a:gd name="adj1" fmla="val -133579"/>
              <a:gd name="adj2" fmla="val 107313"/>
            </a:avLst>
          </a:prstGeom>
          <a:ln w="28440">
            <a:solidFill>
              <a:srgbClr val="3333cc"/>
            </a:solidFill>
            <a:miter/>
          </a:ln>
        </p:spPr>
      </p:cxnSp>
      <p:sp>
        <p:nvSpPr>
          <p:cNvPr id="255" name="Text Box 75"/>
          <p:cNvSpPr/>
          <p:nvPr/>
        </p:nvSpPr>
        <p:spPr>
          <a:xfrm>
            <a:off x="2927160" y="5978520"/>
            <a:ext cx="7779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ff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76"/>
          <p:cNvSpPr/>
          <p:nvPr/>
        </p:nvSpPr>
        <p:spPr>
          <a:xfrm>
            <a:off x="7348320" y="3944880"/>
            <a:ext cx="10144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s-fire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77"/>
          <p:cNvSpPr/>
          <p:nvPr/>
        </p:nvSpPr>
        <p:spPr>
          <a:xfrm>
            <a:off x="1586520" y="2517840"/>
            <a:ext cx="9824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a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78"/>
          <p:cNvSpPr/>
          <p:nvPr/>
        </p:nvSpPr>
        <p:spPr>
          <a:xfrm>
            <a:off x="841680" y="1634760"/>
            <a:ext cx="675720" cy="7484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79"/>
          <p:cNvSpPr/>
          <p:nvPr/>
        </p:nvSpPr>
        <p:spPr>
          <a:xfrm flipH="1" flipV="1">
            <a:off x="974160" y="2149200"/>
            <a:ext cx="398160" cy="640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80"/>
          <p:cNvSpPr/>
          <p:nvPr/>
        </p:nvSpPr>
        <p:spPr>
          <a:xfrm>
            <a:off x="4645080" y="1235160"/>
            <a:ext cx="3151080" cy="5382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81"/>
          <p:cNvSpPr/>
          <p:nvPr/>
        </p:nvSpPr>
        <p:spPr>
          <a:xfrm>
            <a:off x="4645080" y="2025720"/>
            <a:ext cx="3151080" cy="5382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1" name="AutoShape 82"/>
          <p:cNvCxnSpPr>
            <a:stCxn id="254" idx="1"/>
            <a:endCxn id="251" idx="0"/>
          </p:cNvCxnSpPr>
          <p:nvPr/>
        </p:nvCxnSpPr>
        <p:spPr>
          <a:xfrm flipH="1" flipV="1" rot="10800000">
            <a:off x="4645080" y="1503720"/>
            <a:ext cx="2419560" cy="1802520"/>
          </a:xfrm>
          <a:prstGeom prst="bentConnector4">
            <a:avLst>
              <a:gd name="adj1" fmla="val -26443"/>
              <a:gd name="adj2" fmla="val 85177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262" name="AutoShape 83"/>
          <p:cNvCxnSpPr>
            <a:stCxn id="251" idx="0"/>
            <a:endCxn id="260" idx="1"/>
          </p:cNvCxnSpPr>
          <p:nvPr/>
        </p:nvCxnSpPr>
        <p:spPr>
          <a:xfrm flipV="1" rot="16200000">
            <a:off x="5348880" y="1590840"/>
            <a:ext cx="1011960" cy="2419560"/>
          </a:xfrm>
          <a:prstGeom prst="bentConnector4">
            <a:avLst>
              <a:gd name="adj1" fmla="val 26192"/>
              <a:gd name="adj2" fmla="val 126383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263" name="AutoShape 84"/>
          <p:cNvCxnSpPr>
            <a:stCxn id="260" idx="3"/>
            <a:endCxn id="242" idx="1"/>
          </p:cNvCxnSpPr>
          <p:nvPr/>
        </p:nvCxnSpPr>
        <p:spPr>
          <a:xfrm flipH="1">
            <a:off x="7063560" y="2295000"/>
            <a:ext cx="732600" cy="3876120"/>
          </a:xfrm>
          <a:prstGeom prst="bentConnector4">
            <a:avLst>
              <a:gd name="adj1" fmla="val -135103"/>
              <a:gd name="adj2" fmla="val 109251"/>
            </a:avLst>
          </a:prstGeom>
          <a:ln w="28440">
            <a:solidFill>
              <a:srgbClr val="3333cc"/>
            </a:solidFill>
            <a:miter/>
          </a:ln>
        </p:spPr>
      </p:cxnSp>
      <p:sp>
        <p:nvSpPr>
          <p:cNvPr id="264" name="Text Box 85"/>
          <p:cNvSpPr/>
          <p:nvPr/>
        </p:nvSpPr>
        <p:spPr>
          <a:xfrm>
            <a:off x="7346880" y="2563920"/>
            <a:ext cx="10494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di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86"/>
          <p:cNvSpPr/>
          <p:nvPr/>
        </p:nvSpPr>
        <p:spPr>
          <a:xfrm>
            <a:off x="4992840" y="1055520"/>
            <a:ext cx="820440" cy="820800"/>
          </a:xfrm>
          <a:prstGeom prst="ellipse">
            <a:avLst/>
          </a:prstGeom>
          <a:solidFill>
            <a:srgbClr val="00b8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87"/>
          <p:cNvSpPr/>
          <p:nvPr/>
        </p:nvSpPr>
        <p:spPr>
          <a:xfrm>
            <a:off x="6221520" y="5486400"/>
            <a:ext cx="820800" cy="820800"/>
          </a:xfrm>
          <a:prstGeom prst="ellipse">
            <a:avLst/>
          </a:prstGeom>
          <a:solidFill>
            <a:srgbClr val="00b8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88"/>
          <p:cNvSpPr/>
          <p:nvPr/>
        </p:nvSpPr>
        <p:spPr>
          <a:xfrm>
            <a:off x="6686640" y="1055520"/>
            <a:ext cx="820800" cy="820800"/>
          </a:xfrm>
          <a:prstGeom prst="ellipse">
            <a:avLst/>
          </a:prstGeom>
          <a:solidFill>
            <a:srgbClr val="00b8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89"/>
          <p:cNvSpPr/>
          <p:nvPr/>
        </p:nvSpPr>
        <p:spPr>
          <a:xfrm>
            <a:off x="6686640" y="1963800"/>
            <a:ext cx="820800" cy="820800"/>
          </a:xfrm>
          <a:prstGeom prst="ellipse">
            <a:avLst/>
          </a:prstGeom>
          <a:solidFill>
            <a:srgbClr val="00b8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90"/>
          <p:cNvSpPr/>
          <p:nvPr/>
        </p:nvSpPr>
        <p:spPr>
          <a:xfrm>
            <a:off x="6118200" y="3943440"/>
            <a:ext cx="820800" cy="820800"/>
          </a:xfrm>
          <a:prstGeom prst="ellipse">
            <a:avLst/>
          </a:prstGeom>
          <a:solidFill>
            <a:srgbClr val="00b8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91"/>
          <p:cNvSpPr/>
          <p:nvPr/>
        </p:nvSpPr>
        <p:spPr>
          <a:xfrm>
            <a:off x="5402160" y="4707000"/>
            <a:ext cx="820800" cy="820800"/>
          </a:xfrm>
          <a:prstGeom prst="ellipse">
            <a:avLst/>
          </a:prstGeom>
          <a:solidFill>
            <a:srgbClr val="00b8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92"/>
          <p:cNvSpPr/>
          <p:nvPr/>
        </p:nvSpPr>
        <p:spPr>
          <a:xfrm>
            <a:off x="6686640" y="3063960"/>
            <a:ext cx="820800" cy="820800"/>
          </a:xfrm>
          <a:prstGeom prst="ellipse">
            <a:avLst/>
          </a:prstGeom>
          <a:solidFill>
            <a:srgbClr val="00b8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93"/>
          <p:cNvSpPr/>
          <p:nvPr/>
        </p:nvSpPr>
        <p:spPr>
          <a:xfrm>
            <a:off x="3951360" y="4079880"/>
            <a:ext cx="820800" cy="820800"/>
          </a:xfrm>
          <a:prstGeom prst="ellipse">
            <a:avLst/>
          </a:prstGeom>
          <a:solidFill>
            <a:srgbClr val="00b8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94"/>
          <p:cNvSpPr/>
          <p:nvPr/>
        </p:nvSpPr>
        <p:spPr>
          <a:xfrm>
            <a:off x="4998960" y="1963800"/>
            <a:ext cx="820800" cy="820800"/>
          </a:xfrm>
          <a:prstGeom prst="ellipse">
            <a:avLst/>
          </a:prstGeom>
          <a:solidFill>
            <a:srgbClr val="00b8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95"/>
          <p:cNvSpPr/>
          <p:nvPr/>
        </p:nvSpPr>
        <p:spPr>
          <a:xfrm>
            <a:off x="3951360" y="5075280"/>
            <a:ext cx="820800" cy="820800"/>
          </a:xfrm>
          <a:prstGeom prst="ellipse">
            <a:avLst/>
          </a:prstGeom>
          <a:solidFill>
            <a:srgbClr val="00b8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96"/>
          <p:cNvSpPr/>
          <p:nvPr/>
        </p:nvSpPr>
        <p:spPr>
          <a:xfrm>
            <a:off x="4772160" y="6037200"/>
            <a:ext cx="820440" cy="820800"/>
          </a:xfrm>
          <a:prstGeom prst="ellipse">
            <a:avLst/>
          </a:prstGeom>
          <a:solidFill>
            <a:srgbClr val="00b8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97"/>
          <p:cNvSpPr/>
          <p:nvPr/>
        </p:nvSpPr>
        <p:spPr>
          <a:xfrm>
            <a:off x="1549440" y="5364000"/>
            <a:ext cx="820800" cy="820800"/>
          </a:xfrm>
          <a:prstGeom prst="ellipse">
            <a:avLst/>
          </a:prstGeom>
          <a:solidFill>
            <a:srgbClr val="00b8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98"/>
          <p:cNvSpPr/>
          <p:nvPr/>
        </p:nvSpPr>
        <p:spPr>
          <a:xfrm>
            <a:off x="1139760" y="2025720"/>
            <a:ext cx="820800" cy="820800"/>
          </a:xfrm>
          <a:prstGeom prst="ellipse">
            <a:avLst/>
          </a:prstGeom>
          <a:solidFill>
            <a:srgbClr val="00b8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Plant-components: Control-volume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4"/>
          <p:cNvSpPr/>
          <p:nvPr/>
        </p:nvSpPr>
        <p:spPr>
          <a:xfrm>
            <a:off x="976320" y="1066680"/>
            <a:ext cx="609480" cy="609840"/>
          </a:xfrm>
          <a:prstGeom prst="sun">
            <a:avLst>
              <a:gd name="adj" fmla="val 25000"/>
            </a:avLst>
          </a:prstGeom>
          <a:solidFill>
            <a:srgbClr val="faf138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5"/>
          <p:cNvGrpSpPr/>
          <p:nvPr/>
        </p:nvGrpSpPr>
        <p:grpSpPr>
          <a:xfrm>
            <a:off x="1654200" y="5629320"/>
            <a:ext cx="404640" cy="404640"/>
            <a:chOff x="1654200" y="5629320"/>
            <a:chExt cx="404640" cy="404640"/>
          </a:xfrm>
        </p:grpSpPr>
        <p:sp>
          <p:nvSpPr>
            <p:cNvPr id="281" name="Oval 6"/>
            <p:cNvSpPr/>
            <p:nvPr/>
          </p:nvSpPr>
          <p:spPr>
            <a:xfrm>
              <a:off x="1654200" y="5629320"/>
              <a:ext cx="404640" cy="404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AutoShape 7"/>
            <p:cNvSpPr/>
            <p:nvPr/>
          </p:nvSpPr>
          <p:spPr>
            <a:xfrm rot="16200000">
              <a:off x="1633680" y="5679360"/>
              <a:ext cx="350640" cy="303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Rectangle 8"/>
          <p:cNvSpPr/>
          <p:nvPr/>
        </p:nvSpPr>
        <p:spPr>
          <a:xfrm>
            <a:off x="3619440" y="3943440"/>
            <a:ext cx="1486080" cy="222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9"/>
          <p:cNvSpPr/>
          <p:nvPr/>
        </p:nvSpPr>
        <p:spPr>
          <a:xfrm>
            <a:off x="3376440" y="5138640"/>
            <a:ext cx="1506600" cy="619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10"/>
          <p:cNvSpPr/>
          <p:nvPr/>
        </p:nvSpPr>
        <p:spPr>
          <a:xfrm>
            <a:off x="4853160" y="5138640"/>
            <a:ext cx="61920" cy="61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11"/>
          <p:cNvGrpSpPr/>
          <p:nvPr/>
        </p:nvGrpSpPr>
        <p:grpSpPr>
          <a:xfrm>
            <a:off x="3800160" y="5137200"/>
            <a:ext cx="1123200" cy="718560"/>
            <a:chOff x="3800160" y="5137200"/>
            <a:chExt cx="1123200" cy="718560"/>
          </a:xfrm>
        </p:grpSpPr>
        <p:grpSp>
          <p:nvGrpSpPr>
            <p:cNvPr id="287" name="Group 12"/>
            <p:cNvGrpSpPr/>
            <p:nvPr/>
          </p:nvGrpSpPr>
          <p:grpSpPr>
            <a:xfrm>
              <a:off x="3800160" y="5137200"/>
              <a:ext cx="1115640" cy="227160"/>
              <a:chOff x="3800160" y="5137200"/>
              <a:chExt cx="1115640" cy="227160"/>
            </a:xfrm>
          </p:grpSpPr>
          <p:grpSp>
            <p:nvGrpSpPr>
              <p:cNvPr id="288" name="Group 13"/>
              <p:cNvGrpSpPr/>
              <p:nvPr/>
            </p:nvGrpSpPr>
            <p:grpSpPr>
              <a:xfrm>
                <a:off x="3801600" y="5137200"/>
                <a:ext cx="1114200" cy="147240"/>
                <a:chOff x="3801600" y="5137200"/>
                <a:chExt cx="1114200" cy="147240"/>
              </a:xfrm>
            </p:grpSpPr>
            <p:sp>
              <p:nvSpPr>
                <p:cNvPr id="289" name="Rectangle 14"/>
                <p:cNvSpPr/>
                <p:nvPr/>
              </p:nvSpPr>
              <p:spPr>
                <a:xfrm flipH="1" rot="21334800">
                  <a:off x="3832560" y="5180040"/>
                  <a:ext cx="1051560" cy="615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Oval 15"/>
                <p:cNvSpPr/>
                <p:nvPr/>
              </p:nvSpPr>
              <p:spPr>
                <a:xfrm flipH="1" rot="21334800">
                  <a:off x="4851360" y="51393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Oval 16"/>
                <p:cNvSpPr/>
                <p:nvPr/>
              </p:nvSpPr>
              <p:spPr>
                <a:xfrm flipH="1" rot="21334800">
                  <a:off x="3803040" y="52203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2" name="Group 17"/>
              <p:cNvGrpSpPr/>
              <p:nvPr/>
            </p:nvGrpSpPr>
            <p:grpSpPr>
              <a:xfrm>
                <a:off x="3800160" y="5217480"/>
                <a:ext cx="1113840" cy="146880"/>
                <a:chOff x="3800160" y="5217480"/>
                <a:chExt cx="1113840" cy="146880"/>
              </a:xfrm>
            </p:grpSpPr>
            <p:sp>
              <p:nvSpPr>
                <p:cNvPr id="293" name="Rectangle 18"/>
                <p:cNvSpPr/>
                <p:nvPr/>
              </p:nvSpPr>
              <p:spPr>
                <a:xfrm flipH="1" rot="265800">
                  <a:off x="3831120" y="5259240"/>
                  <a:ext cx="1051200" cy="6120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Oval 19"/>
                <p:cNvSpPr/>
                <p:nvPr/>
              </p:nvSpPr>
              <p:spPr>
                <a:xfrm flipH="1" flipV="1" rot="265200">
                  <a:off x="4849920" y="53002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Oval 20"/>
                <p:cNvSpPr/>
                <p:nvPr/>
              </p:nvSpPr>
              <p:spPr>
                <a:xfrm flipH="1" flipV="1" rot="265200">
                  <a:off x="3802320" y="52192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6" name="Group 21"/>
            <p:cNvGrpSpPr/>
            <p:nvPr/>
          </p:nvGrpSpPr>
          <p:grpSpPr>
            <a:xfrm>
              <a:off x="3803040" y="5301000"/>
              <a:ext cx="1115640" cy="227160"/>
              <a:chOff x="3803040" y="5301000"/>
              <a:chExt cx="1115640" cy="227160"/>
            </a:xfrm>
          </p:grpSpPr>
          <p:grpSp>
            <p:nvGrpSpPr>
              <p:cNvPr id="297" name="Group 22"/>
              <p:cNvGrpSpPr/>
              <p:nvPr/>
            </p:nvGrpSpPr>
            <p:grpSpPr>
              <a:xfrm>
                <a:off x="3804480" y="5301000"/>
                <a:ext cx="1114200" cy="147240"/>
                <a:chOff x="3804480" y="5301000"/>
                <a:chExt cx="1114200" cy="147240"/>
              </a:xfrm>
            </p:grpSpPr>
            <p:sp>
              <p:nvSpPr>
                <p:cNvPr id="298" name="Rectangle 23"/>
                <p:cNvSpPr/>
                <p:nvPr/>
              </p:nvSpPr>
              <p:spPr>
                <a:xfrm flipH="1" rot="21334800">
                  <a:off x="3835440" y="5343840"/>
                  <a:ext cx="1051560" cy="615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Oval 24"/>
                <p:cNvSpPr/>
                <p:nvPr/>
              </p:nvSpPr>
              <p:spPr>
                <a:xfrm flipH="1" rot="21334800">
                  <a:off x="4854240" y="53031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Oval 25"/>
                <p:cNvSpPr/>
                <p:nvPr/>
              </p:nvSpPr>
              <p:spPr>
                <a:xfrm flipH="1" rot="21334800">
                  <a:off x="3805920" y="53841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1" name="Group 26"/>
              <p:cNvGrpSpPr/>
              <p:nvPr/>
            </p:nvGrpSpPr>
            <p:grpSpPr>
              <a:xfrm>
                <a:off x="3803040" y="5381280"/>
                <a:ext cx="1113840" cy="146880"/>
                <a:chOff x="3803040" y="5381280"/>
                <a:chExt cx="1113840" cy="146880"/>
              </a:xfrm>
            </p:grpSpPr>
            <p:sp>
              <p:nvSpPr>
                <p:cNvPr id="302" name="Rectangle 27"/>
                <p:cNvSpPr/>
                <p:nvPr/>
              </p:nvSpPr>
              <p:spPr>
                <a:xfrm flipH="1" rot="265800">
                  <a:off x="3834000" y="5423040"/>
                  <a:ext cx="1051200" cy="6120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Oval 28"/>
                <p:cNvSpPr/>
                <p:nvPr/>
              </p:nvSpPr>
              <p:spPr>
                <a:xfrm flipH="1" flipV="1" rot="265200">
                  <a:off x="4852800" y="54640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Oval 29"/>
                <p:cNvSpPr/>
                <p:nvPr/>
              </p:nvSpPr>
              <p:spPr>
                <a:xfrm flipH="1" flipV="1" rot="265200">
                  <a:off x="3805200" y="53830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30"/>
            <p:cNvGrpSpPr/>
            <p:nvPr/>
          </p:nvGrpSpPr>
          <p:grpSpPr>
            <a:xfrm>
              <a:off x="3805560" y="5464800"/>
              <a:ext cx="1115640" cy="227160"/>
              <a:chOff x="3805560" y="5464800"/>
              <a:chExt cx="1115640" cy="227160"/>
            </a:xfrm>
          </p:grpSpPr>
          <p:grpSp>
            <p:nvGrpSpPr>
              <p:cNvPr id="306" name="Group 31"/>
              <p:cNvGrpSpPr/>
              <p:nvPr/>
            </p:nvGrpSpPr>
            <p:grpSpPr>
              <a:xfrm>
                <a:off x="3807000" y="5464800"/>
                <a:ext cx="1114200" cy="147240"/>
                <a:chOff x="3807000" y="5464800"/>
                <a:chExt cx="1114200" cy="147240"/>
              </a:xfrm>
            </p:grpSpPr>
            <p:sp>
              <p:nvSpPr>
                <p:cNvPr id="307" name="Rectangle 32"/>
                <p:cNvSpPr/>
                <p:nvPr/>
              </p:nvSpPr>
              <p:spPr>
                <a:xfrm flipH="1" rot="21334800">
                  <a:off x="3837960" y="5507640"/>
                  <a:ext cx="1051560" cy="615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Oval 33"/>
                <p:cNvSpPr/>
                <p:nvPr/>
              </p:nvSpPr>
              <p:spPr>
                <a:xfrm flipH="1" rot="21334800">
                  <a:off x="4856760" y="54669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Oval 34"/>
                <p:cNvSpPr/>
                <p:nvPr/>
              </p:nvSpPr>
              <p:spPr>
                <a:xfrm flipH="1" rot="21334800">
                  <a:off x="3808440" y="55479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0" name="Group 35"/>
              <p:cNvGrpSpPr/>
              <p:nvPr/>
            </p:nvGrpSpPr>
            <p:grpSpPr>
              <a:xfrm>
                <a:off x="3805560" y="5545080"/>
                <a:ext cx="1113840" cy="146880"/>
                <a:chOff x="3805560" y="5545080"/>
                <a:chExt cx="1113840" cy="146880"/>
              </a:xfrm>
            </p:grpSpPr>
            <p:sp>
              <p:nvSpPr>
                <p:cNvPr id="311" name="Rectangle 36"/>
                <p:cNvSpPr/>
                <p:nvPr/>
              </p:nvSpPr>
              <p:spPr>
                <a:xfrm flipH="1" rot="265800">
                  <a:off x="3836520" y="5586840"/>
                  <a:ext cx="1051200" cy="6120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Oval 37"/>
                <p:cNvSpPr/>
                <p:nvPr/>
              </p:nvSpPr>
              <p:spPr>
                <a:xfrm flipH="1" flipV="1" rot="265200">
                  <a:off x="4855320" y="56278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Oval 38"/>
                <p:cNvSpPr/>
                <p:nvPr/>
              </p:nvSpPr>
              <p:spPr>
                <a:xfrm flipH="1" flipV="1" rot="265200">
                  <a:off x="3807720" y="55468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4" name="Group 39"/>
            <p:cNvGrpSpPr/>
            <p:nvPr/>
          </p:nvGrpSpPr>
          <p:grpSpPr>
            <a:xfrm>
              <a:off x="3807720" y="5628600"/>
              <a:ext cx="1115640" cy="227160"/>
              <a:chOff x="3807720" y="5628600"/>
              <a:chExt cx="1115640" cy="227160"/>
            </a:xfrm>
          </p:grpSpPr>
          <p:grpSp>
            <p:nvGrpSpPr>
              <p:cNvPr id="315" name="Group 40"/>
              <p:cNvGrpSpPr/>
              <p:nvPr/>
            </p:nvGrpSpPr>
            <p:grpSpPr>
              <a:xfrm>
                <a:off x="3809160" y="5628600"/>
                <a:ext cx="1114200" cy="147240"/>
                <a:chOff x="3809160" y="5628600"/>
                <a:chExt cx="1114200" cy="147240"/>
              </a:xfrm>
            </p:grpSpPr>
            <p:sp>
              <p:nvSpPr>
                <p:cNvPr id="316" name="Rectangle 41"/>
                <p:cNvSpPr/>
                <p:nvPr/>
              </p:nvSpPr>
              <p:spPr>
                <a:xfrm flipH="1" rot="21334800">
                  <a:off x="3840120" y="5671440"/>
                  <a:ext cx="1051560" cy="615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Oval 42"/>
                <p:cNvSpPr/>
                <p:nvPr/>
              </p:nvSpPr>
              <p:spPr>
                <a:xfrm flipH="1" rot="21334800">
                  <a:off x="4858920" y="56307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Oval 43"/>
                <p:cNvSpPr/>
                <p:nvPr/>
              </p:nvSpPr>
              <p:spPr>
                <a:xfrm flipH="1" rot="21334800">
                  <a:off x="3810600" y="57117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" name="Group 44"/>
              <p:cNvGrpSpPr/>
              <p:nvPr/>
            </p:nvGrpSpPr>
            <p:grpSpPr>
              <a:xfrm>
                <a:off x="3807720" y="5708880"/>
                <a:ext cx="1113840" cy="146880"/>
                <a:chOff x="3807720" y="5708880"/>
                <a:chExt cx="1113840" cy="146880"/>
              </a:xfrm>
            </p:grpSpPr>
            <p:sp>
              <p:nvSpPr>
                <p:cNvPr id="320" name="Rectangle 45"/>
                <p:cNvSpPr/>
                <p:nvPr/>
              </p:nvSpPr>
              <p:spPr>
                <a:xfrm flipH="1" rot="265800">
                  <a:off x="3838680" y="5750640"/>
                  <a:ext cx="1051200" cy="6120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Oval 46"/>
                <p:cNvSpPr/>
                <p:nvPr/>
              </p:nvSpPr>
              <p:spPr>
                <a:xfrm flipH="1" flipV="1" rot="265200">
                  <a:off x="4857480" y="57916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Oval 47"/>
                <p:cNvSpPr/>
                <p:nvPr/>
              </p:nvSpPr>
              <p:spPr>
                <a:xfrm flipH="1" flipV="1" rot="265200">
                  <a:off x="3809880" y="57106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23" name="Rectangle 48"/>
          <p:cNvSpPr/>
          <p:nvPr/>
        </p:nvSpPr>
        <p:spPr>
          <a:xfrm>
            <a:off x="3386160" y="5792760"/>
            <a:ext cx="1506600" cy="619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49"/>
          <p:cNvSpPr/>
          <p:nvPr/>
        </p:nvSpPr>
        <p:spPr>
          <a:xfrm>
            <a:off x="5813280" y="3943440"/>
            <a:ext cx="1484280" cy="222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Group 50"/>
          <p:cNvGrpSpPr/>
          <p:nvPr/>
        </p:nvGrpSpPr>
        <p:grpSpPr>
          <a:xfrm>
            <a:off x="4957920" y="6324480"/>
            <a:ext cx="404640" cy="405000"/>
            <a:chOff x="4957920" y="6324480"/>
            <a:chExt cx="404640" cy="405000"/>
          </a:xfrm>
        </p:grpSpPr>
        <p:sp>
          <p:nvSpPr>
            <p:cNvPr id="326" name="Oval 51"/>
            <p:cNvSpPr/>
            <p:nvPr/>
          </p:nvSpPr>
          <p:spPr>
            <a:xfrm>
              <a:off x="4957920" y="6324480"/>
              <a:ext cx="404640" cy="405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AutoShape 52"/>
            <p:cNvSpPr/>
            <p:nvPr/>
          </p:nvSpPr>
          <p:spPr>
            <a:xfrm rot="16200000">
              <a:off x="4937400" y="6374520"/>
              <a:ext cx="351000" cy="303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28" name="AutoShape 53"/>
          <p:cNvCxnSpPr>
            <a:stCxn id="323" idx="1"/>
            <a:endCxn id="281" idx="6"/>
          </p:cNvCxnSpPr>
          <p:nvPr/>
        </p:nvCxnSpPr>
        <p:spPr>
          <a:xfrm flipV="1" rot="10800000">
            <a:off x="2058120" y="5824080"/>
            <a:ext cx="1328040" cy="8640"/>
          </a:xfrm>
          <a:prstGeom prst="bentConnector3">
            <a:avLst>
              <a:gd name="adj1" fmla="val 50000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329" name="AutoShape 54"/>
          <p:cNvCxnSpPr>
            <a:stCxn id="282" idx="0"/>
            <a:endCxn id="330" idx="2"/>
          </p:cNvCxnSpPr>
          <p:nvPr/>
        </p:nvCxnSpPr>
        <p:spPr>
          <a:xfrm rot="10800000">
            <a:off x="726480" y="3199680"/>
            <a:ext cx="932400" cy="2634480"/>
          </a:xfrm>
          <a:prstGeom prst="bentConnector3">
            <a:avLst>
              <a:gd name="adj1" fmla="val 99111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331" name="AutoShape 55"/>
          <p:cNvCxnSpPr>
            <a:stCxn id="330" idx="0"/>
            <a:endCxn id="284" idx="1"/>
          </p:cNvCxnSpPr>
          <p:nvPr/>
        </p:nvCxnSpPr>
        <p:spPr>
          <a:xfrm>
            <a:off x="2452680" y="1643040"/>
            <a:ext cx="924480" cy="3528000"/>
          </a:xfrm>
          <a:prstGeom prst="bentConnector3">
            <a:avLst>
              <a:gd name="adj1" fmla="val 59446"/>
            </a:avLst>
          </a:prstGeom>
          <a:ln w="28440">
            <a:solidFill>
              <a:srgbClr val="3333cc"/>
            </a:solidFill>
            <a:miter/>
          </a:ln>
        </p:spPr>
      </p:cxnSp>
      <p:grpSp>
        <p:nvGrpSpPr>
          <p:cNvPr id="332" name="Group 56"/>
          <p:cNvGrpSpPr/>
          <p:nvPr/>
        </p:nvGrpSpPr>
        <p:grpSpPr>
          <a:xfrm>
            <a:off x="539280" y="1427040"/>
            <a:ext cx="2090160" cy="1971360"/>
            <a:chOff x="539280" y="1427040"/>
            <a:chExt cx="2090160" cy="1971360"/>
          </a:xfrm>
        </p:grpSpPr>
        <p:sp>
          <p:nvSpPr>
            <p:cNvPr id="333" name="Rectangle 57"/>
            <p:cNvSpPr/>
            <p:nvPr/>
          </p:nvSpPr>
          <p:spPr>
            <a:xfrm rot="2875200">
              <a:off x="1555560" y="1385640"/>
              <a:ext cx="269640" cy="2286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58"/>
            <p:cNvSpPr/>
            <p:nvPr/>
          </p:nvSpPr>
          <p:spPr>
            <a:xfrm rot="2875200">
              <a:off x="1531800" y="1290240"/>
              <a:ext cx="117360" cy="2286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59"/>
            <p:cNvSpPr/>
            <p:nvPr/>
          </p:nvSpPr>
          <p:spPr>
            <a:xfrm rot="2875200">
              <a:off x="1307880" y="1279440"/>
              <a:ext cx="565200" cy="2286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60"/>
            <p:cNvSpPr/>
            <p:nvPr/>
          </p:nvSpPr>
          <p:spPr>
            <a:xfrm rot="2875200">
              <a:off x="1368000" y="1093320"/>
              <a:ext cx="117360" cy="22860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Line 61"/>
          <p:cNvSpPr/>
          <p:nvPr/>
        </p:nvSpPr>
        <p:spPr>
          <a:xfrm>
            <a:off x="3871800" y="394344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62"/>
          <p:cNvSpPr/>
          <p:nvPr/>
        </p:nvSpPr>
        <p:spPr>
          <a:xfrm>
            <a:off x="3892680" y="617076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63"/>
          <p:cNvSpPr/>
          <p:nvPr/>
        </p:nvSpPr>
        <p:spPr>
          <a:xfrm>
            <a:off x="6086520" y="394344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64"/>
          <p:cNvSpPr/>
          <p:nvPr/>
        </p:nvSpPr>
        <p:spPr>
          <a:xfrm>
            <a:off x="6086520" y="617076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0" name="AutoShape 65"/>
          <p:cNvCxnSpPr>
            <a:stCxn id="327" idx="0"/>
            <a:endCxn id="283" idx="2"/>
          </p:cNvCxnSpPr>
          <p:nvPr/>
        </p:nvCxnSpPr>
        <p:spPr>
          <a:xfrm rot="10800000">
            <a:off x="4361760" y="6170760"/>
            <a:ext cx="600840" cy="358920"/>
          </a:xfrm>
          <a:prstGeom prst="bentConnector2">
            <a:avLst/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341" name="AutoShape 66"/>
          <p:cNvCxnSpPr>
            <a:stCxn id="339" idx="0"/>
            <a:endCxn id="326" idx="6"/>
          </p:cNvCxnSpPr>
          <p:nvPr/>
        </p:nvCxnSpPr>
        <p:spPr>
          <a:xfrm rot="5400000">
            <a:off x="5545080" y="5987160"/>
            <a:ext cx="357840" cy="724680"/>
          </a:xfrm>
          <a:prstGeom prst="bentConnector4">
            <a:avLst>
              <a:gd name="adj1" fmla="val 101309"/>
              <a:gd name="adj2" fmla="val 50198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342" name="AutoShape 67"/>
          <p:cNvCxnSpPr>
            <a:stCxn id="338" idx="0"/>
            <a:endCxn id="283" idx="0"/>
          </p:cNvCxnSpPr>
          <p:nvPr/>
        </p:nvCxnSpPr>
        <p:spPr>
          <a:xfrm rot="5400000">
            <a:off x="5222880" y="3081960"/>
            <a:ext cx="2160" cy="1724760"/>
          </a:xfrm>
          <a:prstGeom prst="bentConnector3">
            <a:avLst>
              <a:gd name="adj1" fmla="val -14400000"/>
            </a:avLst>
          </a:prstGeom>
          <a:ln w="28440">
            <a:solidFill>
              <a:srgbClr val="3333cc"/>
            </a:solidFill>
            <a:miter/>
          </a:ln>
        </p:spPr>
      </p:cxnSp>
      <p:sp>
        <p:nvSpPr>
          <p:cNvPr id="343" name="Rectangle 68"/>
          <p:cNvSpPr/>
          <p:nvPr/>
        </p:nvSpPr>
        <p:spPr>
          <a:xfrm>
            <a:off x="6381720" y="3505320"/>
            <a:ext cx="304920" cy="21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69"/>
          <p:cNvSpPr/>
          <p:nvPr/>
        </p:nvSpPr>
        <p:spPr>
          <a:xfrm rot="10800000">
            <a:off x="6221520" y="5678280"/>
            <a:ext cx="627120" cy="247320"/>
          </a:xfrm>
          <a:custGeom>
            <a:avLst/>
            <a:gdLst>
              <a:gd name="textAreaLeft" fmla="*/ 130680 w 627120"/>
              <a:gd name="textAreaRight" fmla="*/ 496440 w 627120"/>
              <a:gd name="textAreaTop" fmla="*/ 51480 h 247320"/>
              <a:gd name="textAreaBottom" fmla="*/ 195840 h 247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70"/>
          <p:cNvSpPr/>
          <p:nvPr/>
        </p:nvSpPr>
        <p:spPr>
          <a:xfrm>
            <a:off x="5813280" y="5925960"/>
            <a:ext cx="1484280" cy="24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71"/>
          <p:cNvGrpSpPr/>
          <p:nvPr/>
        </p:nvGrpSpPr>
        <p:grpSpPr>
          <a:xfrm>
            <a:off x="6861240" y="3303720"/>
            <a:ext cx="404640" cy="404640"/>
            <a:chOff x="6861240" y="3303720"/>
            <a:chExt cx="404640" cy="404640"/>
          </a:xfrm>
        </p:grpSpPr>
        <p:sp>
          <p:nvSpPr>
            <p:cNvPr id="347" name="Oval 72"/>
            <p:cNvSpPr/>
            <p:nvPr/>
          </p:nvSpPr>
          <p:spPr>
            <a:xfrm rot="5400000">
              <a:off x="6861240" y="3303720"/>
              <a:ext cx="404640" cy="404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AutoShape 73"/>
            <p:cNvSpPr/>
            <p:nvPr/>
          </p:nvSpPr>
          <p:spPr>
            <a:xfrm>
              <a:off x="6888600" y="3306960"/>
              <a:ext cx="350640" cy="303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49" name="AutoShape 74"/>
          <p:cNvCxnSpPr>
            <a:stCxn id="347" idx="6"/>
            <a:endCxn id="338" idx="1"/>
          </p:cNvCxnSpPr>
          <p:nvPr/>
        </p:nvCxnSpPr>
        <p:spPr>
          <a:xfrm rot="5400000">
            <a:off x="6947640" y="3825720"/>
            <a:ext cx="234000" cy="2520"/>
          </a:xfrm>
          <a:prstGeom prst="bentConnector3">
            <a:avLst>
              <a:gd name="adj1" fmla="val 96456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350" name="AutoShape 75"/>
          <p:cNvCxnSpPr>
            <a:stCxn id="351" idx="3"/>
            <a:endCxn id="339" idx="1"/>
          </p:cNvCxnSpPr>
          <p:nvPr/>
        </p:nvCxnSpPr>
        <p:spPr>
          <a:xfrm flipH="1">
            <a:off x="7063560" y="1504440"/>
            <a:ext cx="732600" cy="4666680"/>
          </a:xfrm>
          <a:prstGeom prst="bentConnector4">
            <a:avLst>
              <a:gd name="adj1" fmla="val -133579"/>
              <a:gd name="adj2" fmla="val 107313"/>
            </a:avLst>
          </a:prstGeom>
          <a:ln w="28440">
            <a:solidFill>
              <a:srgbClr val="3333cc"/>
            </a:solidFill>
            <a:miter/>
          </a:ln>
        </p:spPr>
      </p:cxnSp>
      <p:sp>
        <p:nvSpPr>
          <p:cNvPr id="352" name="Text Box 76"/>
          <p:cNvSpPr/>
          <p:nvPr/>
        </p:nvSpPr>
        <p:spPr>
          <a:xfrm>
            <a:off x="2927160" y="5978520"/>
            <a:ext cx="7779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ff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77"/>
          <p:cNvSpPr/>
          <p:nvPr/>
        </p:nvSpPr>
        <p:spPr>
          <a:xfrm>
            <a:off x="7348320" y="3944880"/>
            <a:ext cx="10144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s-fire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78"/>
          <p:cNvSpPr/>
          <p:nvPr/>
        </p:nvSpPr>
        <p:spPr>
          <a:xfrm>
            <a:off x="1586520" y="2517840"/>
            <a:ext cx="9824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a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79"/>
          <p:cNvSpPr/>
          <p:nvPr/>
        </p:nvSpPr>
        <p:spPr>
          <a:xfrm>
            <a:off x="841680" y="1634760"/>
            <a:ext cx="675720" cy="7484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80"/>
          <p:cNvSpPr/>
          <p:nvPr/>
        </p:nvSpPr>
        <p:spPr>
          <a:xfrm flipH="1" flipV="1">
            <a:off x="974160" y="2149200"/>
            <a:ext cx="398160" cy="640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81"/>
          <p:cNvSpPr/>
          <p:nvPr/>
        </p:nvSpPr>
        <p:spPr>
          <a:xfrm>
            <a:off x="4645080" y="1235160"/>
            <a:ext cx="3151080" cy="5382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82"/>
          <p:cNvSpPr/>
          <p:nvPr/>
        </p:nvSpPr>
        <p:spPr>
          <a:xfrm>
            <a:off x="4645080" y="2025720"/>
            <a:ext cx="3151080" cy="5382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8" name="AutoShape 83"/>
          <p:cNvCxnSpPr>
            <a:stCxn id="351" idx="1"/>
            <a:endCxn id="348" idx="0"/>
          </p:cNvCxnSpPr>
          <p:nvPr/>
        </p:nvCxnSpPr>
        <p:spPr>
          <a:xfrm flipH="1" flipV="1" rot="10800000">
            <a:off x="4645080" y="1503720"/>
            <a:ext cx="2419560" cy="1802520"/>
          </a:xfrm>
          <a:prstGeom prst="bentConnector4">
            <a:avLst>
              <a:gd name="adj1" fmla="val -26443"/>
              <a:gd name="adj2" fmla="val 85177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359" name="AutoShape 84"/>
          <p:cNvCxnSpPr>
            <a:stCxn id="348" idx="0"/>
            <a:endCxn id="357" idx="1"/>
          </p:cNvCxnSpPr>
          <p:nvPr/>
        </p:nvCxnSpPr>
        <p:spPr>
          <a:xfrm flipV="1" rot="16200000">
            <a:off x="5348880" y="1590840"/>
            <a:ext cx="1011960" cy="2419560"/>
          </a:xfrm>
          <a:prstGeom prst="bentConnector4">
            <a:avLst>
              <a:gd name="adj1" fmla="val 26192"/>
              <a:gd name="adj2" fmla="val 126383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360" name="AutoShape 85"/>
          <p:cNvCxnSpPr>
            <a:stCxn id="357" idx="3"/>
            <a:endCxn id="339" idx="1"/>
          </p:cNvCxnSpPr>
          <p:nvPr/>
        </p:nvCxnSpPr>
        <p:spPr>
          <a:xfrm flipH="1">
            <a:off x="7063560" y="2295000"/>
            <a:ext cx="732600" cy="3876120"/>
          </a:xfrm>
          <a:prstGeom prst="bentConnector4">
            <a:avLst>
              <a:gd name="adj1" fmla="val -135103"/>
              <a:gd name="adj2" fmla="val 109251"/>
            </a:avLst>
          </a:prstGeom>
          <a:ln w="28440">
            <a:solidFill>
              <a:srgbClr val="3333cc"/>
            </a:solidFill>
            <a:miter/>
          </a:ln>
        </p:spPr>
      </p:cxnSp>
      <p:sp>
        <p:nvSpPr>
          <p:cNvPr id="361" name="Text Box 86"/>
          <p:cNvSpPr/>
          <p:nvPr/>
        </p:nvSpPr>
        <p:spPr>
          <a:xfrm>
            <a:off x="7346880" y="2563920"/>
            <a:ext cx="10494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di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97"/>
          <p:cNvSpPr/>
          <p:nvPr/>
        </p:nvSpPr>
        <p:spPr>
          <a:xfrm>
            <a:off x="4992840" y="1055520"/>
            <a:ext cx="820440" cy="820800"/>
          </a:xfrm>
          <a:prstGeom prst="ellipse">
            <a:avLst/>
          </a:prstGeom>
          <a:solidFill>
            <a:srgbClr val="00b8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98"/>
          <p:cNvSpPr/>
          <p:nvPr/>
        </p:nvSpPr>
        <p:spPr>
          <a:xfrm>
            <a:off x="6221520" y="5486400"/>
            <a:ext cx="820800" cy="820800"/>
          </a:xfrm>
          <a:prstGeom prst="ellipse">
            <a:avLst/>
          </a:prstGeom>
          <a:solidFill>
            <a:srgbClr val="00b8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99"/>
          <p:cNvSpPr/>
          <p:nvPr/>
        </p:nvSpPr>
        <p:spPr>
          <a:xfrm>
            <a:off x="6686640" y="1055520"/>
            <a:ext cx="820800" cy="820800"/>
          </a:xfrm>
          <a:prstGeom prst="ellipse">
            <a:avLst/>
          </a:prstGeom>
          <a:solidFill>
            <a:srgbClr val="00b8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val 100"/>
          <p:cNvSpPr/>
          <p:nvPr/>
        </p:nvSpPr>
        <p:spPr>
          <a:xfrm>
            <a:off x="6686640" y="1963800"/>
            <a:ext cx="820800" cy="820800"/>
          </a:xfrm>
          <a:prstGeom prst="ellipse">
            <a:avLst/>
          </a:prstGeom>
          <a:solidFill>
            <a:srgbClr val="00b8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Oval 102"/>
          <p:cNvSpPr/>
          <p:nvPr/>
        </p:nvSpPr>
        <p:spPr>
          <a:xfrm>
            <a:off x="6118200" y="3943440"/>
            <a:ext cx="820800" cy="820800"/>
          </a:xfrm>
          <a:prstGeom prst="ellipse">
            <a:avLst/>
          </a:prstGeom>
          <a:solidFill>
            <a:srgbClr val="00b8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Oval 103"/>
          <p:cNvSpPr/>
          <p:nvPr/>
        </p:nvSpPr>
        <p:spPr>
          <a:xfrm>
            <a:off x="5402160" y="4707000"/>
            <a:ext cx="820800" cy="820800"/>
          </a:xfrm>
          <a:prstGeom prst="ellipse">
            <a:avLst/>
          </a:prstGeom>
          <a:solidFill>
            <a:srgbClr val="00b8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val 104"/>
          <p:cNvSpPr/>
          <p:nvPr/>
        </p:nvSpPr>
        <p:spPr>
          <a:xfrm>
            <a:off x="6686640" y="3063960"/>
            <a:ext cx="820800" cy="820800"/>
          </a:xfrm>
          <a:prstGeom prst="ellipse">
            <a:avLst/>
          </a:prstGeom>
          <a:solidFill>
            <a:srgbClr val="00b8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105"/>
          <p:cNvSpPr/>
          <p:nvPr/>
        </p:nvSpPr>
        <p:spPr>
          <a:xfrm>
            <a:off x="3951360" y="4079880"/>
            <a:ext cx="820800" cy="820800"/>
          </a:xfrm>
          <a:prstGeom prst="ellipse">
            <a:avLst/>
          </a:prstGeom>
          <a:solidFill>
            <a:srgbClr val="00b8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106"/>
          <p:cNvSpPr/>
          <p:nvPr/>
        </p:nvSpPr>
        <p:spPr>
          <a:xfrm>
            <a:off x="4998960" y="1963800"/>
            <a:ext cx="820800" cy="820800"/>
          </a:xfrm>
          <a:prstGeom prst="ellipse">
            <a:avLst/>
          </a:prstGeom>
          <a:solidFill>
            <a:srgbClr val="00b8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 107"/>
          <p:cNvSpPr/>
          <p:nvPr/>
        </p:nvSpPr>
        <p:spPr>
          <a:xfrm>
            <a:off x="3951360" y="5075280"/>
            <a:ext cx="820800" cy="820800"/>
          </a:xfrm>
          <a:prstGeom prst="ellipse">
            <a:avLst/>
          </a:prstGeom>
          <a:solidFill>
            <a:srgbClr val="00b8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108"/>
          <p:cNvSpPr/>
          <p:nvPr/>
        </p:nvSpPr>
        <p:spPr>
          <a:xfrm>
            <a:off x="4772160" y="6037200"/>
            <a:ext cx="820440" cy="820800"/>
          </a:xfrm>
          <a:prstGeom prst="ellipse">
            <a:avLst/>
          </a:prstGeom>
          <a:solidFill>
            <a:srgbClr val="00b8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109"/>
          <p:cNvSpPr/>
          <p:nvPr/>
        </p:nvSpPr>
        <p:spPr>
          <a:xfrm>
            <a:off x="1549440" y="5364000"/>
            <a:ext cx="820800" cy="820800"/>
          </a:xfrm>
          <a:prstGeom prst="ellipse">
            <a:avLst/>
          </a:prstGeom>
          <a:solidFill>
            <a:srgbClr val="00b8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110"/>
          <p:cNvSpPr/>
          <p:nvPr/>
        </p:nvSpPr>
        <p:spPr>
          <a:xfrm>
            <a:off x="1139760" y="2025720"/>
            <a:ext cx="820800" cy="820800"/>
          </a:xfrm>
          <a:prstGeom prst="ellipse">
            <a:avLst/>
          </a:prstGeom>
          <a:solidFill>
            <a:srgbClr val="00b8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omponent models: control volume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53" descr=""/>
          <p:cNvPicPr/>
          <p:nvPr/>
        </p:nvPicPr>
        <p:blipFill>
          <a:blip r:embed="rId1"/>
          <a:stretch/>
        </p:blipFill>
        <p:spPr>
          <a:xfrm>
            <a:off x="1712880" y="1058760"/>
            <a:ext cx="5567400" cy="45100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54" descr=""/>
          <p:cNvPicPr/>
          <p:nvPr/>
        </p:nvPicPr>
        <p:blipFill>
          <a:blip r:embed="rId2"/>
          <a:stretch/>
        </p:blipFill>
        <p:spPr>
          <a:xfrm>
            <a:off x="293760" y="5524560"/>
            <a:ext cx="885024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ontrol-volume energy balance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5" descr=""/>
          <p:cNvPicPr/>
          <p:nvPr/>
        </p:nvPicPr>
        <p:blipFill>
          <a:blip r:embed="rId1"/>
          <a:stretch/>
        </p:blipFill>
        <p:spPr>
          <a:xfrm>
            <a:off x="790560" y="879480"/>
            <a:ext cx="7272360" cy="56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Building coupling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5"/>
          <p:cNvSpPr/>
          <p:nvPr/>
        </p:nvSpPr>
        <p:spPr>
          <a:xfrm>
            <a:off x="462960" y="1052640"/>
            <a:ext cx="27518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tial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Group 17"/>
          <p:cNvGrpSpPr/>
          <p:nvPr/>
        </p:nvGrpSpPr>
        <p:grpSpPr>
          <a:xfrm>
            <a:off x="914400" y="1728720"/>
            <a:ext cx="717480" cy="717480"/>
            <a:chOff x="914400" y="1728720"/>
            <a:chExt cx="717480" cy="717480"/>
          </a:xfrm>
        </p:grpSpPr>
        <p:sp>
          <p:nvSpPr>
            <p:cNvPr id="383" name="Rectangle 10"/>
            <p:cNvSpPr/>
            <p:nvPr/>
          </p:nvSpPr>
          <p:spPr>
            <a:xfrm>
              <a:off x="914400" y="1728720"/>
              <a:ext cx="717480" cy="7174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11"/>
            <p:cNvSpPr/>
            <p:nvPr/>
          </p:nvSpPr>
          <p:spPr>
            <a:xfrm>
              <a:off x="1081440" y="187128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Group 15"/>
          <p:cNvGrpSpPr/>
          <p:nvPr/>
        </p:nvGrpSpPr>
        <p:grpSpPr>
          <a:xfrm>
            <a:off x="914400" y="2994120"/>
            <a:ext cx="717480" cy="717480"/>
            <a:chOff x="914400" y="2994120"/>
            <a:chExt cx="717480" cy="717480"/>
          </a:xfrm>
        </p:grpSpPr>
        <p:sp>
          <p:nvSpPr>
            <p:cNvPr id="386" name="Rectangle 12"/>
            <p:cNvSpPr/>
            <p:nvPr/>
          </p:nvSpPr>
          <p:spPr>
            <a:xfrm>
              <a:off x="914400" y="2994120"/>
              <a:ext cx="717480" cy="717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13"/>
            <p:cNvSpPr/>
            <p:nvPr/>
          </p:nvSpPr>
          <p:spPr>
            <a:xfrm>
              <a:off x="1081440" y="313704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18"/>
          <p:cNvGrpSpPr/>
          <p:nvPr/>
        </p:nvGrpSpPr>
        <p:grpSpPr>
          <a:xfrm>
            <a:off x="2001960" y="2994120"/>
            <a:ext cx="717480" cy="717480"/>
            <a:chOff x="2001960" y="2994120"/>
            <a:chExt cx="717480" cy="717480"/>
          </a:xfrm>
        </p:grpSpPr>
        <p:sp>
          <p:nvSpPr>
            <p:cNvPr id="389" name="Rectangle 19"/>
            <p:cNvSpPr/>
            <p:nvPr/>
          </p:nvSpPr>
          <p:spPr>
            <a:xfrm>
              <a:off x="2001960" y="2994120"/>
              <a:ext cx="717480" cy="717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20"/>
            <p:cNvSpPr/>
            <p:nvPr/>
          </p:nvSpPr>
          <p:spPr>
            <a:xfrm>
              <a:off x="2169000" y="313704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21"/>
          <p:cNvGrpSpPr/>
          <p:nvPr/>
        </p:nvGrpSpPr>
        <p:grpSpPr>
          <a:xfrm>
            <a:off x="3090960" y="2994120"/>
            <a:ext cx="717480" cy="717480"/>
            <a:chOff x="3090960" y="2994120"/>
            <a:chExt cx="717480" cy="717480"/>
          </a:xfrm>
        </p:grpSpPr>
        <p:sp>
          <p:nvSpPr>
            <p:cNvPr id="392" name="Rectangle 22"/>
            <p:cNvSpPr/>
            <p:nvPr/>
          </p:nvSpPr>
          <p:spPr>
            <a:xfrm>
              <a:off x="3090960" y="2994120"/>
              <a:ext cx="717480" cy="717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 Box 23"/>
            <p:cNvSpPr/>
            <p:nvPr/>
          </p:nvSpPr>
          <p:spPr>
            <a:xfrm>
              <a:off x="3258000" y="313704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Group 24"/>
          <p:cNvGrpSpPr/>
          <p:nvPr/>
        </p:nvGrpSpPr>
        <p:grpSpPr>
          <a:xfrm>
            <a:off x="5267160" y="2994120"/>
            <a:ext cx="717480" cy="717480"/>
            <a:chOff x="5267160" y="2994120"/>
            <a:chExt cx="717480" cy="717480"/>
          </a:xfrm>
        </p:grpSpPr>
        <p:sp>
          <p:nvSpPr>
            <p:cNvPr id="395" name="Rectangle 25"/>
            <p:cNvSpPr/>
            <p:nvPr/>
          </p:nvSpPr>
          <p:spPr>
            <a:xfrm>
              <a:off x="5267160" y="2994120"/>
              <a:ext cx="717480" cy="717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Text Box 26"/>
            <p:cNvSpPr/>
            <p:nvPr/>
          </p:nvSpPr>
          <p:spPr>
            <a:xfrm>
              <a:off x="5434200" y="313704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Group 27"/>
          <p:cNvGrpSpPr/>
          <p:nvPr/>
        </p:nvGrpSpPr>
        <p:grpSpPr>
          <a:xfrm>
            <a:off x="4179960" y="2994120"/>
            <a:ext cx="717480" cy="717480"/>
            <a:chOff x="4179960" y="2994120"/>
            <a:chExt cx="717480" cy="717480"/>
          </a:xfrm>
        </p:grpSpPr>
        <p:sp>
          <p:nvSpPr>
            <p:cNvPr id="398" name="Rectangle 28"/>
            <p:cNvSpPr/>
            <p:nvPr/>
          </p:nvSpPr>
          <p:spPr>
            <a:xfrm>
              <a:off x="4179960" y="2994120"/>
              <a:ext cx="717480" cy="717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Text Box 29"/>
            <p:cNvSpPr/>
            <p:nvPr/>
          </p:nvSpPr>
          <p:spPr>
            <a:xfrm>
              <a:off x="4347000" y="313704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Group 30"/>
          <p:cNvGrpSpPr/>
          <p:nvPr/>
        </p:nvGrpSpPr>
        <p:grpSpPr>
          <a:xfrm>
            <a:off x="6356520" y="2994120"/>
            <a:ext cx="717480" cy="717480"/>
            <a:chOff x="6356520" y="2994120"/>
            <a:chExt cx="717480" cy="717480"/>
          </a:xfrm>
        </p:grpSpPr>
        <p:sp>
          <p:nvSpPr>
            <p:cNvPr id="401" name="Rectangle 31"/>
            <p:cNvSpPr/>
            <p:nvPr/>
          </p:nvSpPr>
          <p:spPr>
            <a:xfrm>
              <a:off x="6356520" y="2994120"/>
              <a:ext cx="717480" cy="717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 Box 32"/>
            <p:cNvSpPr/>
            <p:nvPr/>
          </p:nvSpPr>
          <p:spPr>
            <a:xfrm>
              <a:off x="6523560" y="313704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Group 33"/>
          <p:cNvGrpSpPr/>
          <p:nvPr/>
        </p:nvGrpSpPr>
        <p:grpSpPr>
          <a:xfrm>
            <a:off x="7445520" y="2994120"/>
            <a:ext cx="717480" cy="717480"/>
            <a:chOff x="7445520" y="2994120"/>
            <a:chExt cx="717480" cy="717480"/>
          </a:xfrm>
        </p:grpSpPr>
        <p:sp>
          <p:nvSpPr>
            <p:cNvPr id="404" name="Rectangle 34"/>
            <p:cNvSpPr/>
            <p:nvPr/>
          </p:nvSpPr>
          <p:spPr>
            <a:xfrm>
              <a:off x="7445520" y="2994120"/>
              <a:ext cx="717480" cy="717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35"/>
            <p:cNvSpPr/>
            <p:nvPr/>
          </p:nvSpPr>
          <p:spPr>
            <a:xfrm>
              <a:off x="7612560" y="313704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Group 36"/>
          <p:cNvGrpSpPr/>
          <p:nvPr/>
        </p:nvGrpSpPr>
        <p:grpSpPr>
          <a:xfrm>
            <a:off x="2001960" y="1728720"/>
            <a:ext cx="717480" cy="717480"/>
            <a:chOff x="2001960" y="1728720"/>
            <a:chExt cx="717480" cy="717480"/>
          </a:xfrm>
        </p:grpSpPr>
        <p:sp>
          <p:nvSpPr>
            <p:cNvPr id="407" name="Rectangle 37"/>
            <p:cNvSpPr/>
            <p:nvPr/>
          </p:nvSpPr>
          <p:spPr>
            <a:xfrm>
              <a:off x="2001960" y="1728720"/>
              <a:ext cx="717480" cy="7174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Text Box 38"/>
            <p:cNvSpPr/>
            <p:nvPr/>
          </p:nvSpPr>
          <p:spPr>
            <a:xfrm>
              <a:off x="2169000" y="187128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Group 39"/>
          <p:cNvGrpSpPr/>
          <p:nvPr/>
        </p:nvGrpSpPr>
        <p:grpSpPr>
          <a:xfrm>
            <a:off x="7445520" y="1728720"/>
            <a:ext cx="717480" cy="717480"/>
            <a:chOff x="7445520" y="1728720"/>
            <a:chExt cx="717480" cy="717480"/>
          </a:xfrm>
        </p:grpSpPr>
        <p:sp>
          <p:nvSpPr>
            <p:cNvPr id="410" name="Rectangle 40"/>
            <p:cNvSpPr/>
            <p:nvPr/>
          </p:nvSpPr>
          <p:spPr>
            <a:xfrm>
              <a:off x="7445520" y="1728720"/>
              <a:ext cx="717480" cy="7174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 Box 41"/>
            <p:cNvSpPr/>
            <p:nvPr/>
          </p:nvSpPr>
          <p:spPr>
            <a:xfrm>
              <a:off x="7612560" y="187128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Group 42"/>
          <p:cNvGrpSpPr/>
          <p:nvPr/>
        </p:nvGrpSpPr>
        <p:grpSpPr>
          <a:xfrm>
            <a:off x="3090960" y="1728720"/>
            <a:ext cx="717480" cy="717480"/>
            <a:chOff x="3090960" y="1728720"/>
            <a:chExt cx="717480" cy="717480"/>
          </a:xfrm>
        </p:grpSpPr>
        <p:sp>
          <p:nvSpPr>
            <p:cNvPr id="413" name="Rectangle 43"/>
            <p:cNvSpPr/>
            <p:nvPr/>
          </p:nvSpPr>
          <p:spPr>
            <a:xfrm>
              <a:off x="3090960" y="1728720"/>
              <a:ext cx="717480" cy="7174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44"/>
            <p:cNvSpPr/>
            <p:nvPr/>
          </p:nvSpPr>
          <p:spPr>
            <a:xfrm>
              <a:off x="3258000" y="187128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Group 45"/>
          <p:cNvGrpSpPr/>
          <p:nvPr/>
        </p:nvGrpSpPr>
        <p:grpSpPr>
          <a:xfrm>
            <a:off x="4179960" y="1728720"/>
            <a:ext cx="717480" cy="717480"/>
            <a:chOff x="4179960" y="1728720"/>
            <a:chExt cx="717480" cy="717480"/>
          </a:xfrm>
        </p:grpSpPr>
        <p:sp>
          <p:nvSpPr>
            <p:cNvPr id="416" name="Rectangle 46"/>
            <p:cNvSpPr/>
            <p:nvPr/>
          </p:nvSpPr>
          <p:spPr>
            <a:xfrm>
              <a:off x="4179960" y="1728720"/>
              <a:ext cx="717480" cy="7174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47"/>
            <p:cNvSpPr/>
            <p:nvPr/>
          </p:nvSpPr>
          <p:spPr>
            <a:xfrm>
              <a:off x="4347000" y="187128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Group 48"/>
          <p:cNvGrpSpPr/>
          <p:nvPr/>
        </p:nvGrpSpPr>
        <p:grpSpPr>
          <a:xfrm>
            <a:off x="5267160" y="1728720"/>
            <a:ext cx="717480" cy="717480"/>
            <a:chOff x="5267160" y="1728720"/>
            <a:chExt cx="717480" cy="717480"/>
          </a:xfrm>
        </p:grpSpPr>
        <p:sp>
          <p:nvSpPr>
            <p:cNvPr id="419" name="Rectangle 49"/>
            <p:cNvSpPr/>
            <p:nvPr/>
          </p:nvSpPr>
          <p:spPr>
            <a:xfrm>
              <a:off x="5267160" y="1728720"/>
              <a:ext cx="717480" cy="7174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 Box 50"/>
            <p:cNvSpPr/>
            <p:nvPr/>
          </p:nvSpPr>
          <p:spPr>
            <a:xfrm>
              <a:off x="5434200" y="187128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Group 51"/>
          <p:cNvGrpSpPr/>
          <p:nvPr/>
        </p:nvGrpSpPr>
        <p:grpSpPr>
          <a:xfrm>
            <a:off x="6356520" y="1728720"/>
            <a:ext cx="717480" cy="717480"/>
            <a:chOff x="6356520" y="1728720"/>
            <a:chExt cx="717480" cy="717480"/>
          </a:xfrm>
        </p:grpSpPr>
        <p:sp>
          <p:nvSpPr>
            <p:cNvPr id="422" name="Rectangle 52"/>
            <p:cNvSpPr/>
            <p:nvPr/>
          </p:nvSpPr>
          <p:spPr>
            <a:xfrm>
              <a:off x="6356520" y="1728720"/>
              <a:ext cx="717480" cy="7174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53"/>
            <p:cNvSpPr/>
            <p:nvPr/>
          </p:nvSpPr>
          <p:spPr>
            <a:xfrm>
              <a:off x="6523560" y="187128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424" name="AutoShape 96"/>
          <p:cNvCxnSpPr>
            <a:stCxn id="383" idx="3"/>
            <a:endCxn id="407" idx="1"/>
          </p:cNvCxnSpPr>
          <p:nvPr/>
        </p:nvCxnSpPr>
        <p:spPr>
          <a:xfrm>
            <a:off x="1631880" y="2087280"/>
            <a:ext cx="370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5" name="AutoShape 97"/>
          <p:cNvCxnSpPr>
            <a:stCxn id="407" idx="3"/>
            <a:endCxn id="413" idx="1"/>
          </p:cNvCxnSpPr>
          <p:nvPr/>
        </p:nvCxnSpPr>
        <p:spPr>
          <a:xfrm>
            <a:off x="2719440" y="2087280"/>
            <a:ext cx="372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6" name="AutoShape 98"/>
          <p:cNvCxnSpPr>
            <a:stCxn id="413" idx="3"/>
            <a:endCxn id="416" idx="1"/>
          </p:cNvCxnSpPr>
          <p:nvPr/>
        </p:nvCxnSpPr>
        <p:spPr>
          <a:xfrm>
            <a:off x="3808440" y="2087280"/>
            <a:ext cx="372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7" name="AutoShape 99"/>
          <p:cNvCxnSpPr>
            <a:stCxn id="416" idx="3"/>
            <a:endCxn id="419" idx="1"/>
          </p:cNvCxnSpPr>
          <p:nvPr/>
        </p:nvCxnSpPr>
        <p:spPr>
          <a:xfrm>
            <a:off x="4897080" y="2087280"/>
            <a:ext cx="370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8" name="AutoShape 100"/>
          <p:cNvCxnSpPr/>
          <p:nvPr/>
        </p:nvCxnSpPr>
        <p:spPr>
          <a:xfrm>
            <a:off x="5972040" y="2087280"/>
            <a:ext cx="372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9" name="AutoShape 101"/>
          <p:cNvCxnSpPr/>
          <p:nvPr/>
        </p:nvCxnSpPr>
        <p:spPr>
          <a:xfrm>
            <a:off x="7061040" y="2087280"/>
            <a:ext cx="372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0" name="AutoShape 102"/>
          <p:cNvCxnSpPr>
            <a:stCxn id="410" idx="3"/>
            <a:endCxn id="386" idx="1"/>
          </p:cNvCxnSpPr>
          <p:nvPr/>
        </p:nvCxnSpPr>
        <p:spPr>
          <a:xfrm flipH="1">
            <a:off x="913680" y="2087640"/>
            <a:ext cx="7249320" cy="1265760"/>
          </a:xfrm>
          <a:prstGeom prst="bentConnector5">
            <a:avLst>
              <a:gd name="adj1" fmla="val -3148"/>
              <a:gd name="adj2" fmla="val 49928"/>
              <a:gd name="adj3" fmla="val 10314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1" name="AutoShape 103"/>
          <p:cNvCxnSpPr/>
          <p:nvPr/>
        </p:nvCxnSpPr>
        <p:spPr>
          <a:xfrm>
            <a:off x="1631880" y="3352320"/>
            <a:ext cx="370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AutoShape 104"/>
          <p:cNvCxnSpPr/>
          <p:nvPr/>
        </p:nvCxnSpPr>
        <p:spPr>
          <a:xfrm>
            <a:off x="2719440" y="3352320"/>
            <a:ext cx="372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3" name="AutoShape 105"/>
          <p:cNvCxnSpPr/>
          <p:nvPr/>
        </p:nvCxnSpPr>
        <p:spPr>
          <a:xfrm>
            <a:off x="3808440" y="3352320"/>
            <a:ext cx="372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AutoShape 106"/>
          <p:cNvCxnSpPr/>
          <p:nvPr/>
        </p:nvCxnSpPr>
        <p:spPr>
          <a:xfrm>
            <a:off x="4897080" y="3352320"/>
            <a:ext cx="370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5" name="AutoShape 107"/>
          <p:cNvCxnSpPr/>
          <p:nvPr/>
        </p:nvCxnSpPr>
        <p:spPr>
          <a:xfrm>
            <a:off x="5972040" y="3352320"/>
            <a:ext cx="372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AutoShape 108"/>
          <p:cNvCxnSpPr/>
          <p:nvPr/>
        </p:nvCxnSpPr>
        <p:spPr>
          <a:xfrm>
            <a:off x="7061040" y="3352320"/>
            <a:ext cx="372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37" name="Group 122"/>
          <p:cNvGrpSpPr/>
          <p:nvPr/>
        </p:nvGrpSpPr>
        <p:grpSpPr>
          <a:xfrm>
            <a:off x="460080" y="4019400"/>
            <a:ext cx="7689960" cy="2532240"/>
            <a:chOff x="460080" y="4019400"/>
            <a:chExt cx="7689960" cy="2532240"/>
          </a:xfrm>
        </p:grpSpPr>
        <p:sp>
          <p:nvSpPr>
            <p:cNvPr id="438" name="Text Box 6"/>
            <p:cNvSpPr/>
            <p:nvPr/>
          </p:nvSpPr>
          <p:spPr>
            <a:xfrm>
              <a:off x="460080" y="4019400"/>
              <a:ext cx="268776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tegrated solu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Group 54"/>
            <p:cNvGrpSpPr/>
            <p:nvPr/>
          </p:nvGrpSpPr>
          <p:grpSpPr>
            <a:xfrm>
              <a:off x="901800" y="4568760"/>
              <a:ext cx="717480" cy="717480"/>
              <a:chOff x="901800" y="4568760"/>
              <a:chExt cx="717480" cy="717480"/>
            </a:xfrm>
          </p:grpSpPr>
          <p:sp>
            <p:nvSpPr>
              <p:cNvPr id="440" name="Rectangle 55"/>
              <p:cNvSpPr/>
              <p:nvPr/>
            </p:nvSpPr>
            <p:spPr>
              <a:xfrm>
                <a:off x="901800" y="4568760"/>
                <a:ext cx="717480" cy="7174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56"/>
              <p:cNvSpPr/>
              <p:nvPr/>
            </p:nvSpPr>
            <p:spPr>
              <a:xfrm>
                <a:off x="1068840" y="4711320"/>
                <a:ext cx="38340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Group 57"/>
            <p:cNvGrpSpPr/>
            <p:nvPr/>
          </p:nvGrpSpPr>
          <p:grpSpPr>
            <a:xfrm>
              <a:off x="901800" y="5834160"/>
              <a:ext cx="717480" cy="717480"/>
              <a:chOff x="901800" y="5834160"/>
              <a:chExt cx="717480" cy="717480"/>
            </a:xfrm>
          </p:grpSpPr>
          <p:sp>
            <p:nvSpPr>
              <p:cNvPr id="443" name="Rectangle 58"/>
              <p:cNvSpPr/>
              <p:nvPr/>
            </p:nvSpPr>
            <p:spPr>
              <a:xfrm>
                <a:off x="901800" y="5834160"/>
                <a:ext cx="717480" cy="7174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59"/>
              <p:cNvSpPr/>
              <p:nvPr/>
            </p:nvSpPr>
            <p:spPr>
              <a:xfrm>
                <a:off x="1068840" y="5977080"/>
                <a:ext cx="38340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60"/>
            <p:cNvGrpSpPr/>
            <p:nvPr/>
          </p:nvGrpSpPr>
          <p:grpSpPr>
            <a:xfrm>
              <a:off x="1989000" y="5834160"/>
              <a:ext cx="717480" cy="717480"/>
              <a:chOff x="1989000" y="5834160"/>
              <a:chExt cx="717480" cy="717480"/>
            </a:xfrm>
          </p:grpSpPr>
          <p:sp>
            <p:nvSpPr>
              <p:cNvPr id="446" name="Rectangle 61"/>
              <p:cNvSpPr/>
              <p:nvPr/>
            </p:nvSpPr>
            <p:spPr>
              <a:xfrm>
                <a:off x="1989000" y="5834160"/>
                <a:ext cx="717480" cy="7174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Text Box 62"/>
              <p:cNvSpPr/>
              <p:nvPr/>
            </p:nvSpPr>
            <p:spPr>
              <a:xfrm>
                <a:off x="2156040" y="5977080"/>
                <a:ext cx="38340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8" name="Group 63"/>
            <p:cNvGrpSpPr/>
            <p:nvPr/>
          </p:nvGrpSpPr>
          <p:grpSpPr>
            <a:xfrm>
              <a:off x="3078000" y="5834160"/>
              <a:ext cx="717480" cy="717480"/>
              <a:chOff x="3078000" y="5834160"/>
              <a:chExt cx="717480" cy="717480"/>
            </a:xfrm>
          </p:grpSpPr>
          <p:sp>
            <p:nvSpPr>
              <p:cNvPr id="449" name="Rectangle 64"/>
              <p:cNvSpPr/>
              <p:nvPr/>
            </p:nvSpPr>
            <p:spPr>
              <a:xfrm>
                <a:off x="3078000" y="5834160"/>
                <a:ext cx="717480" cy="7174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65"/>
              <p:cNvSpPr/>
              <p:nvPr/>
            </p:nvSpPr>
            <p:spPr>
              <a:xfrm>
                <a:off x="3245040" y="5977080"/>
                <a:ext cx="38340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Group 66"/>
            <p:cNvGrpSpPr/>
            <p:nvPr/>
          </p:nvGrpSpPr>
          <p:grpSpPr>
            <a:xfrm>
              <a:off x="5254560" y="5834160"/>
              <a:ext cx="717480" cy="717480"/>
              <a:chOff x="5254560" y="5834160"/>
              <a:chExt cx="717480" cy="717480"/>
            </a:xfrm>
          </p:grpSpPr>
          <p:sp>
            <p:nvSpPr>
              <p:cNvPr id="452" name="Rectangle 67"/>
              <p:cNvSpPr/>
              <p:nvPr/>
            </p:nvSpPr>
            <p:spPr>
              <a:xfrm>
                <a:off x="5254560" y="5834160"/>
                <a:ext cx="717480" cy="7174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68"/>
              <p:cNvSpPr/>
              <p:nvPr/>
            </p:nvSpPr>
            <p:spPr>
              <a:xfrm>
                <a:off x="5421600" y="5977080"/>
                <a:ext cx="38340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69"/>
            <p:cNvGrpSpPr/>
            <p:nvPr/>
          </p:nvGrpSpPr>
          <p:grpSpPr>
            <a:xfrm>
              <a:off x="4167360" y="5834160"/>
              <a:ext cx="717480" cy="717480"/>
              <a:chOff x="4167360" y="5834160"/>
              <a:chExt cx="717480" cy="717480"/>
            </a:xfrm>
          </p:grpSpPr>
          <p:sp>
            <p:nvSpPr>
              <p:cNvPr id="455" name="Rectangle 70"/>
              <p:cNvSpPr/>
              <p:nvPr/>
            </p:nvSpPr>
            <p:spPr>
              <a:xfrm>
                <a:off x="4167360" y="5834160"/>
                <a:ext cx="717480" cy="7174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71"/>
              <p:cNvSpPr/>
              <p:nvPr/>
            </p:nvSpPr>
            <p:spPr>
              <a:xfrm>
                <a:off x="4334400" y="5977080"/>
                <a:ext cx="38340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7" name="Group 72"/>
            <p:cNvGrpSpPr/>
            <p:nvPr/>
          </p:nvGrpSpPr>
          <p:grpSpPr>
            <a:xfrm>
              <a:off x="6343560" y="5834160"/>
              <a:ext cx="717480" cy="717480"/>
              <a:chOff x="6343560" y="5834160"/>
              <a:chExt cx="717480" cy="717480"/>
            </a:xfrm>
          </p:grpSpPr>
          <p:sp>
            <p:nvSpPr>
              <p:cNvPr id="458" name="Rectangle 73"/>
              <p:cNvSpPr/>
              <p:nvPr/>
            </p:nvSpPr>
            <p:spPr>
              <a:xfrm>
                <a:off x="6343560" y="5834160"/>
                <a:ext cx="717480" cy="7174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Text Box 74"/>
              <p:cNvSpPr/>
              <p:nvPr/>
            </p:nvSpPr>
            <p:spPr>
              <a:xfrm>
                <a:off x="6510600" y="5977080"/>
                <a:ext cx="38340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0" name="Group 75"/>
            <p:cNvGrpSpPr/>
            <p:nvPr/>
          </p:nvGrpSpPr>
          <p:grpSpPr>
            <a:xfrm>
              <a:off x="7432560" y="5834160"/>
              <a:ext cx="717480" cy="717480"/>
              <a:chOff x="7432560" y="5834160"/>
              <a:chExt cx="717480" cy="717480"/>
            </a:xfrm>
          </p:grpSpPr>
          <p:sp>
            <p:nvSpPr>
              <p:cNvPr id="461" name="Rectangle 76"/>
              <p:cNvSpPr/>
              <p:nvPr/>
            </p:nvSpPr>
            <p:spPr>
              <a:xfrm>
                <a:off x="7432560" y="5834160"/>
                <a:ext cx="717480" cy="7174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Text Box 77"/>
              <p:cNvSpPr/>
              <p:nvPr/>
            </p:nvSpPr>
            <p:spPr>
              <a:xfrm>
                <a:off x="7599600" y="5977080"/>
                <a:ext cx="38340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3" name="Group 78"/>
            <p:cNvGrpSpPr/>
            <p:nvPr/>
          </p:nvGrpSpPr>
          <p:grpSpPr>
            <a:xfrm>
              <a:off x="1989000" y="4568760"/>
              <a:ext cx="717480" cy="717480"/>
              <a:chOff x="1989000" y="4568760"/>
              <a:chExt cx="717480" cy="717480"/>
            </a:xfrm>
          </p:grpSpPr>
          <p:sp>
            <p:nvSpPr>
              <p:cNvPr id="464" name="Rectangle 79"/>
              <p:cNvSpPr/>
              <p:nvPr/>
            </p:nvSpPr>
            <p:spPr>
              <a:xfrm>
                <a:off x="1989000" y="4568760"/>
                <a:ext cx="717480" cy="7174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Text Box 80"/>
              <p:cNvSpPr/>
              <p:nvPr/>
            </p:nvSpPr>
            <p:spPr>
              <a:xfrm>
                <a:off x="2156040" y="4711320"/>
                <a:ext cx="38340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6" name="Group 81"/>
            <p:cNvGrpSpPr/>
            <p:nvPr/>
          </p:nvGrpSpPr>
          <p:grpSpPr>
            <a:xfrm>
              <a:off x="7432560" y="4568760"/>
              <a:ext cx="717480" cy="717480"/>
              <a:chOff x="7432560" y="4568760"/>
              <a:chExt cx="717480" cy="717480"/>
            </a:xfrm>
          </p:grpSpPr>
          <p:sp>
            <p:nvSpPr>
              <p:cNvPr id="467" name="Rectangle 82"/>
              <p:cNvSpPr/>
              <p:nvPr/>
            </p:nvSpPr>
            <p:spPr>
              <a:xfrm>
                <a:off x="7432560" y="4568760"/>
                <a:ext cx="717480" cy="7174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Text Box 83"/>
              <p:cNvSpPr/>
              <p:nvPr/>
            </p:nvSpPr>
            <p:spPr>
              <a:xfrm>
                <a:off x="7599600" y="4711320"/>
                <a:ext cx="38340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9" name="Group 84"/>
            <p:cNvGrpSpPr/>
            <p:nvPr/>
          </p:nvGrpSpPr>
          <p:grpSpPr>
            <a:xfrm>
              <a:off x="3078000" y="4568760"/>
              <a:ext cx="717480" cy="717480"/>
              <a:chOff x="3078000" y="4568760"/>
              <a:chExt cx="717480" cy="717480"/>
            </a:xfrm>
          </p:grpSpPr>
          <p:sp>
            <p:nvSpPr>
              <p:cNvPr id="470" name="Rectangle 85"/>
              <p:cNvSpPr/>
              <p:nvPr/>
            </p:nvSpPr>
            <p:spPr>
              <a:xfrm>
                <a:off x="3078000" y="4568760"/>
                <a:ext cx="717480" cy="7174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Text Box 86"/>
              <p:cNvSpPr/>
              <p:nvPr/>
            </p:nvSpPr>
            <p:spPr>
              <a:xfrm>
                <a:off x="3245040" y="4711320"/>
                <a:ext cx="38340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2" name="Group 87"/>
            <p:cNvGrpSpPr/>
            <p:nvPr/>
          </p:nvGrpSpPr>
          <p:grpSpPr>
            <a:xfrm>
              <a:off x="4167360" y="4568760"/>
              <a:ext cx="717480" cy="717480"/>
              <a:chOff x="4167360" y="4568760"/>
              <a:chExt cx="717480" cy="717480"/>
            </a:xfrm>
          </p:grpSpPr>
          <p:sp>
            <p:nvSpPr>
              <p:cNvPr id="473" name="Rectangle 88"/>
              <p:cNvSpPr/>
              <p:nvPr/>
            </p:nvSpPr>
            <p:spPr>
              <a:xfrm>
                <a:off x="4167360" y="4568760"/>
                <a:ext cx="717480" cy="7174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Text Box 89"/>
              <p:cNvSpPr/>
              <p:nvPr/>
            </p:nvSpPr>
            <p:spPr>
              <a:xfrm>
                <a:off x="4334400" y="4711320"/>
                <a:ext cx="38340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5" name="Group 90"/>
            <p:cNvGrpSpPr/>
            <p:nvPr/>
          </p:nvGrpSpPr>
          <p:grpSpPr>
            <a:xfrm>
              <a:off x="5254560" y="4568760"/>
              <a:ext cx="717480" cy="717480"/>
              <a:chOff x="5254560" y="4568760"/>
              <a:chExt cx="717480" cy="717480"/>
            </a:xfrm>
          </p:grpSpPr>
          <p:sp>
            <p:nvSpPr>
              <p:cNvPr id="476" name="Rectangle 91"/>
              <p:cNvSpPr/>
              <p:nvPr/>
            </p:nvSpPr>
            <p:spPr>
              <a:xfrm>
                <a:off x="5254560" y="4568760"/>
                <a:ext cx="717480" cy="7174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Text Box 92"/>
              <p:cNvSpPr/>
              <p:nvPr/>
            </p:nvSpPr>
            <p:spPr>
              <a:xfrm>
                <a:off x="5421600" y="4711320"/>
                <a:ext cx="38340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8" name="Group 93"/>
            <p:cNvGrpSpPr/>
            <p:nvPr/>
          </p:nvGrpSpPr>
          <p:grpSpPr>
            <a:xfrm>
              <a:off x="6343560" y="4568760"/>
              <a:ext cx="717480" cy="717480"/>
              <a:chOff x="6343560" y="4568760"/>
              <a:chExt cx="717480" cy="717480"/>
            </a:xfrm>
          </p:grpSpPr>
          <p:sp>
            <p:nvSpPr>
              <p:cNvPr id="479" name="Rectangle 94"/>
              <p:cNvSpPr/>
              <p:nvPr/>
            </p:nvSpPr>
            <p:spPr>
              <a:xfrm>
                <a:off x="6343560" y="4568760"/>
                <a:ext cx="717480" cy="7174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Text Box 95"/>
              <p:cNvSpPr/>
              <p:nvPr/>
            </p:nvSpPr>
            <p:spPr>
              <a:xfrm>
                <a:off x="6510600" y="4711320"/>
                <a:ext cx="38340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481" name="AutoShape 109"/>
            <p:cNvCxnSpPr/>
            <p:nvPr/>
          </p:nvCxnSpPr>
          <p:spPr>
            <a:xfrm>
              <a:off x="1618920" y="4917600"/>
              <a:ext cx="370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82" name="AutoShape 110"/>
            <p:cNvCxnSpPr/>
            <p:nvPr/>
          </p:nvCxnSpPr>
          <p:spPr>
            <a:xfrm>
              <a:off x="2706480" y="4917600"/>
              <a:ext cx="3718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83" name="AutoShape 111"/>
            <p:cNvCxnSpPr/>
            <p:nvPr/>
          </p:nvCxnSpPr>
          <p:spPr>
            <a:xfrm>
              <a:off x="3795840" y="4917600"/>
              <a:ext cx="3722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84" name="AutoShape 112"/>
            <p:cNvCxnSpPr/>
            <p:nvPr/>
          </p:nvCxnSpPr>
          <p:spPr>
            <a:xfrm>
              <a:off x="4884480" y="4917600"/>
              <a:ext cx="370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85" name="AutoShape 113"/>
            <p:cNvCxnSpPr/>
            <p:nvPr/>
          </p:nvCxnSpPr>
          <p:spPr>
            <a:xfrm>
              <a:off x="5959440" y="4917600"/>
              <a:ext cx="3722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86" name="AutoShape 114"/>
            <p:cNvCxnSpPr/>
            <p:nvPr/>
          </p:nvCxnSpPr>
          <p:spPr>
            <a:xfrm>
              <a:off x="7048440" y="4917600"/>
              <a:ext cx="3722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87" name="AutoShape 115"/>
            <p:cNvCxnSpPr>
              <a:stCxn id="440" idx="2"/>
              <a:endCxn id="443" idx="0"/>
            </p:cNvCxnSpPr>
            <p:nvPr/>
          </p:nvCxnSpPr>
          <p:spPr>
            <a:xfrm>
              <a:off x="1260000" y="5286240"/>
              <a:ext cx="1080" cy="548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488" name="AutoShape 116"/>
            <p:cNvCxnSpPr/>
            <p:nvPr/>
          </p:nvCxnSpPr>
          <p:spPr>
            <a:xfrm>
              <a:off x="2347560" y="5286240"/>
              <a:ext cx="1080" cy="548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489" name="AutoShape 117"/>
            <p:cNvCxnSpPr/>
            <p:nvPr/>
          </p:nvCxnSpPr>
          <p:spPr>
            <a:xfrm>
              <a:off x="3438000" y="5292360"/>
              <a:ext cx="1080" cy="548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490" name="AutoShape 118"/>
            <p:cNvCxnSpPr/>
            <p:nvPr/>
          </p:nvCxnSpPr>
          <p:spPr>
            <a:xfrm>
              <a:off x="4514400" y="5292360"/>
              <a:ext cx="1080" cy="548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491" name="AutoShape 119"/>
            <p:cNvCxnSpPr/>
            <p:nvPr/>
          </p:nvCxnSpPr>
          <p:spPr>
            <a:xfrm>
              <a:off x="7791120" y="5271840"/>
              <a:ext cx="1080" cy="548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492" name="AutoShape 120"/>
            <p:cNvCxnSpPr/>
            <p:nvPr/>
          </p:nvCxnSpPr>
          <p:spPr>
            <a:xfrm>
              <a:off x="5603400" y="5286240"/>
              <a:ext cx="1080" cy="548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493" name="AutoShape 121"/>
            <p:cNvCxnSpPr/>
            <p:nvPr/>
          </p:nvCxnSpPr>
          <p:spPr>
            <a:xfrm>
              <a:off x="6703560" y="5286240"/>
              <a:ext cx="1080" cy="548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cott Cairney</dc:creator>
  <dc:description/>
  <dc:language>en-US</dc:language>
  <cp:lastModifiedBy>jon@esru.strath.ac.uk</cp:lastModifiedBy>
  <dcterms:modified xsi:type="dcterms:W3CDTF">2019-10-22T09:29:59Z</dcterms:modified>
  <cp:revision>22</cp:revision>
  <dc:subject/>
  <dc:title>PCC V2 Proposal</dc:title>
</cp:coreProperties>
</file>