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25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D9D63-0301-4D02-B1EB-610CBC167C6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C11D5-6717-4544-A787-E4E0226B985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A8349-A6C8-42C1-8664-13C8F4241CC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6CDE6-8284-4BB2-B96C-483670C02C9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D8199-F18A-4564-BB59-C7590EB8AF5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D8F2E-2E47-4E43-8114-AC6626C74FF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E0C3F-7EB5-4409-84F4-C41F856CA7D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9F311-602E-4C1D-BEC8-32649069329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D1822-7B4B-4671-A850-0BB5AC6E98D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299F1-BB7D-45C4-9867-D84DE0C0D6D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A4255-3FC1-4647-8C64-8655DE69303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0AD0B-E943-4343-BD93-B258527D195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E118A-D9DA-4D47-BFDC-89EABE8B24F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1B974-7732-4A89-8988-C9F2DF0D95C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0797F-91D0-4362-9EE5-A189341CFB3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A8BF7-2E52-4A13-8FB8-433B91A12EC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0ADF5-075A-44A4-AF0C-C3BD4A65F5E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BA259-8659-4236-B5BB-8A9DA98E1DC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F23E-065D-476F-83D1-45C6DEF7060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BDF84-D8C6-41A4-8590-FFE539D09FD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5B778-FE20-45D4-A6B7-E7A187D291A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7CFEF-34EC-492B-A6FA-CB8A6B02A46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33132-33B1-4F3C-B057-678C5E7E34F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36DE9-29AC-4958-A9A7-7E0D2653D5A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3DC52-989A-45DD-BCBC-8B6A250A57F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F9ED6-52BB-4C01-A688-E157D7CF2E3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3139A-17BB-4FA3-8C58-AC5E4592BAF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07FCC-F47F-494D-AA11-A65EC76C51C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63A01-BFB0-47FC-9DA0-9915D4B1FA9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9DCCC-4C72-45EF-A657-E48D9A8360C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161F7-5408-4CF9-A7FE-4C7739EDDF2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B69E3-F265-47BB-9281-974A88B6033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DB53D-44DA-4ABA-A6B5-B87C2D39CF4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C5328-B127-48C3-AA46-5824503B96A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59879-F2EC-4F0F-BB1E-0E06E34C0D4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1BBF0-6CF5-4722-8980-B68448091B9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270A9-AF2E-4102-8D44-71B06A3F72A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A8E22-18AC-480C-B83C-D4D81C6D464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1314E-C31C-4258-8DDA-6744C1B341A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E6354-7FCE-43D8-8622-2D08161B522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BD0A2-F5C8-42AF-9C5E-3E626FB5E9D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2EA37-1DAF-400D-B063-745C79D8DBC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0499-FC93-4F0B-9446-AB85CEBE1F6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4C284-FBCC-4BAF-A1B9-157406A33AE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5D961-B582-4EC7-8DDC-ECB239307C0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D68E1-0AFF-4D22-9F5A-7319BC4A733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D051B-7AFB-48D6-8852-E1A878BC737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4F6A1-42D8-49ED-BD11-642425F3230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2EA04-E75E-4AE7-8600-90CA3E7D884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CF52B-A696-4FA8-AD67-EF1E9560D46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BEF9F-205C-44F6-A481-862B1A99E9F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6644F-F166-4728-8FFB-D5AC6EF060B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BB0F-731C-4B37-86C7-40BF24812EC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D9964-B8AE-4863-B716-56D19D38DFD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552A5-B2D9-42EF-90C9-BD080FD2A47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2A582-D880-490A-82C8-343DAC25549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0091C-2CFD-4D9A-9F1E-FD14C96112E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 Introduction to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HOT3000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73160" y="1047600"/>
            <a:ext cx="716436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Daylight 1-2-3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20800" y="1063800"/>
            <a:ext cx="751356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"/>
          <p:cNvSpPr/>
          <p:nvPr/>
        </p:nvSpPr>
        <p:spPr>
          <a:xfrm>
            <a:off x="2149560" y="2850120"/>
            <a:ext cx="13064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4726440" y="3898080"/>
            <a:ext cx="1453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3746880" y="5097960"/>
            <a:ext cx="145332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660240" y="347580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60240" y="5056920"/>
            <a:ext cx="1651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4504320" y="1440360"/>
            <a:ext cx="17402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7010280" y="1352160"/>
            <a:ext cx="185760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6953400" y="2819880"/>
            <a:ext cx="1857240" cy="154080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Matur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2150280" y="2850120"/>
            <a:ext cx="13064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727880" y="3898440"/>
            <a:ext cx="1453320" cy="13950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747960" y="5097960"/>
            <a:ext cx="145332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60240" y="34761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660240" y="5057280"/>
            <a:ext cx="165132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4502520" y="1440360"/>
            <a:ext cx="17402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7010280" y="1351800"/>
            <a:ext cx="1857600" cy="1239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953400" y="2820600"/>
            <a:ext cx="1857240" cy="1540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Building domai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’s heat-balance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etize in space by representing building fabric and internal zones with control volumes (C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heat balances for each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ously solve matrix of heat bal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27120" y="3549600"/>
            <a:ext cx="7840440" cy="31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006640" y="1303200"/>
            <a:ext cx="538776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ting other dom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80160" y="1371600"/>
            <a:ext cx="29858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(HV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04640" y="928800"/>
            <a:ext cx="528012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dditional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sh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inso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ew factor calc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sual gains control (daylight contro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mperature-dependent materi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age rende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s: network air flow, setback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ant injections: radiant-slabs, convective heating, convective-radiative, etc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 of optic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NSYS cou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Explicit plant mode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d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2903400" cy="525780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333440" y="2171880"/>
            <a:ext cx="3257640" cy="33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Lighting simulation with Radi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324480" cy="417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Structu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304920" y="961920"/>
            <a:ext cx="24382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ct management fac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533520" y="2104920"/>
            <a:ext cx="19810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80880" y="3247920"/>
            <a:ext cx="2438640" cy="60984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recovery &amp;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33520" y="4314960"/>
            <a:ext cx="205740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graphing 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sis pack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3676680" y="1038240"/>
            <a:ext cx="1523880" cy="3808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C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76720" y="286704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76720" y="34765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3276720" y="41623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ic time-seri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3276720" y="47721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inition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3276720" y="54579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hading/insolation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1523880" y="1495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523880" y="2638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1523880" y="38577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133200" y="1190520"/>
            <a:ext cx="171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142920" y="12016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152280" y="35528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914400" y="1495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048120" y="56102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048120" y="49244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3048120" y="43149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3048120" y="36291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3048120" y="30193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>
            <a:off x="3048120" y="301932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4191120" y="309564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4191120" y="37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4191120" y="439092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4191120" y="50007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9"/>
          <p:cNvSpPr/>
          <p:nvPr/>
        </p:nvSpPr>
        <p:spPr>
          <a:xfrm>
            <a:off x="5943600" y="28670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5943600" y="347652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5943600" y="4086360"/>
            <a:ext cx="2971800" cy="3045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e db analysis &amp;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2"/>
          <p:cNvSpPr/>
          <p:nvPr/>
        </p:nvSpPr>
        <p:spPr>
          <a:xfrm>
            <a:off x="5943600" y="46958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’ns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3"/>
          <p:cNvSpPr/>
          <p:nvPr/>
        </p:nvSpPr>
        <p:spPr>
          <a:xfrm>
            <a:off x="5943600" y="5305320"/>
            <a:ext cx="2971800" cy="5335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al shading and inter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olation predi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4"/>
          <p:cNvSpPr/>
          <p:nvPr/>
        </p:nvSpPr>
        <p:spPr>
          <a:xfrm>
            <a:off x="5943600" y="6143760"/>
            <a:ext cx="2971800" cy="5331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-alone mass flow so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amp; results reco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2752560" y="12096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6172200" y="31719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7"/>
          <p:cNvSpPr/>
          <p:nvPr/>
        </p:nvSpPr>
        <p:spPr>
          <a:xfrm>
            <a:off x="6172200" y="37814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8"/>
          <p:cNvSpPr/>
          <p:nvPr/>
        </p:nvSpPr>
        <p:spPr>
          <a:xfrm>
            <a:off x="6172200" y="439092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9"/>
          <p:cNvSpPr/>
          <p:nvPr/>
        </p:nvSpPr>
        <p:spPr>
          <a:xfrm>
            <a:off x="6172200" y="50007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0"/>
          <p:cNvSpPr/>
          <p:nvPr/>
        </p:nvSpPr>
        <p:spPr>
          <a:xfrm>
            <a:off x="5334120" y="301932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1"/>
          <p:cNvSpPr/>
          <p:nvPr/>
        </p:nvSpPr>
        <p:spPr>
          <a:xfrm>
            <a:off x="5334120" y="362916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2"/>
          <p:cNvSpPr/>
          <p:nvPr/>
        </p:nvSpPr>
        <p:spPr>
          <a:xfrm>
            <a:off x="5334120" y="42386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3"/>
          <p:cNvSpPr/>
          <p:nvPr/>
        </p:nvSpPr>
        <p:spPr>
          <a:xfrm>
            <a:off x="5334120" y="49244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4"/>
          <p:cNvSpPr/>
          <p:nvPr/>
        </p:nvSpPr>
        <p:spPr>
          <a:xfrm>
            <a:off x="5334120" y="56102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5"/>
          <p:cNvSpPr/>
          <p:nvPr/>
        </p:nvSpPr>
        <p:spPr>
          <a:xfrm>
            <a:off x="2514600" y="2486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6"/>
          <p:cNvSpPr/>
          <p:nvPr/>
        </p:nvSpPr>
        <p:spPr>
          <a:xfrm>
            <a:off x="2895480" y="2486160"/>
            <a:ext cx="180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7"/>
          <p:cNvSpPr/>
          <p:nvPr/>
        </p:nvSpPr>
        <p:spPr>
          <a:xfrm>
            <a:off x="2895480" y="6296040"/>
            <a:ext cx="30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1619280" y="1581120"/>
            <a:ext cx="1085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bl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2133720" y="5686560"/>
            <a:ext cx="914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ass fl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0"/>
          <p:cNvSpPr/>
          <p:nvPr/>
        </p:nvSpPr>
        <p:spPr>
          <a:xfrm>
            <a:off x="1600200" y="2695680"/>
            <a:ext cx="838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data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1581120" y="3914640"/>
            <a:ext cx="876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2"/>
          <p:cNvSpPr/>
          <p:nvPr/>
        </p:nvSpPr>
        <p:spPr>
          <a:xfrm>
            <a:off x="2514600" y="240984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3"/>
          <p:cNvSpPr/>
          <p:nvPr/>
        </p:nvSpPr>
        <p:spPr>
          <a:xfrm>
            <a:off x="3048120" y="24098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vailabil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versions can be downloade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esru.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 code available through versioning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our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mailing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user_clu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monstration and exerci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omain exerc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sing air flow and internal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ing plant and controls ide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nstructions databa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constructi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ivity, density, and specific he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red emissivity and solar absorptiv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many standard materi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multilayer co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er-by-layer descri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s materials from elements data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ickness of each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973160" y="5286240"/>
            <a:ext cx="4648320" cy="15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381400" y="2171880"/>
            <a:ext cx="4608360" cy="4103640"/>
            <a:chOff x="2381400" y="2171880"/>
            <a:chExt cx="4608360" cy="4103640"/>
          </a:xfrm>
        </p:grpSpPr>
        <p:sp>
          <p:nvSpPr>
            <p:cNvPr id="254" name="Rectangle 4"/>
            <p:cNvSpPr/>
            <p:nvPr/>
          </p:nvSpPr>
          <p:spPr>
            <a:xfrm>
              <a:off x="2381400" y="2171880"/>
              <a:ext cx="4608360" cy="41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5" name="Picture 5" descr=""/>
            <p:cNvPicPr/>
            <p:nvPr/>
          </p:nvPicPr>
          <p:blipFill>
            <a:blip r:embed="rId1"/>
            <a:stretch/>
          </p:blipFill>
          <p:spPr>
            <a:xfrm>
              <a:off x="3465000" y="2423880"/>
              <a:ext cx="2440800" cy="359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icit geometrical model requir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-surface radiation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d external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shading and insolation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429000" cy="3024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3400560" cy="2923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4267080" y="4724280"/>
            <a:ext cx="60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zo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193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ordin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vertex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 vertices to for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 must be completely en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ts of handy tools to assist data in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52960" cy="32860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1618200" y="5629320"/>
            <a:ext cx="4801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mpler models are bette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build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562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efined zone-by-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s can be moved, copied, deleted, and mer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the model (make a sketch) before attempting data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 input possible, but generally easier to use project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void unnecessary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791320" y="1752480"/>
            <a:ext cx="311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314360" y="2077920"/>
            <a:ext cx="6505560" cy="39988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184480" y="2525760"/>
            <a:ext cx="50227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: Attribute surfa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faces attributed by assigning multilayer constructions from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2733840" y="3600360"/>
            <a:ext cx="30384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geometrical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2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ed transparent multilayer constru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d in similar fashion as opaque mlc’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cal properties also requir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s fill characterized by a thermal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import optical properties from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wall geometry first, then insert 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e: declare separately as opaque MLC or include effect on window U-value and optical properties of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 window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ribute the window with the layered constructio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_gl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033640" y="2244600"/>
            <a:ext cx="510552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window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3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layer constructions have inside and outside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2397240" y="2711520"/>
            <a:ext cx="3957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ypes of boundary condition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the zone’s air-po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andl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define boundary condition for out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outdo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fixed temperature and radiation sour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ed to ground (user-defined monthly temperature pro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same conditions as insi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iabat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SIMP fou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approach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n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ign boundary condition to each surface the same way it is attributed with a multilayer constr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utomatic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opology checker program to automatically match common surfaces between adjoining zones and prompt for other boundary condition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: To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windows, walls and ceiling to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floor to BASESIMP, and use configuration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at is building simulation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41360" y="1050480"/>
            <a:ext cx="394524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ipment siz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ergy use &amp;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nt 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light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ou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s integrated desig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5120" y="905040"/>
            <a:ext cx="437364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727920" y="6337440"/>
            <a:ext cx="4051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MHC “Healthy House”, Toro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boundary condition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4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 gains can be se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cup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ternal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s in W or W/ 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ant and convective por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ible and latent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ins are schedu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import fractional profiles from previously created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handling air f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lculated with a network air-flow model (coming lat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mal impact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mpo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low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ilt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the outdoors to the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nti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another zone (or at a set tempera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647720" y="4562640"/>
            <a:ext cx="543888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616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filtration and ventilation 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zone-by-zone bas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c/h (receiving zo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ource zone (or temperature) for venti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rates can be controlled (3-stage) as 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ac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 and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8352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"/>
          <p:cNvGraphicFramePr/>
          <p:nvPr/>
        </p:nvGraphicFramePr>
        <p:xfrm>
          <a:off x="1143000" y="2133720"/>
          <a:ext cx="617220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1722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operation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5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plant and controls Ideall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icitly with a component mod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l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behavior of HVAC system modeled, but not compon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 approach employed by ESP-r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Sensor and actuato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ens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temperature in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of zone temperature and 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condition: temperature, wind,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tua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point of current zone (convective he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a layered construction (radiant s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ve/radiative 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Control la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control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rol la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 heat injection/extraction with fixed capac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-flo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/off and 3-posi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volume, variabl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D, fuzzy-logic PI-P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set points and heating &amp; cooling capa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ideal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685880" y="2033640"/>
            <a:ext cx="6091200" cy="4064040"/>
            <a:chOff x="1685880" y="2033640"/>
            <a:chExt cx="6091200" cy="4064040"/>
          </a:xfrm>
        </p:grpSpPr>
        <p:graphicFrame>
          <p:nvGraphicFramePr>
            <p:cNvPr id="317" name="Object 4"/>
            <p:cNvGraphicFramePr/>
            <p:nvPr/>
          </p:nvGraphicFramePr>
          <p:xfrm>
            <a:off x="1685880" y="2033640"/>
            <a:ext cx="6091200" cy="406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5880" y="2033640"/>
                      <a:ext cx="609120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Text Box 5"/>
            <p:cNvSpPr/>
            <p:nvPr/>
          </p:nvSpPr>
          <p:spPr>
            <a:xfrm>
              <a:off x="1685880" y="2033640"/>
              <a:ext cx="609120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Rectangle 6"/>
          <p:cNvSpPr/>
          <p:nvPr/>
        </p:nvSpPr>
        <p:spPr>
          <a:xfrm>
            <a:off x="2714400" y="227016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free floating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 rot="16200000">
            <a:off x="3165480" y="21934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914400" y="6553080"/>
            <a:ext cx="71229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age: Clarke, J.A. (2001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nergy Simulation in Building Design, 2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controls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6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hading and Inso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inso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ed insolation within zone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us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olation to 1 or 2 su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ing and insolation module: 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ding and insolation mo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obstruction blocks, window reveals, overha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internal insol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es not account for self sh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ude obstruction 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9636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shading and insolation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7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weather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period of si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ime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tog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y model, surface convection model, solver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 detailed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on coefficients, air flow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 zone temperatures and plant injections as simulation prog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house with constant set-point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 simulation, but use set-back thermos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from Jan 9-15, 1 hour tim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/usr/esru/esp-r/climate/ottawa.cwec for the weathe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 solution variables agains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, surface, and interstitial 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 injections or extra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ltration &amp; ventilation loa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load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plots of cross-sectional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ph frequency distrib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fluxe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xt output of instantaneous and integrated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zone temperature and heat injection for constant set-point temperature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at for set-back thermostat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390600" y="258120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560" y="1574640"/>
            <a:ext cx="14454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easibil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68440" y="1725480"/>
            <a:ext cx="149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47880" y="1725480"/>
            <a:ext cx="1599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042680" y="1725480"/>
            <a:ext cx="12582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305720" y="5527800"/>
            <a:ext cx="6559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 DOE Software tools directory:</a:t>
            </a:r>
            <a:br>
              <a:rPr sz="5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eere.energy.gov/buildings/tools_directory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130320" y="2944440"/>
            <a:ext cx="8661240" cy="1787760"/>
            <a:chOff x="-130320" y="2944440"/>
            <a:chExt cx="8661240" cy="1787760"/>
          </a:xfrm>
        </p:grpSpPr>
        <p:grpSp>
          <p:nvGrpSpPr>
            <p:cNvPr id="111" name="Group 9"/>
            <p:cNvGrpSpPr/>
            <p:nvPr/>
          </p:nvGrpSpPr>
          <p:grpSpPr>
            <a:xfrm>
              <a:off x="-130320" y="2944440"/>
              <a:ext cx="8249400" cy="1356840"/>
              <a:chOff x="-130320" y="2944440"/>
              <a:chExt cx="8249400" cy="1356840"/>
            </a:xfrm>
          </p:grpSpPr>
          <p:sp>
            <p:nvSpPr>
              <p:cNvPr id="112" name="Text Box 10"/>
              <p:cNvSpPr/>
              <p:nvPr/>
            </p:nvSpPr>
            <p:spPr>
              <a:xfrm rot="18540000">
                <a:off x="-280440" y="3463560"/>
                <a:ext cx="14439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</a:rPr>
                  <a:t>RETScreen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1"/>
              <p:cNvSpPr/>
              <p:nvPr/>
            </p:nvSpPr>
            <p:spPr>
              <a:xfrm rot="18540000">
                <a:off x="1177920" y="335052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2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12"/>
              <p:cNvSpPr/>
              <p:nvPr/>
            </p:nvSpPr>
            <p:spPr>
              <a:xfrm rot="18540000">
                <a:off x="2376000" y="335196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3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13"/>
              <p:cNvSpPr/>
              <p:nvPr/>
            </p:nvSpPr>
            <p:spPr>
              <a:xfrm rot="18540000">
                <a:off x="4259160" y="3321720"/>
                <a:ext cx="125640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Quest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(DOE 2.1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Text Box 14"/>
              <p:cNvSpPr/>
              <p:nvPr/>
            </p:nvSpPr>
            <p:spPr>
              <a:xfrm rot="18540000">
                <a:off x="5401800" y="3458520"/>
                <a:ext cx="143028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nergyPlus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 Box 15"/>
              <p:cNvSpPr/>
              <p:nvPr/>
            </p:nvSpPr>
            <p:spPr>
              <a:xfrm rot="18540000">
                <a:off x="6899400" y="3302280"/>
                <a:ext cx="120924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TRNSYS,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SP-r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Text Box 16"/>
            <p:cNvSpPr/>
            <p:nvPr/>
          </p:nvSpPr>
          <p:spPr>
            <a:xfrm>
              <a:off x="273960" y="4430520"/>
              <a:ext cx="1678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Easy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6869160" y="4420800"/>
              <a:ext cx="1661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Hard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Open source softwa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546880" y="3467160"/>
            <a:ext cx="3149280" cy="38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429160" y="1204920"/>
            <a:ext cx="3314880" cy="2143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free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ed under the G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-and-share-alik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tion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Eidenhoven, U.London, NRC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ordia, U. Calgary, Dalhousie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 Toronto, Carleton, Laval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le Polytechniqu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earch focused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78501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a research t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d by graduate students and prof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-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-principles”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e-of-Use is not a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rs are research-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resources for general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11 interface circa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of surprises (bugs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pect to be frustr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: X11 interfa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37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4:30Z</dcterms:modified>
  <cp:revision>19</cp:revision>
  <dc:subject/>
  <dc:title>PCC V2 Proposal</dc:title>
</cp:coreProperties>
</file>