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CC39F-DF51-46B9-9484-EEB658E7B73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34DDD-4FC9-4077-A8F5-A44439568BA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97873-17CF-4EAF-9A5B-4FC8FB11E3E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A92F2-6126-49C7-91F4-8F061C85951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5DFAA-81D6-4927-ACE3-4A4E4DA21D9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BDD2E-52BE-4190-B540-5CEBBB22EFD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192480"/>
            <a:ext cx="755676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Modelling inter-zone airflow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r-zone air flow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modelling is used extensively in ESP-r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al ventilation in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 ventilation pre-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ed mode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lacement ventil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can be seen in the realistic models section of the exemp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eduled airflow is ignored when an air flow network is defin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office_af"/>
          <p:cNvPicPr/>
          <p:nvPr/>
        </p:nvPicPr>
        <p:blipFill>
          <a:blip r:embed="rId1"/>
          <a:stretch/>
        </p:blipFill>
        <p:spPr>
          <a:xfrm>
            <a:off x="3352680" y="990720"/>
            <a:ext cx="5464440" cy="56386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ir flow network constitu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35827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noda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38113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s in the network where the pressure is calculated or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de pressures are network stat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4780080" y="1447920"/>
            <a:ext cx="4058280" cy="4571640"/>
            <a:chOff x="4780080" y="1447920"/>
            <a:chExt cx="4058280" cy="4571640"/>
          </a:xfrm>
        </p:grpSpPr>
        <p:sp>
          <p:nvSpPr>
            <p:cNvPr id="349" name="Rectangle 5"/>
            <p:cNvSpPr/>
            <p:nvPr/>
          </p:nvSpPr>
          <p:spPr>
            <a:xfrm>
              <a:off x="4780080" y="1447920"/>
              <a:ext cx="3899880" cy="457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Group 6"/>
            <p:cNvGrpSpPr/>
            <p:nvPr/>
          </p:nvGrpSpPr>
          <p:grpSpPr>
            <a:xfrm>
              <a:off x="4780080" y="1946520"/>
              <a:ext cx="4058280" cy="3783960"/>
              <a:chOff x="4780080" y="1946520"/>
              <a:chExt cx="4058280" cy="3783960"/>
            </a:xfrm>
          </p:grpSpPr>
          <p:sp>
            <p:nvSpPr>
              <p:cNvPr id="351" name="Rectangle 7"/>
              <p:cNvSpPr/>
              <p:nvPr/>
            </p:nvSpPr>
            <p:spPr>
              <a:xfrm>
                <a:off x="5973480" y="1946520"/>
                <a:ext cx="1989360" cy="3241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>
                <a:off x="5973480" y="3193200"/>
                <a:ext cx="198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>
                <a:off x="7167240" y="3193200"/>
                <a:ext cx="0" cy="19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>
                <a:off x="7167240" y="4107960"/>
                <a:ext cx="79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692856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653076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7485840" y="352584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14"/>
              <p:cNvSpPr/>
              <p:nvPr/>
            </p:nvSpPr>
            <p:spPr>
              <a:xfrm>
                <a:off x="7485840" y="452340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15"/>
              <p:cNvSpPr/>
              <p:nvPr/>
            </p:nvSpPr>
            <p:spPr>
              <a:xfrm>
                <a:off x="5943960" y="3858480"/>
                <a:ext cx="792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H="1">
                <a:off x="7087320" y="352584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H="1">
                <a:off x="7087320" y="443988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>
                <a:off x="6689880" y="3110400"/>
                <a:ext cx="318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9"/>
              <p:cNvSpPr/>
              <p:nvPr/>
            </p:nvSpPr>
            <p:spPr>
              <a:xfrm>
                <a:off x="6490800" y="2611440"/>
                <a:ext cx="543600" cy="1412640"/>
              </a:xfrm>
              <a:custGeom>
                <a:avLst/>
                <a:gdLst/>
                <a:ahLst/>
                <a:rect l="l" t="t" r="r" b="b"/>
                <a:pathLst>
                  <a:path w="328" h="816">
                    <a:moveTo>
                      <a:pt x="72" y="816"/>
                    </a:moveTo>
                    <a:cubicBezTo>
                      <a:pt x="36" y="704"/>
                      <a:pt x="0" y="592"/>
                      <a:pt x="24" y="528"/>
                    </a:cubicBezTo>
                    <a:cubicBezTo>
                      <a:pt x="48" y="464"/>
                      <a:pt x="184" y="464"/>
                      <a:pt x="216" y="432"/>
                    </a:cubicBezTo>
                    <a:cubicBezTo>
                      <a:pt x="248" y="400"/>
                      <a:pt x="224" y="376"/>
                      <a:pt x="216" y="336"/>
                    </a:cubicBezTo>
                    <a:cubicBezTo>
                      <a:pt x="208" y="296"/>
                      <a:pt x="152" y="224"/>
                      <a:pt x="168" y="192"/>
                    </a:cubicBezTo>
                    <a:cubicBezTo>
                      <a:pt x="184" y="160"/>
                      <a:pt x="296" y="168"/>
                      <a:pt x="312" y="144"/>
                    </a:cubicBezTo>
                    <a:cubicBezTo>
                      <a:pt x="328" y="120"/>
                      <a:pt x="264" y="72"/>
                      <a:pt x="264" y="48"/>
                    </a:cubicBezTo>
                    <a:cubicBezTo>
                      <a:pt x="264" y="24"/>
                      <a:pt x="288" y="12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0"/>
              <p:cNvSpPr/>
              <p:nvPr/>
            </p:nvSpPr>
            <p:spPr>
              <a:xfrm>
                <a:off x="6689880" y="42739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0"/>
                    </a:moveTo>
                    <a:cubicBezTo>
                      <a:pt x="28" y="68"/>
                      <a:pt x="56" y="136"/>
                      <a:pt x="96" y="144"/>
                    </a:cubicBezTo>
                    <a:cubicBezTo>
                      <a:pt x="136" y="152"/>
                      <a:pt x="208" y="40"/>
                      <a:pt x="240" y="48"/>
                    </a:cubicBezTo>
                    <a:cubicBezTo>
                      <a:pt x="272" y="56"/>
                      <a:pt x="280" y="152"/>
                      <a:pt x="288" y="192"/>
                    </a:cubicBezTo>
                    <a:cubicBezTo>
                      <a:pt x="296" y="232"/>
                      <a:pt x="264" y="280"/>
                      <a:pt x="288" y="288"/>
                    </a:cubicBezTo>
                    <a:cubicBezTo>
                      <a:pt x="312" y="296"/>
                      <a:pt x="400" y="256"/>
                      <a:pt x="432" y="240"/>
                    </a:cubicBezTo>
                    <a:cubicBezTo>
                      <a:pt x="464" y="224"/>
                      <a:pt x="472" y="208"/>
                      <a:pt x="480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1"/>
              <p:cNvSpPr/>
              <p:nvPr/>
            </p:nvSpPr>
            <p:spPr>
              <a:xfrm>
                <a:off x="6689880" y="36781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296"/>
                    </a:moveTo>
                    <a:cubicBezTo>
                      <a:pt x="20" y="288"/>
                      <a:pt x="40" y="280"/>
                      <a:pt x="48" y="248"/>
                    </a:cubicBezTo>
                    <a:cubicBezTo>
                      <a:pt x="56" y="216"/>
                      <a:pt x="24" y="120"/>
                      <a:pt x="48" y="104"/>
                    </a:cubicBezTo>
                    <a:cubicBezTo>
                      <a:pt x="72" y="88"/>
                      <a:pt x="160" y="152"/>
                      <a:pt x="192" y="152"/>
                    </a:cubicBezTo>
                    <a:cubicBezTo>
                      <a:pt x="224" y="152"/>
                      <a:pt x="224" y="128"/>
                      <a:pt x="240" y="104"/>
                    </a:cubicBezTo>
                    <a:cubicBezTo>
                      <a:pt x="256" y="80"/>
                      <a:pt x="256" y="16"/>
                      <a:pt x="288" y="8"/>
                    </a:cubicBezTo>
                    <a:cubicBezTo>
                      <a:pt x="320" y="0"/>
                      <a:pt x="400" y="56"/>
                      <a:pt x="432" y="56"/>
                    </a:cubicBezTo>
                    <a:cubicBezTo>
                      <a:pt x="464" y="56"/>
                      <a:pt x="472" y="16"/>
                      <a:pt x="48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2"/>
              <p:cNvSpPr/>
              <p:nvPr/>
            </p:nvSpPr>
            <p:spPr>
              <a:xfrm>
                <a:off x="581472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3"/>
              <p:cNvSpPr/>
              <p:nvPr/>
            </p:nvSpPr>
            <p:spPr>
              <a:xfrm>
                <a:off x="796320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4"/>
              <p:cNvSpPr/>
              <p:nvPr/>
            </p:nvSpPr>
            <p:spPr>
              <a:xfrm>
                <a:off x="7087680" y="2431440"/>
                <a:ext cx="954720" cy="207720"/>
              </a:xfrm>
              <a:custGeom>
                <a:avLst/>
                <a:gdLst/>
                <a:ahLst/>
                <a:rect l="l" t="t" r="r" b="b"/>
                <a:pathLst>
                  <a:path w="576" h="120">
                    <a:moveTo>
                      <a:pt x="0" y="56"/>
                    </a:moveTo>
                    <a:cubicBezTo>
                      <a:pt x="8" y="80"/>
                      <a:pt x="16" y="104"/>
                      <a:pt x="48" y="104"/>
                    </a:cubicBezTo>
                    <a:cubicBezTo>
                      <a:pt x="80" y="104"/>
                      <a:pt x="160" y="72"/>
                      <a:pt x="192" y="56"/>
                    </a:cubicBezTo>
                    <a:cubicBezTo>
                      <a:pt x="224" y="40"/>
                      <a:pt x="208" y="0"/>
                      <a:pt x="240" y="8"/>
                    </a:cubicBezTo>
                    <a:cubicBezTo>
                      <a:pt x="272" y="16"/>
                      <a:pt x="352" y="88"/>
                      <a:pt x="384" y="104"/>
                    </a:cubicBezTo>
                    <a:cubicBezTo>
                      <a:pt x="416" y="120"/>
                      <a:pt x="400" y="112"/>
                      <a:pt x="432" y="104"/>
                    </a:cubicBezTo>
                    <a:cubicBezTo>
                      <a:pt x="464" y="96"/>
                      <a:pt x="520" y="76"/>
                      <a:pt x="576" y="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"/>
              <p:cNvSpPr/>
              <p:nvPr/>
            </p:nvSpPr>
            <p:spPr>
              <a:xfrm>
                <a:off x="5973480" y="4176720"/>
                <a:ext cx="556920" cy="96840"/>
              </a:xfrm>
              <a:custGeom>
                <a:avLst/>
                <a:gdLst/>
                <a:ahLst/>
                <a:rect l="l" t="t" r="r" b="b"/>
                <a:pathLst>
                  <a:path w="336" h="56">
                    <a:moveTo>
                      <a:pt x="336" y="8"/>
                    </a:moveTo>
                    <a:cubicBezTo>
                      <a:pt x="284" y="32"/>
                      <a:pt x="232" y="56"/>
                      <a:pt x="192" y="56"/>
                    </a:cubicBezTo>
                    <a:cubicBezTo>
                      <a:pt x="152" y="56"/>
                      <a:pt x="128" y="16"/>
                      <a:pt x="96" y="8"/>
                    </a:cubicBezTo>
                    <a:cubicBezTo>
                      <a:pt x="64" y="0"/>
                      <a:pt x="32" y="4"/>
                      <a:pt x="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6"/>
              <p:cNvSpPr/>
              <p:nvPr/>
            </p:nvSpPr>
            <p:spPr>
              <a:xfrm>
                <a:off x="5416560" y="369180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7"/>
              <p:cNvSpPr/>
              <p:nvPr/>
            </p:nvSpPr>
            <p:spPr>
              <a:xfrm>
                <a:off x="5496120" y="3525840"/>
                <a:ext cx="31824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>
                <a:off x="5416560" y="394128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3" name="Group 29"/>
              <p:cNvGrpSpPr/>
              <p:nvPr/>
            </p:nvGrpSpPr>
            <p:grpSpPr>
              <a:xfrm>
                <a:off x="7247520" y="2445120"/>
                <a:ext cx="400680" cy="250920"/>
                <a:chOff x="7247520" y="2445120"/>
                <a:chExt cx="400680" cy="250920"/>
              </a:xfrm>
            </p:grpSpPr>
            <p:sp>
              <p:nvSpPr>
                <p:cNvPr id="374" name="Oval 30"/>
                <p:cNvSpPr/>
                <p:nvPr/>
              </p:nvSpPr>
              <p:spPr>
                <a:xfrm flipH="1">
                  <a:off x="7409880" y="2446920"/>
                  <a:ext cx="238320" cy="24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1"/>
                <p:cNvSpPr/>
                <p:nvPr/>
              </p:nvSpPr>
              <p:spPr>
                <a:xfrm flipH="1">
                  <a:off x="7247160" y="2445120"/>
                  <a:ext cx="317880" cy="83160"/>
                </a:xfrm>
                <a:custGeom>
                  <a:avLst/>
                  <a:gdLst/>
                  <a:ahLst/>
                  <a:rect l="l" t="t" r="r" b="b"/>
                  <a:pathLst>
                    <a:path w="192" h="48">
                      <a:moveTo>
                        <a:pt x="0" y="0"/>
                      </a:moveTo>
                      <a:lnTo>
                        <a:pt x="192" y="0"/>
                      </a:lnTo>
                      <a:lnTo>
                        <a:pt x="192" y="48"/>
                      </a:lnTo>
                      <a:lnTo>
                        <a:pt x="96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Text Box 32"/>
              <p:cNvSpPr/>
              <p:nvPr/>
            </p:nvSpPr>
            <p:spPr>
              <a:xfrm>
                <a:off x="4780080" y="4357080"/>
                <a:ext cx="127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wind-induc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Text Box 33"/>
              <p:cNvSpPr/>
              <p:nvPr/>
            </p:nvSpPr>
            <p:spPr>
              <a:xfrm>
                <a:off x="6053400" y="2029680"/>
                <a:ext cx="127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fix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4"/>
              <p:cNvSpPr/>
              <p:nvPr/>
            </p:nvSpPr>
            <p:spPr>
              <a:xfrm>
                <a:off x="6689880" y="2278800"/>
                <a:ext cx="2386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5"/>
              <p:cNvSpPr/>
              <p:nvPr/>
            </p:nvSpPr>
            <p:spPr>
              <a:xfrm flipV="1">
                <a:off x="5814720" y="4356720"/>
                <a:ext cx="79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6"/>
              <p:cNvSpPr/>
              <p:nvPr/>
            </p:nvSpPr>
            <p:spPr>
              <a:xfrm>
                <a:off x="7247160" y="5271480"/>
                <a:ext cx="1591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unknown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37"/>
              <p:cNvSpPr/>
              <p:nvPr/>
            </p:nvSpPr>
            <p:spPr>
              <a:xfrm flipH="1" flipV="1">
                <a:off x="7564680" y="4772520"/>
                <a:ext cx="79560" cy="58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38113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, or boundary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may be fixed, wind-induced, 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4780080" y="1447920"/>
            <a:ext cx="4058280" cy="4571640"/>
            <a:chOff x="4780080" y="1447920"/>
            <a:chExt cx="4058280" cy="4571640"/>
          </a:xfrm>
        </p:grpSpPr>
        <p:sp>
          <p:nvSpPr>
            <p:cNvPr id="385" name="Rectangle 5"/>
            <p:cNvSpPr/>
            <p:nvPr/>
          </p:nvSpPr>
          <p:spPr>
            <a:xfrm>
              <a:off x="4780080" y="1447920"/>
              <a:ext cx="3899880" cy="457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6"/>
            <p:cNvGrpSpPr/>
            <p:nvPr/>
          </p:nvGrpSpPr>
          <p:grpSpPr>
            <a:xfrm>
              <a:off x="4780080" y="1946520"/>
              <a:ext cx="4058280" cy="3783960"/>
              <a:chOff x="4780080" y="1946520"/>
              <a:chExt cx="4058280" cy="3783960"/>
            </a:xfrm>
          </p:grpSpPr>
          <p:sp>
            <p:nvSpPr>
              <p:cNvPr id="387" name="Rectangle 7"/>
              <p:cNvSpPr/>
              <p:nvPr/>
            </p:nvSpPr>
            <p:spPr>
              <a:xfrm>
                <a:off x="5973480" y="1946520"/>
                <a:ext cx="1989360" cy="3241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8"/>
              <p:cNvSpPr/>
              <p:nvPr/>
            </p:nvSpPr>
            <p:spPr>
              <a:xfrm>
                <a:off x="5973480" y="3193200"/>
                <a:ext cx="198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"/>
              <p:cNvSpPr/>
              <p:nvPr/>
            </p:nvSpPr>
            <p:spPr>
              <a:xfrm>
                <a:off x="7167240" y="3193200"/>
                <a:ext cx="0" cy="19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"/>
              <p:cNvSpPr/>
              <p:nvPr/>
            </p:nvSpPr>
            <p:spPr>
              <a:xfrm>
                <a:off x="7167240" y="4107960"/>
                <a:ext cx="79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11"/>
              <p:cNvSpPr/>
              <p:nvPr/>
            </p:nvSpPr>
            <p:spPr>
              <a:xfrm>
                <a:off x="692856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12"/>
              <p:cNvSpPr/>
              <p:nvPr/>
            </p:nvSpPr>
            <p:spPr>
              <a:xfrm>
                <a:off x="653076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13"/>
              <p:cNvSpPr/>
              <p:nvPr/>
            </p:nvSpPr>
            <p:spPr>
              <a:xfrm>
                <a:off x="7485840" y="352584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14"/>
              <p:cNvSpPr/>
              <p:nvPr/>
            </p:nvSpPr>
            <p:spPr>
              <a:xfrm>
                <a:off x="7485840" y="452340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5"/>
              <p:cNvSpPr/>
              <p:nvPr/>
            </p:nvSpPr>
            <p:spPr>
              <a:xfrm>
                <a:off x="5943960" y="3858480"/>
                <a:ext cx="792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6"/>
              <p:cNvSpPr/>
              <p:nvPr/>
            </p:nvSpPr>
            <p:spPr>
              <a:xfrm flipH="1">
                <a:off x="7087320" y="352584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7"/>
              <p:cNvSpPr/>
              <p:nvPr/>
            </p:nvSpPr>
            <p:spPr>
              <a:xfrm flipH="1">
                <a:off x="7087320" y="443988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8"/>
              <p:cNvSpPr/>
              <p:nvPr/>
            </p:nvSpPr>
            <p:spPr>
              <a:xfrm>
                <a:off x="6689880" y="3110400"/>
                <a:ext cx="318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9"/>
              <p:cNvSpPr/>
              <p:nvPr/>
            </p:nvSpPr>
            <p:spPr>
              <a:xfrm>
                <a:off x="6490800" y="2611440"/>
                <a:ext cx="543600" cy="1412640"/>
              </a:xfrm>
              <a:custGeom>
                <a:avLst/>
                <a:gdLst/>
                <a:ahLst/>
                <a:rect l="l" t="t" r="r" b="b"/>
                <a:pathLst>
                  <a:path w="328" h="816">
                    <a:moveTo>
                      <a:pt x="72" y="816"/>
                    </a:moveTo>
                    <a:cubicBezTo>
                      <a:pt x="36" y="704"/>
                      <a:pt x="0" y="592"/>
                      <a:pt x="24" y="528"/>
                    </a:cubicBezTo>
                    <a:cubicBezTo>
                      <a:pt x="48" y="464"/>
                      <a:pt x="184" y="464"/>
                      <a:pt x="216" y="432"/>
                    </a:cubicBezTo>
                    <a:cubicBezTo>
                      <a:pt x="248" y="400"/>
                      <a:pt x="224" y="376"/>
                      <a:pt x="216" y="336"/>
                    </a:cubicBezTo>
                    <a:cubicBezTo>
                      <a:pt x="208" y="296"/>
                      <a:pt x="152" y="224"/>
                      <a:pt x="168" y="192"/>
                    </a:cubicBezTo>
                    <a:cubicBezTo>
                      <a:pt x="184" y="160"/>
                      <a:pt x="296" y="168"/>
                      <a:pt x="312" y="144"/>
                    </a:cubicBezTo>
                    <a:cubicBezTo>
                      <a:pt x="328" y="120"/>
                      <a:pt x="264" y="72"/>
                      <a:pt x="264" y="48"/>
                    </a:cubicBezTo>
                    <a:cubicBezTo>
                      <a:pt x="264" y="24"/>
                      <a:pt x="288" y="12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0"/>
              <p:cNvSpPr/>
              <p:nvPr/>
            </p:nvSpPr>
            <p:spPr>
              <a:xfrm>
                <a:off x="6689880" y="42739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0"/>
                    </a:moveTo>
                    <a:cubicBezTo>
                      <a:pt x="28" y="68"/>
                      <a:pt x="56" y="136"/>
                      <a:pt x="96" y="144"/>
                    </a:cubicBezTo>
                    <a:cubicBezTo>
                      <a:pt x="136" y="152"/>
                      <a:pt x="208" y="40"/>
                      <a:pt x="240" y="48"/>
                    </a:cubicBezTo>
                    <a:cubicBezTo>
                      <a:pt x="272" y="56"/>
                      <a:pt x="280" y="152"/>
                      <a:pt x="288" y="192"/>
                    </a:cubicBezTo>
                    <a:cubicBezTo>
                      <a:pt x="296" y="232"/>
                      <a:pt x="264" y="280"/>
                      <a:pt x="288" y="288"/>
                    </a:cubicBezTo>
                    <a:cubicBezTo>
                      <a:pt x="312" y="296"/>
                      <a:pt x="400" y="256"/>
                      <a:pt x="432" y="240"/>
                    </a:cubicBezTo>
                    <a:cubicBezTo>
                      <a:pt x="464" y="224"/>
                      <a:pt x="472" y="208"/>
                      <a:pt x="480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1"/>
              <p:cNvSpPr/>
              <p:nvPr/>
            </p:nvSpPr>
            <p:spPr>
              <a:xfrm>
                <a:off x="6689880" y="36781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296"/>
                    </a:moveTo>
                    <a:cubicBezTo>
                      <a:pt x="20" y="288"/>
                      <a:pt x="40" y="280"/>
                      <a:pt x="48" y="248"/>
                    </a:cubicBezTo>
                    <a:cubicBezTo>
                      <a:pt x="56" y="216"/>
                      <a:pt x="24" y="120"/>
                      <a:pt x="48" y="104"/>
                    </a:cubicBezTo>
                    <a:cubicBezTo>
                      <a:pt x="72" y="88"/>
                      <a:pt x="160" y="152"/>
                      <a:pt x="192" y="152"/>
                    </a:cubicBezTo>
                    <a:cubicBezTo>
                      <a:pt x="224" y="152"/>
                      <a:pt x="224" y="128"/>
                      <a:pt x="240" y="104"/>
                    </a:cubicBezTo>
                    <a:cubicBezTo>
                      <a:pt x="256" y="80"/>
                      <a:pt x="256" y="16"/>
                      <a:pt x="288" y="8"/>
                    </a:cubicBezTo>
                    <a:cubicBezTo>
                      <a:pt x="320" y="0"/>
                      <a:pt x="400" y="56"/>
                      <a:pt x="432" y="56"/>
                    </a:cubicBezTo>
                    <a:cubicBezTo>
                      <a:pt x="464" y="56"/>
                      <a:pt x="472" y="16"/>
                      <a:pt x="48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581472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796320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4"/>
              <p:cNvSpPr/>
              <p:nvPr/>
            </p:nvSpPr>
            <p:spPr>
              <a:xfrm>
                <a:off x="7087680" y="2431440"/>
                <a:ext cx="954720" cy="207720"/>
              </a:xfrm>
              <a:custGeom>
                <a:avLst/>
                <a:gdLst/>
                <a:ahLst/>
                <a:rect l="l" t="t" r="r" b="b"/>
                <a:pathLst>
                  <a:path w="576" h="120">
                    <a:moveTo>
                      <a:pt x="0" y="56"/>
                    </a:moveTo>
                    <a:cubicBezTo>
                      <a:pt x="8" y="80"/>
                      <a:pt x="16" y="104"/>
                      <a:pt x="48" y="104"/>
                    </a:cubicBezTo>
                    <a:cubicBezTo>
                      <a:pt x="80" y="104"/>
                      <a:pt x="160" y="72"/>
                      <a:pt x="192" y="56"/>
                    </a:cubicBezTo>
                    <a:cubicBezTo>
                      <a:pt x="224" y="40"/>
                      <a:pt x="208" y="0"/>
                      <a:pt x="240" y="8"/>
                    </a:cubicBezTo>
                    <a:cubicBezTo>
                      <a:pt x="272" y="16"/>
                      <a:pt x="352" y="88"/>
                      <a:pt x="384" y="104"/>
                    </a:cubicBezTo>
                    <a:cubicBezTo>
                      <a:pt x="416" y="120"/>
                      <a:pt x="400" y="112"/>
                      <a:pt x="432" y="104"/>
                    </a:cubicBezTo>
                    <a:cubicBezTo>
                      <a:pt x="464" y="96"/>
                      <a:pt x="520" y="76"/>
                      <a:pt x="576" y="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5"/>
              <p:cNvSpPr/>
              <p:nvPr/>
            </p:nvSpPr>
            <p:spPr>
              <a:xfrm>
                <a:off x="5973480" y="4176720"/>
                <a:ext cx="556920" cy="96840"/>
              </a:xfrm>
              <a:custGeom>
                <a:avLst/>
                <a:gdLst/>
                <a:ahLst/>
                <a:rect l="l" t="t" r="r" b="b"/>
                <a:pathLst>
                  <a:path w="336" h="56">
                    <a:moveTo>
                      <a:pt x="336" y="8"/>
                    </a:moveTo>
                    <a:cubicBezTo>
                      <a:pt x="284" y="32"/>
                      <a:pt x="232" y="56"/>
                      <a:pt x="192" y="56"/>
                    </a:cubicBezTo>
                    <a:cubicBezTo>
                      <a:pt x="152" y="56"/>
                      <a:pt x="128" y="16"/>
                      <a:pt x="96" y="8"/>
                    </a:cubicBezTo>
                    <a:cubicBezTo>
                      <a:pt x="64" y="0"/>
                      <a:pt x="32" y="4"/>
                      <a:pt x="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26"/>
              <p:cNvSpPr/>
              <p:nvPr/>
            </p:nvSpPr>
            <p:spPr>
              <a:xfrm>
                <a:off x="5416560" y="369180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27"/>
              <p:cNvSpPr/>
              <p:nvPr/>
            </p:nvSpPr>
            <p:spPr>
              <a:xfrm>
                <a:off x="5496120" y="3525840"/>
                <a:ext cx="31824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8"/>
              <p:cNvSpPr/>
              <p:nvPr/>
            </p:nvSpPr>
            <p:spPr>
              <a:xfrm>
                <a:off x="5416560" y="394128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9" name="Group 29"/>
              <p:cNvGrpSpPr/>
              <p:nvPr/>
            </p:nvGrpSpPr>
            <p:grpSpPr>
              <a:xfrm>
                <a:off x="7247520" y="2445120"/>
                <a:ext cx="400680" cy="250920"/>
                <a:chOff x="7247520" y="2445120"/>
                <a:chExt cx="400680" cy="250920"/>
              </a:xfrm>
            </p:grpSpPr>
            <p:sp>
              <p:nvSpPr>
                <p:cNvPr id="410" name="Oval 30"/>
                <p:cNvSpPr/>
                <p:nvPr/>
              </p:nvSpPr>
              <p:spPr>
                <a:xfrm flipH="1">
                  <a:off x="7409880" y="2446920"/>
                  <a:ext cx="238320" cy="24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31"/>
                <p:cNvSpPr/>
                <p:nvPr/>
              </p:nvSpPr>
              <p:spPr>
                <a:xfrm flipH="1">
                  <a:off x="7247160" y="2445120"/>
                  <a:ext cx="317880" cy="83160"/>
                </a:xfrm>
                <a:custGeom>
                  <a:avLst/>
                  <a:gdLst/>
                  <a:ahLst/>
                  <a:rect l="l" t="t" r="r" b="b"/>
                  <a:pathLst>
                    <a:path w="192" h="48">
                      <a:moveTo>
                        <a:pt x="0" y="0"/>
                      </a:moveTo>
                      <a:lnTo>
                        <a:pt x="192" y="0"/>
                      </a:lnTo>
                      <a:lnTo>
                        <a:pt x="192" y="48"/>
                      </a:lnTo>
                      <a:lnTo>
                        <a:pt x="96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Text Box 32"/>
              <p:cNvSpPr/>
              <p:nvPr/>
            </p:nvSpPr>
            <p:spPr>
              <a:xfrm>
                <a:off x="4780080" y="4357080"/>
                <a:ext cx="127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wind-induc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Text Box 33"/>
              <p:cNvSpPr/>
              <p:nvPr/>
            </p:nvSpPr>
            <p:spPr>
              <a:xfrm>
                <a:off x="6053400" y="2029680"/>
                <a:ext cx="127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fix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4"/>
              <p:cNvSpPr/>
              <p:nvPr/>
            </p:nvSpPr>
            <p:spPr>
              <a:xfrm>
                <a:off x="6689880" y="2278800"/>
                <a:ext cx="2386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35"/>
              <p:cNvSpPr/>
              <p:nvPr/>
            </p:nvSpPr>
            <p:spPr>
              <a:xfrm flipV="1">
                <a:off x="5814720" y="4356720"/>
                <a:ext cx="79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Text Box 36"/>
              <p:cNvSpPr/>
              <p:nvPr/>
            </p:nvSpPr>
            <p:spPr>
              <a:xfrm>
                <a:off x="7247160" y="5271480"/>
                <a:ext cx="1591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unknown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7"/>
              <p:cNvSpPr/>
              <p:nvPr/>
            </p:nvSpPr>
            <p:spPr>
              <a:xfrm flipH="1" flipV="1">
                <a:off x="7564680" y="4772520"/>
                <a:ext cx="79560" cy="58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 and connections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the flow characteristics of the nod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ws through connections are usually a non-linear function of the pressur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4"/>
          <p:cNvGrpSpPr/>
          <p:nvPr/>
        </p:nvGrpSpPr>
        <p:grpSpPr>
          <a:xfrm>
            <a:off x="2209680" y="3873600"/>
            <a:ext cx="4495680" cy="2679120"/>
            <a:chOff x="2209680" y="3873600"/>
            <a:chExt cx="4495680" cy="2679120"/>
          </a:xfrm>
        </p:grpSpPr>
        <p:sp>
          <p:nvSpPr>
            <p:cNvPr id="421" name="Rectangle 5"/>
            <p:cNvSpPr/>
            <p:nvPr/>
          </p:nvSpPr>
          <p:spPr>
            <a:xfrm>
              <a:off x="2209680" y="3873600"/>
              <a:ext cx="4495680" cy="26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6"/>
            <p:cNvSpPr/>
            <p:nvPr/>
          </p:nvSpPr>
          <p:spPr>
            <a:xfrm>
              <a:off x="3074040" y="5461560"/>
              <a:ext cx="259200" cy="25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7"/>
            <p:cNvSpPr/>
            <p:nvPr/>
          </p:nvSpPr>
          <p:spPr>
            <a:xfrm>
              <a:off x="5841000" y="5461560"/>
              <a:ext cx="259200" cy="25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8"/>
            <p:cNvSpPr/>
            <p:nvPr/>
          </p:nvSpPr>
          <p:spPr>
            <a:xfrm>
              <a:off x="3938760" y="5256360"/>
              <a:ext cx="1037520" cy="69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9"/>
            <p:cNvSpPr/>
            <p:nvPr/>
          </p:nvSpPr>
          <p:spPr>
            <a:xfrm>
              <a:off x="3333240" y="5601960"/>
              <a:ext cx="6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>
              <a:off x="4976280" y="5601960"/>
              <a:ext cx="10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Object 11"/>
                <p:cNvSpPr txBox="1"/>
                <p:nvPr/>
              </p:nvSpPr>
              <p:spPr>
                <a:xfrm>
                  <a:off x="3592800" y="4305600"/>
                  <a:ext cx="172944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Δ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Line 12"/>
            <p:cNvSpPr/>
            <p:nvPr/>
          </p:nvSpPr>
          <p:spPr>
            <a:xfrm>
              <a:off x="4111560" y="4824000"/>
              <a:ext cx="345960" cy="69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3"/>
            <p:cNvSpPr/>
            <p:nvPr/>
          </p:nvSpPr>
          <p:spPr>
            <a:xfrm>
              <a:off x="2641680" y="4824000"/>
              <a:ext cx="7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14"/>
            <p:cNvSpPr/>
            <p:nvPr/>
          </p:nvSpPr>
          <p:spPr>
            <a:xfrm>
              <a:off x="5235840" y="4824000"/>
              <a:ext cx="7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 and connections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connections may or may not be represented in the therm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 two zones may be connected by a door in the air flow model, but that door may be omitted in the build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ight of the connection inlet and outlet is required to compute stack eff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connections can use the sam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ssure difference across the connection may not equal the pressure difference between the two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380880" y="2971800"/>
            <a:ext cx="8381880" cy="3592080"/>
            <a:chOff x="380880" y="2971800"/>
            <a:chExt cx="8381880" cy="3592080"/>
          </a:xfrm>
        </p:grpSpPr>
        <p:sp>
          <p:nvSpPr>
            <p:cNvPr id="436" name="Rectangle 5"/>
            <p:cNvSpPr/>
            <p:nvPr/>
          </p:nvSpPr>
          <p:spPr>
            <a:xfrm>
              <a:off x="380880" y="2971800"/>
              <a:ext cx="8381880" cy="35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Group 6"/>
            <p:cNvGrpSpPr/>
            <p:nvPr/>
          </p:nvGrpSpPr>
          <p:grpSpPr>
            <a:xfrm>
              <a:off x="979560" y="3228120"/>
              <a:ext cx="7184160" cy="2993040"/>
              <a:chOff x="979560" y="3228120"/>
              <a:chExt cx="7184160" cy="2993040"/>
            </a:xfrm>
          </p:grpSpPr>
          <p:sp>
            <p:nvSpPr>
              <p:cNvPr id="438" name="Rectangle 7"/>
              <p:cNvSpPr/>
              <p:nvPr/>
            </p:nvSpPr>
            <p:spPr>
              <a:xfrm>
                <a:off x="2090880" y="3655440"/>
                <a:ext cx="2480400" cy="256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8"/>
              <p:cNvSpPr/>
              <p:nvPr/>
            </p:nvSpPr>
            <p:spPr>
              <a:xfrm>
                <a:off x="4571640" y="3655440"/>
                <a:ext cx="1796040" cy="153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9"/>
              <p:cNvSpPr/>
              <p:nvPr/>
            </p:nvSpPr>
            <p:spPr>
              <a:xfrm>
                <a:off x="4571640" y="5194800"/>
                <a:ext cx="1796040" cy="1026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10"/>
              <p:cNvSpPr/>
              <p:nvPr/>
            </p:nvSpPr>
            <p:spPr>
              <a:xfrm>
                <a:off x="5426640" y="433980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11"/>
              <p:cNvSpPr/>
              <p:nvPr/>
            </p:nvSpPr>
            <p:spPr>
              <a:xfrm>
                <a:off x="3117240" y="485316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12"/>
              <p:cNvSpPr/>
              <p:nvPr/>
            </p:nvSpPr>
            <p:spPr>
              <a:xfrm rot="20433000">
                <a:off x="4314600" y="3997440"/>
                <a:ext cx="513000" cy="25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13"/>
              <p:cNvSpPr/>
              <p:nvPr/>
            </p:nvSpPr>
            <p:spPr>
              <a:xfrm>
                <a:off x="4774320" y="398736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14"/>
              <p:cNvSpPr/>
              <p:nvPr/>
            </p:nvSpPr>
            <p:spPr>
              <a:xfrm>
                <a:off x="4293720" y="4158000"/>
                <a:ext cx="84960" cy="85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Text Box 15"/>
              <p:cNvSpPr/>
              <p:nvPr/>
            </p:nvSpPr>
            <p:spPr>
              <a:xfrm>
                <a:off x="5426640" y="408348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Text Box 16"/>
              <p:cNvSpPr/>
              <p:nvPr/>
            </p:nvSpPr>
            <p:spPr>
              <a:xfrm>
                <a:off x="3117240" y="459648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Text Box 17"/>
              <p:cNvSpPr/>
              <p:nvPr/>
            </p:nvSpPr>
            <p:spPr>
              <a:xfrm>
                <a:off x="3887280" y="399780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Text Box 18"/>
              <p:cNvSpPr/>
              <p:nvPr/>
            </p:nvSpPr>
            <p:spPr>
              <a:xfrm>
                <a:off x="4913640" y="365544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9"/>
              <p:cNvSpPr/>
              <p:nvPr/>
            </p:nvSpPr>
            <p:spPr>
              <a:xfrm>
                <a:off x="5747400" y="3997800"/>
                <a:ext cx="207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20"/>
              <p:cNvSpPr/>
              <p:nvPr/>
            </p:nvSpPr>
            <p:spPr>
              <a:xfrm>
                <a:off x="5736960" y="4425120"/>
                <a:ext cx="111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21"/>
              <p:cNvSpPr/>
              <p:nvPr/>
            </p:nvSpPr>
            <p:spPr>
              <a:xfrm>
                <a:off x="1920240" y="4906440"/>
                <a:ext cx="111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Line 22"/>
              <p:cNvSpPr/>
              <p:nvPr/>
            </p:nvSpPr>
            <p:spPr>
              <a:xfrm>
                <a:off x="1150200" y="4168440"/>
                <a:ext cx="18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23"/>
              <p:cNvSpPr/>
              <p:nvPr/>
            </p:nvSpPr>
            <p:spPr>
              <a:xfrm>
                <a:off x="979560" y="6221160"/>
                <a:ext cx="709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24"/>
              <p:cNvSpPr/>
              <p:nvPr/>
            </p:nvSpPr>
            <p:spPr>
              <a:xfrm flipV="1">
                <a:off x="1235880" y="4168080"/>
                <a:ext cx="0" cy="20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25"/>
              <p:cNvSpPr/>
              <p:nvPr/>
            </p:nvSpPr>
            <p:spPr>
              <a:xfrm flipV="1">
                <a:off x="2005560" y="4938120"/>
                <a:ext cx="0" cy="12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26"/>
              <p:cNvSpPr/>
              <p:nvPr/>
            </p:nvSpPr>
            <p:spPr>
              <a:xfrm flipV="1">
                <a:off x="6624360" y="4424760"/>
                <a:ext cx="0" cy="179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27"/>
              <p:cNvSpPr/>
              <p:nvPr/>
            </p:nvSpPr>
            <p:spPr>
              <a:xfrm flipV="1">
                <a:off x="7308360" y="3997800"/>
                <a:ext cx="0" cy="22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Text Box 28"/>
              <p:cNvSpPr/>
              <p:nvPr/>
            </p:nvSpPr>
            <p:spPr>
              <a:xfrm>
                <a:off x="7650720" y="459648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Text Box 29"/>
              <p:cNvSpPr/>
              <p:nvPr/>
            </p:nvSpPr>
            <p:spPr>
              <a:xfrm>
                <a:off x="6709680" y="502416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Text Box 30"/>
              <p:cNvSpPr/>
              <p:nvPr/>
            </p:nvSpPr>
            <p:spPr>
              <a:xfrm>
                <a:off x="2176560" y="536616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Text Box 31"/>
              <p:cNvSpPr/>
              <p:nvPr/>
            </p:nvSpPr>
            <p:spPr>
              <a:xfrm>
                <a:off x="1321200" y="451080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32"/>
              <p:cNvSpPr/>
              <p:nvPr/>
            </p:nvSpPr>
            <p:spPr>
              <a:xfrm>
                <a:off x="3716280" y="3228120"/>
                <a:ext cx="171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nnectio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33"/>
              <p:cNvSpPr/>
              <p:nvPr/>
            </p:nvSpPr>
            <p:spPr>
              <a:xfrm>
                <a:off x="4058280" y="3570120"/>
                <a:ext cx="341640" cy="42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ows are a function of nodal pressures and the compone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ass for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the internal nodes are directly or indirectly linked to at least one boundar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and mass flow computed for each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eration may b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efining airflow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3352680" y="2282760"/>
            <a:ext cx="6096240" cy="442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Unventilated perform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inter-zone air flow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modelling methodologies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does ESP-r us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inter-zone airflow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impose contro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mposing contro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anipulate network characteristics in response to climate and build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838080" y="2523960"/>
            <a:ext cx="7543080" cy="3897000"/>
            <a:chOff x="838080" y="2523960"/>
            <a:chExt cx="7543080" cy="3897000"/>
          </a:xfrm>
        </p:grpSpPr>
        <p:sp>
          <p:nvSpPr>
            <p:cNvPr id="475" name="Rectangle 5"/>
            <p:cNvSpPr/>
            <p:nvPr/>
          </p:nvSpPr>
          <p:spPr>
            <a:xfrm>
              <a:off x="838080" y="2523960"/>
              <a:ext cx="7166160" cy="38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2094840" y="3152880"/>
              <a:ext cx="3143160" cy="251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7"/>
            <p:cNvSpPr/>
            <p:nvPr/>
          </p:nvSpPr>
          <p:spPr>
            <a:xfrm rot="18712200">
              <a:off x="5489280" y="3277800"/>
              <a:ext cx="250920" cy="1256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5112360" y="3529800"/>
              <a:ext cx="251640" cy="1256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9"/>
            <p:cNvSpPr/>
            <p:nvPr/>
          </p:nvSpPr>
          <p:spPr>
            <a:xfrm>
              <a:off x="3478320" y="4158000"/>
              <a:ext cx="250920" cy="25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0"/>
            <p:cNvSpPr/>
            <p:nvPr/>
          </p:nvSpPr>
          <p:spPr>
            <a:xfrm>
              <a:off x="6620760" y="4158000"/>
              <a:ext cx="251640" cy="25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1"/>
            <p:cNvSpPr/>
            <p:nvPr/>
          </p:nvSpPr>
          <p:spPr>
            <a:xfrm>
              <a:off x="3729240" y="4032360"/>
              <a:ext cx="3017160" cy="670320"/>
            </a:xfrm>
            <a:custGeom>
              <a:avLst/>
              <a:gdLst/>
              <a:ahLst/>
              <a:rect l="l" t="t" r="r" b="b"/>
              <a:pathLst>
                <a:path w="1152" h="256">
                  <a:moveTo>
                    <a:pt x="0" y="112"/>
                  </a:moveTo>
                  <a:cubicBezTo>
                    <a:pt x="0" y="120"/>
                    <a:pt x="0" y="128"/>
                    <a:pt x="48" y="112"/>
                  </a:cubicBezTo>
                  <a:cubicBezTo>
                    <a:pt x="96" y="96"/>
                    <a:pt x="200" y="0"/>
                    <a:pt x="288" y="16"/>
                  </a:cubicBezTo>
                  <a:cubicBezTo>
                    <a:pt x="376" y="32"/>
                    <a:pt x="520" y="192"/>
                    <a:pt x="576" y="208"/>
                  </a:cubicBezTo>
                  <a:cubicBezTo>
                    <a:pt x="632" y="224"/>
                    <a:pt x="608" y="128"/>
                    <a:pt x="624" y="112"/>
                  </a:cubicBezTo>
                  <a:cubicBezTo>
                    <a:pt x="640" y="96"/>
                    <a:pt x="632" y="88"/>
                    <a:pt x="672" y="112"/>
                  </a:cubicBezTo>
                  <a:cubicBezTo>
                    <a:pt x="712" y="136"/>
                    <a:pt x="784" y="256"/>
                    <a:pt x="864" y="256"/>
                  </a:cubicBezTo>
                  <a:cubicBezTo>
                    <a:pt x="944" y="256"/>
                    <a:pt x="1048" y="184"/>
                    <a:pt x="1152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Group 12"/>
            <p:cNvGrpSpPr/>
            <p:nvPr/>
          </p:nvGrpSpPr>
          <p:grpSpPr>
            <a:xfrm>
              <a:off x="6118560" y="2775600"/>
              <a:ext cx="754200" cy="628200"/>
              <a:chOff x="6118560" y="2775600"/>
              <a:chExt cx="754200" cy="628200"/>
            </a:xfrm>
          </p:grpSpPr>
          <p:sp>
            <p:nvSpPr>
              <p:cNvPr id="483" name="Rectangle 13"/>
              <p:cNvSpPr/>
              <p:nvPr/>
            </p:nvSpPr>
            <p:spPr>
              <a:xfrm>
                <a:off x="6118560" y="2775600"/>
                <a:ext cx="754200" cy="62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4"/>
              <p:cNvSpPr/>
              <p:nvPr/>
            </p:nvSpPr>
            <p:spPr>
              <a:xfrm flipH="1" flipV="1">
                <a:off x="6306480" y="3003840"/>
                <a:ext cx="188280" cy="28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5"/>
              <p:cNvSpPr/>
              <p:nvPr/>
            </p:nvSpPr>
            <p:spPr>
              <a:xfrm>
                <a:off x="6495480" y="283248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6"/>
              <p:cNvSpPr/>
              <p:nvPr/>
            </p:nvSpPr>
            <p:spPr>
              <a:xfrm flipH="1">
                <a:off x="6684120" y="2889720"/>
                <a:ext cx="626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7"/>
              <p:cNvSpPr/>
              <p:nvPr/>
            </p:nvSpPr>
            <p:spPr>
              <a:xfrm>
                <a:off x="6244200" y="2889720"/>
                <a:ext cx="626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Text Box 18"/>
            <p:cNvSpPr/>
            <p:nvPr/>
          </p:nvSpPr>
          <p:spPr>
            <a:xfrm>
              <a:off x="6872760" y="3781080"/>
              <a:ext cx="62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Freeform 19"/>
            <p:cNvSpPr/>
            <p:nvPr/>
          </p:nvSpPr>
          <p:spPr>
            <a:xfrm>
              <a:off x="5238000" y="3026880"/>
              <a:ext cx="880200" cy="6282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lnTo>
                    <a:pt x="240" y="0"/>
                  </a:lnTo>
                  <a:lnTo>
                    <a:pt x="240" y="240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20"/>
            <p:cNvSpPr/>
            <p:nvPr/>
          </p:nvSpPr>
          <p:spPr>
            <a:xfrm>
              <a:off x="6872760" y="3026880"/>
              <a:ext cx="250920" cy="87984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96" y="336"/>
                  </a:moveTo>
                  <a:lnTo>
                    <a:pt x="9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21"/>
            <p:cNvSpPr/>
            <p:nvPr/>
          </p:nvSpPr>
          <p:spPr>
            <a:xfrm>
              <a:off x="3855240" y="2649600"/>
              <a:ext cx="35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ctuator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22"/>
            <p:cNvSpPr/>
            <p:nvPr/>
          </p:nvSpPr>
          <p:spPr>
            <a:xfrm>
              <a:off x="6872760" y="4032360"/>
              <a:ext cx="150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4986720" y="3026880"/>
              <a:ext cx="25092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twork contr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/off and proportional laws control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nections using a given component can be actuat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ffect of ventil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modell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-zone ai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an air-flow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ning simulations and analyzing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sing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42"/>
          <p:cNvSpPr/>
          <p:nvPr/>
        </p:nvSpPr>
        <p:spPr>
          <a:xfrm>
            <a:off x="152280" y="3048120"/>
            <a:ext cx="3429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thermal and flow model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21"/>
          <p:cNvGrpSpPr/>
          <p:nvPr/>
        </p:nvGrpSpPr>
        <p:grpSpPr>
          <a:xfrm>
            <a:off x="3962520" y="914400"/>
            <a:ext cx="5028840" cy="5714640"/>
            <a:chOff x="3962520" y="914400"/>
            <a:chExt cx="5028840" cy="5714640"/>
          </a:xfrm>
        </p:grpSpPr>
        <p:sp>
          <p:nvSpPr>
            <p:cNvPr id="100" name="Rectangle 222"/>
            <p:cNvSpPr/>
            <p:nvPr/>
          </p:nvSpPr>
          <p:spPr>
            <a:xfrm>
              <a:off x="3962520" y="914400"/>
              <a:ext cx="502884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Group 223"/>
            <p:cNvGrpSpPr/>
            <p:nvPr/>
          </p:nvGrpSpPr>
          <p:grpSpPr>
            <a:xfrm>
              <a:off x="4060440" y="1315440"/>
              <a:ext cx="4930560" cy="5015160"/>
              <a:chOff x="4060440" y="1315440"/>
              <a:chExt cx="4930560" cy="5015160"/>
            </a:xfrm>
          </p:grpSpPr>
          <p:sp>
            <p:nvSpPr>
              <p:cNvPr id="102" name="Line 224"/>
              <p:cNvSpPr/>
              <p:nvPr/>
            </p:nvSpPr>
            <p:spPr>
              <a:xfrm>
                <a:off x="6171480" y="1900080"/>
                <a:ext cx="720" cy="5832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225"/>
              <p:cNvSpPr/>
              <p:nvPr/>
            </p:nvSpPr>
            <p:spPr>
              <a:xfrm>
                <a:off x="6171480" y="2176560"/>
                <a:ext cx="720" cy="608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226"/>
              <p:cNvGrpSpPr/>
              <p:nvPr/>
            </p:nvGrpSpPr>
            <p:grpSpPr>
              <a:xfrm>
                <a:off x="6119280" y="1385640"/>
                <a:ext cx="180720" cy="513000"/>
                <a:chOff x="6119280" y="1385640"/>
                <a:chExt cx="180720" cy="513000"/>
              </a:xfrm>
            </p:grpSpPr>
            <p:grpSp>
              <p:nvGrpSpPr>
                <p:cNvPr id="105" name="Group 227"/>
                <p:cNvGrpSpPr/>
                <p:nvPr/>
              </p:nvGrpSpPr>
              <p:grpSpPr>
                <a:xfrm>
                  <a:off x="6119280" y="1385640"/>
                  <a:ext cx="180720" cy="282240"/>
                  <a:chOff x="6119280" y="1385640"/>
                  <a:chExt cx="180720" cy="282240"/>
                </a:xfrm>
              </p:grpSpPr>
              <p:sp>
                <p:nvSpPr>
                  <p:cNvPr id="106" name="Rectangle 228"/>
                  <p:cNvSpPr/>
                  <p:nvPr/>
                </p:nvSpPr>
                <p:spPr>
                  <a:xfrm>
                    <a:off x="6119280" y="1385640"/>
                    <a:ext cx="180720" cy="282240"/>
                  </a:xfrm>
                  <a:prstGeom prst="rect">
                    <a:avLst/>
                  </a:prstGeom>
                  <a:noFill/>
                  <a:ln w="9360">
                    <a:solidFill>
                      <a:srgbClr val="66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" name="Group 229"/>
                  <p:cNvGrpSpPr/>
                  <p:nvPr/>
                </p:nvGrpSpPr>
                <p:grpSpPr>
                  <a:xfrm>
                    <a:off x="6147360" y="1471320"/>
                    <a:ext cx="126000" cy="118440"/>
                    <a:chOff x="6147360" y="1471320"/>
                    <a:chExt cx="126000" cy="118440"/>
                  </a:xfrm>
                </p:grpSpPr>
                <p:sp>
                  <p:nvSpPr>
                    <p:cNvPr id="108" name="Oval 230"/>
                    <p:cNvSpPr/>
                    <p:nvPr/>
                  </p:nvSpPr>
                  <p:spPr>
                    <a:xfrm>
                      <a:off x="6147360" y="1471320"/>
                      <a:ext cx="126000" cy="1170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Line 231"/>
                    <p:cNvSpPr/>
                    <p:nvPr/>
                  </p:nvSpPr>
                  <p:spPr>
                    <a:xfrm>
                      <a:off x="6209640" y="1478160"/>
                      <a:ext cx="360" cy="111600"/>
                    </a:xfrm>
                    <a:prstGeom prst="line">
                      <a:avLst/>
                    </a:prstGeom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232"/>
                    <p:cNvSpPr/>
                    <p:nvPr/>
                  </p:nvSpPr>
                  <p:spPr>
                    <a:xfrm>
                      <a:off x="6147360" y="1529280"/>
                      <a:ext cx="126000" cy="4320"/>
                    </a:xfrm>
                    <a:prstGeom prst="line">
                      <a:avLst/>
                    </a:prstGeom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1" name="Group 233"/>
                <p:cNvGrpSpPr/>
                <p:nvPr/>
              </p:nvGrpSpPr>
              <p:grpSpPr>
                <a:xfrm>
                  <a:off x="6135120" y="1729080"/>
                  <a:ext cx="90720" cy="86760"/>
                  <a:chOff x="6135120" y="1729080"/>
                  <a:chExt cx="90720" cy="86760"/>
                </a:xfrm>
              </p:grpSpPr>
              <p:sp>
                <p:nvSpPr>
                  <p:cNvPr id="112" name="Freeform 234"/>
                  <p:cNvSpPr/>
                  <p:nvPr/>
                </p:nvSpPr>
                <p:spPr>
                  <a:xfrm>
                    <a:off x="6135120" y="1729080"/>
                    <a:ext cx="67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9810" y="0"/>
                        </a:lnTo>
                        <a:lnTo>
                          <a:pt x="0" y="19873"/>
                        </a:lnTo>
                        <a:lnTo>
                          <a:pt x="19810" y="1987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5"/>
                  <p:cNvSpPr/>
                  <p:nvPr/>
                </p:nvSpPr>
                <p:spPr>
                  <a:xfrm>
                    <a:off x="6178320" y="1749960"/>
                    <a:ext cx="475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730" y="0"/>
                        </a:moveTo>
                        <a:lnTo>
                          <a:pt x="19730" y="19740"/>
                        </a:lnTo>
                        <a:lnTo>
                          <a:pt x="0" y="9610"/>
                        </a:lnTo>
                        <a:lnTo>
                          <a:pt x="1973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" name="Line 236"/>
                <p:cNvSpPr/>
                <p:nvPr/>
              </p:nvSpPr>
              <p:spPr>
                <a:xfrm>
                  <a:off x="6167520" y="1666800"/>
                  <a:ext cx="360" cy="590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37"/>
                <p:cNvSpPr/>
                <p:nvPr/>
              </p:nvSpPr>
              <p:spPr>
                <a:xfrm>
                  <a:off x="6249960" y="1666800"/>
                  <a:ext cx="360" cy="2318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38"/>
                <p:cNvSpPr/>
                <p:nvPr/>
              </p:nvSpPr>
              <p:spPr>
                <a:xfrm>
                  <a:off x="6170760" y="1814040"/>
                  <a:ext cx="360" cy="8352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39"/>
                <p:cNvSpPr/>
                <p:nvPr/>
              </p:nvSpPr>
              <p:spPr>
                <a:xfrm>
                  <a:off x="6226200" y="1769760"/>
                  <a:ext cx="23760" cy="36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240"/>
              <p:cNvGrpSpPr/>
              <p:nvPr/>
            </p:nvGrpSpPr>
            <p:grpSpPr>
              <a:xfrm>
                <a:off x="6644520" y="1433880"/>
                <a:ext cx="344880" cy="179280"/>
                <a:chOff x="6644520" y="1433880"/>
                <a:chExt cx="344880" cy="179280"/>
              </a:xfrm>
            </p:grpSpPr>
            <p:sp>
              <p:nvSpPr>
                <p:cNvPr id="119" name="Oval 241"/>
                <p:cNvSpPr/>
                <p:nvPr/>
              </p:nvSpPr>
              <p:spPr>
                <a:xfrm>
                  <a:off x="6644520" y="1433880"/>
                  <a:ext cx="202680" cy="1792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42"/>
                <p:cNvSpPr/>
                <p:nvPr/>
              </p:nvSpPr>
              <p:spPr>
                <a:xfrm>
                  <a:off x="6744240" y="1433880"/>
                  <a:ext cx="245160" cy="63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262" y="0"/>
                      </a:moveTo>
                      <a:lnTo>
                        <a:pt x="0" y="0"/>
                      </a:lnTo>
                      <a:lnTo>
                        <a:pt x="19948" y="0"/>
                      </a:lnTo>
                      <a:lnTo>
                        <a:pt x="19948" y="19828"/>
                      </a:lnTo>
                      <a:lnTo>
                        <a:pt x="7822" y="19828"/>
                      </a:lnTo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Oval 243"/>
                <p:cNvSpPr/>
                <p:nvPr/>
              </p:nvSpPr>
              <p:spPr>
                <a:xfrm>
                  <a:off x="6702480" y="1478160"/>
                  <a:ext cx="96480" cy="856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244"/>
              <p:cNvGrpSpPr/>
              <p:nvPr/>
            </p:nvGrpSpPr>
            <p:grpSpPr>
              <a:xfrm>
                <a:off x="5488560" y="1449360"/>
                <a:ext cx="545760" cy="171720"/>
                <a:chOff x="5488560" y="1449360"/>
                <a:chExt cx="545760" cy="171720"/>
              </a:xfrm>
            </p:grpSpPr>
            <p:sp>
              <p:nvSpPr>
                <p:cNvPr id="123" name="Rectangle 245"/>
                <p:cNvSpPr/>
                <p:nvPr/>
              </p:nvSpPr>
              <p:spPr>
                <a:xfrm>
                  <a:off x="5555520" y="1449360"/>
                  <a:ext cx="398520" cy="171720"/>
                </a:xfrm>
                <a:prstGeom prst="rect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46"/>
                <p:cNvSpPr/>
                <p:nvPr/>
              </p:nvSpPr>
              <p:spPr>
                <a:xfrm>
                  <a:off x="5488560" y="1471680"/>
                  <a:ext cx="545760" cy="46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765"/>
                      </a:moveTo>
                      <a:lnTo>
                        <a:pt x="4009" y="19765"/>
                      </a:lnTo>
                      <a:lnTo>
                        <a:pt x="6014" y="0"/>
                      </a:lnTo>
                      <a:lnTo>
                        <a:pt x="7972" y="19765"/>
                      </a:lnTo>
                      <a:lnTo>
                        <a:pt x="9976" y="0"/>
                      </a:lnTo>
                      <a:lnTo>
                        <a:pt x="12005" y="19765"/>
                      </a:lnTo>
                      <a:lnTo>
                        <a:pt x="13986" y="0"/>
                      </a:lnTo>
                      <a:lnTo>
                        <a:pt x="15991" y="19765"/>
                      </a:lnTo>
                      <a:lnTo>
                        <a:pt x="19976" y="19765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47"/>
                <p:cNvSpPr/>
                <p:nvPr/>
              </p:nvSpPr>
              <p:spPr>
                <a:xfrm>
                  <a:off x="5488560" y="1544760"/>
                  <a:ext cx="545760" cy="46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765"/>
                      </a:moveTo>
                      <a:lnTo>
                        <a:pt x="4009" y="19765"/>
                      </a:lnTo>
                      <a:lnTo>
                        <a:pt x="6014" y="0"/>
                      </a:lnTo>
                      <a:lnTo>
                        <a:pt x="7972" y="19765"/>
                      </a:lnTo>
                      <a:lnTo>
                        <a:pt x="9976" y="0"/>
                      </a:lnTo>
                      <a:lnTo>
                        <a:pt x="12005" y="19765"/>
                      </a:lnTo>
                      <a:lnTo>
                        <a:pt x="13986" y="0"/>
                      </a:lnTo>
                      <a:lnTo>
                        <a:pt x="15991" y="19765"/>
                      </a:lnTo>
                      <a:lnTo>
                        <a:pt x="19976" y="19765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248"/>
              <p:cNvGrpSpPr/>
              <p:nvPr/>
            </p:nvGrpSpPr>
            <p:grpSpPr>
              <a:xfrm>
                <a:off x="6300000" y="2164320"/>
                <a:ext cx="345600" cy="179280"/>
                <a:chOff x="6300000" y="2164320"/>
                <a:chExt cx="345600" cy="179280"/>
              </a:xfrm>
            </p:grpSpPr>
            <p:sp>
              <p:nvSpPr>
                <p:cNvPr id="127" name="Oval 249"/>
                <p:cNvSpPr/>
                <p:nvPr/>
              </p:nvSpPr>
              <p:spPr>
                <a:xfrm>
                  <a:off x="6442920" y="2164320"/>
                  <a:ext cx="202680" cy="1792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50"/>
                <p:cNvSpPr/>
                <p:nvPr/>
              </p:nvSpPr>
              <p:spPr>
                <a:xfrm>
                  <a:off x="6300000" y="2164320"/>
                  <a:ext cx="245160" cy="63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685" y="0"/>
                      </a:moveTo>
                      <a:lnTo>
                        <a:pt x="19948" y="0"/>
                      </a:lnTo>
                      <a:lnTo>
                        <a:pt x="0" y="0"/>
                      </a:lnTo>
                      <a:lnTo>
                        <a:pt x="0" y="19828"/>
                      </a:lnTo>
                      <a:lnTo>
                        <a:pt x="12126" y="19828"/>
                      </a:lnTo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Oval 251"/>
                <p:cNvSpPr/>
                <p:nvPr/>
              </p:nvSpPr>
              <p:spPr>
                <a:xfrm>
                  <a:off x="6491880" y="2208600"/>
                  <a:ext cx="96480" cy="856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252"/>
              <p:cNvSpPr/>
              <p:nvPr/>
            </p:nvSpPr>
            <p:spPr>
              <a:xfrm>
                <a:off x="5474160" y="1321920"/>
                <a:ext cx="1574640" cy="58968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53"/>
              <p:cNvSpPr/>
              <p:nvPr/>
            </p:nvSpPr>
            <p:spPr>
              <a:xfrm>
                <a:off x="6541920" y="1958040"/>
                <a:ext cx="920880" cy="298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3"/>
                    </a:moveTo>
                    <a:lnTo>
                      <a:pt x="12704" y="19963"/>
                    </a:lnTo>
                    <a:lnTo>
                      <a:pt x="12704" y="0"/>
                    </a:lnTo>
                    <a:lnTo>
                      <a:pt x="19986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54"/>
              <p:cNvSpPr/>
              <p:nvPr/>
            </p:nvSpPr>
            <p:spPr>
              <a:xfrm>
                <a:off x="7126560" y="2252160"/>
                <a:ext cx="327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1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55"/>
              <p:cNvSpPr/>
              <p:nvPr/>
            </p:nvSpPr>
            <p:spPr>
              <a:xfrm>
                <a:off x="6541920" y="2254680"/>
                <a:ext cx="920880" cy="210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2704" y="0"/>
                    </a:lnTo>
                    <a:lnTo>
                      <a:pt x="12704" y="19948"/>
                    </a:lnTo>
                    <a:lnTo>
                      <a:pt x="19986" y="1994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56"/>
              <p:cNvSpPr/>
              <p:nvPr/>
            </p:nvSpPr>
            <p:spPr>
              <a:xfrm>
                <a:off x="6989400" y="1320840"/>
                <a:ext cx="499320" cy="14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24"/>
                    </a:moveTo>
                    <a:lnTo>
                      <a:pt x="12706" y="19924"/>
                    </a:lnTo>
                    <a:lnTo>
                      <a:pt x="12706" y="0"/>
                    </a:lnTo>
                    <a:lnTo>
                      <a:pt x="19974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57"/>
              <p:cNvSpPr/>
              <p:nvPr/>
            </p:nvSpPr>
            <p:spPr>
              <a:xfrm>
                <a:off x="6989400" y="1465560"/>
                <a:ext cx="499320" cy="210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2706" y="0"/>
                    </a:lnTo>
                    <a:lnTo>
                      <a:pt x="12706" y="19948"/>
                    </a:lnTo>
                    <a:lnTo>
                      <a:pt x="19974" y="1994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258"/>
              <p:cNvSpPr/>
              <p:nvPr/>
            </p:nvSpPr>
            <p:spPr>
              <a:xfrm>
                <a:off x="7306560" y="1463760"/>
                <a:ext cx="18972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259"/>
              <p:cNvSpPr/>
              <p:nvPr/>
            </p:nvSpPr>
            <p:spPr>
              <a:xfrm flipH="1">
                <a:off x="4880880" y="1517400"/>
                <a:ext cx="6112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260"/>
              <p:cNvSpPr/>
              <p:nvPr/>
            </p:nvSpPr>
            <p:spPr>
              <a:xfrm flipH="1">
                <a:off x="4880880" y="1590480"/>
                <a:ext cx="6112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261"/>
              <p:cNvSpPr/>
              <p:nvPr/>
            </p:nvSpPr>
            <p:spPr>
              <a:xfrm>
                <a:off x="5999400" y="1521360"/>
                <a:ext cx="12096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62"/>
              <p:cNvSpPr/>
              <p:nvPr/>
            </p:nvSpPr>
            <p:spPr>
              <a:xfrm>
                <a:off x="6300000" y="1515960"/>
                <a:ext cx="447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63"/>
              <p:cNvSpPr/>
              <p:nvPr/>
            </p:nvSpPr>
            <p:spPr>
              <a:xfrm>
                <a:off x="567252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264"/>
              <p:cNvSpPr/>
              <p:nvPr/>
            </p:nvSpPr>
            <p:spPr>
              <a:xfrm>
                <a:off x="607680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265"/>
              <p:cNvSpPr/>
              <p:nvPr/>
            </p:nvSpPr>
            <p:spPr>
              <a:xfrm>
                <a:off x="648108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266"/>
              <p:cNvSpPr/>
              <p:nvPr/>
            </p:nvSpPr>
            <p:spPr>
              <a:xfrm>
                <a:off x="4924080" y="3015720"/>
                <a:ext cx="499320" cy="35856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267"/>
              <p:cNvSpPr/>
              <p:nvPr/>
            </p:nvSpPr>
            <p:spPr>
              <a:xfrm>
                <a:off x="4605480" y="3134880"/>
                <a:ext cx="163440" cy="149760"/>
              </a:xfrm>
              <a:prstGeom prst="ellipse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68"/>
              <p:cNvSpPr/>
              <p:nvPr/>
            </p:nvSpPr>
            <p:spPr>
              <a:xfrm>
                <a:off x="4752360" y="3172320"/>
                <a:ext cx="1720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69"/>
              <p:cNvSpPr/>
              <p:nvPr/>
            </p:nvSpPr>
            <p:spPr>
              <a:xfrm>
                <a:off x="4759920" y="3239280"/>
                <a:ext cx="1594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" name="Group 270"/>
              <p:cNvGrpSpPr/>
              <p:nvPr/>
            </p:nvGrpSpPr>
            <p:grpSpPr>
              <a:xfrm>
                <a:off x="4635360" y="3168360"/>
                <a:ext cx="103680" cy="79560"/>
                <a:chOff x="4635360" y="3168360"/>
                <a:chExt cx="103680" cy="79560"/>
              </a:xfrm>
            </p:grpSpPr>
            <p:sp>
              <p:nvSpPr>
                <p:cNvPr id="149" name="Arc 271"/>
                <p:cNvSpPr/>
                <p:nvPr/>
              </p:nvSpPr>
              <p:spPr>
                <a:xfrm flipH="1">
                  <a:off x="4635000" y="3168360"/>
                  <a:ext cx="24120" cy="37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Arc 272"/>
                <p:cNvSpPr/>
                <p:nvPr/>
              </p:nvSpPr>
              <p:spPr>
                <a:xfrm>
                  <a:off x="4663080" y="3168360"/>
                  <a:ext cx="24120" cy="37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Group 273"/>
                <p:cNvGrpSpPr/>
                <p:nvPr/>
              </p:nvGrpSpPr>
              <p:grpSpPr>
                <a:xfrm>
                  <a:off x="4686480" y="3210480"/>
                  <a:ext cx="52560" cy="37440"/>
                  <a:chOff x="4686480" y="3210480"/>
                  <a:chExt cx="52560" cy="37440"/>
                </a:xfrm>
              </p:grpSpPr>
              <p:sp>
                <p:nvSpPr>
                  <p:cNvPr id="152" name="Arc 274"/>
                  <p:cNvSpPr/>
                  <p:nvPr/>
                </p:nvSpPr>
                <p:spPr>
                  <a:xfrm flipH="1" flipV="1">
                    <a:off x="4686480" y="3210480"/>
                    <a:ext cx="244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rc 275"/>
                  <p:cNvSpPr/>
                  <p:nvPr/>
                </p:nvSpPr>
                <p:spPr>
                  <a:xfrm flipV="1">
                    <a:off x="4714560" y="3210480"/>
                    <a:ext cx="244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Rectangle 276"/>
              <p:cNvSpPr/>
              <p:nvPr/>
            </p:nvSpPr>
            <p:spPr>
              <a:xfrm>
                <a:off x="5461560" y="2967480"/>
                <a:ext cx="151200" cy="4442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Group 277"/>
              <p:cNvGrpSpPr/>
              <p:nvPr/>
            </p:nvGrpSpPr>
            <p:grpSpPr>
              <a:xfrm>
                <a:off x="7246800" y="2945160"/>
                <a:ext cx="276120" cy="116280"/>
                <a:chOff x="7246800" y="2945160"/>
                <a:chExt cx="276120" cy="116280"/>
              </a:xfrm>
            </p:grpSpPr>
            <p:sp>
              <p:nvSpPr>
                <p:cNvPr id="156" name="Arc 278"/>
                <p:cNvSpPr/>
                <p:nvPr/>
              </p:nvSpPr>
              <p:spPr>
                <a:xfrm flipH="1">
                  <a:off x="7246800" y="294516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Arc 279"/>
                <p:cNvSpPr/>
                <p:nvPr/>
              </p:nvSpPr>
              <p:spPr>
                <a:xfrm>
                  <a:off x="7384680" y="294516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80"/>
              <p:cNvGrpSpPr/>
              <p:nvPr/>
            </p:nvGrpSpPr>
            <p:grpSpPr>
              <a:xfrm>
                <a:off x="7246800" y="3310560"/>
                <a:ext cx="276120" cy="116280"/>
                <a:chOff x="7246800" y="3310560"/>
                <a:chExt cx="276120" cy="116280"/>
              </a:xfrm>
            </p:grpSpPr>
            <p:sp>
              <p:nvSpPr>
                <p:cNvPr id="159" name="Arc 281"/>
                <p:cNvSpPr/>
                <p:nvPr/>
              </p:nvSpPr>
              <p:spPr>
                <a:xfrm flipH="1" flipV="1">
                  <a:off x="7246800" y="331020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Arc 282"/>
                <p:cNvSpPr/>
                <p:nvPr/>
              </p:nvSpPr>
              <p:spPr>
                <a:xfrm flipV="1">
                  <a:off x="7384680" y="331020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Line 283"/>
              <p:cNvSpPr/>
              <p:nvPr/>
            </p:nvSpPr>
            <p:spPr>
              <a:xfrm>
                <a:off x="7522920" y="3060720"/>
                <a:ext cx="360" cy="2664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284"/>
              <p:cNvSpPr/>
              <p:nvPr/>
            </p:nvSpPr>
            <p:spPr>
              <a:xfrm>
                <a:off x="7246800" y="3065040"/>
                <a:ext cx="360" cy="25452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285"/>
              <p:cNvSpPr/>
              <p:nvPr/>
            </p:nvSpPr>
            <p:spPr>
              <a:xfrm>
                <a:off x="7281720" y="3000960"/>
                <a:ext cx="63000" cy="407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2210"/>
                    </a:lnTo>
                    <a:lnTo>
                      <a:pt x="19796" y="4447"/>
                    </a:lnTo>
                    <a:lnTo>
                      <a:pt x="0" y="6631"/>
                    </a:lnTo>
                    <a:lnTo>
                      <a:pt x="19796" y="8868"/>
                    </a:lnTo>
                    <a:lnTo>
                      <a:pt x="0" y="11078"/>
                    </a:lnTo>
                    <a:lnTo>
                      <a:pt x="19796" y="13288"/>
                    </a:lnTo>
                    <a:lnTo>
                      <a:pt x="0" y="15526"/>
                    </a:lnTo>
                    <a:lnTo>
                      <a:pt x="0" y="19973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286"/>
              <p:cNvSpPr/>
              <p:nvPr/>
            </p:nvSpPr>
            <p:spPr>
              <a:xfrm>
                <a:off x="5512320" y="2982240"/>
                <a:ext cx="63000" cy="48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2217"/>
                    </a:lnTo>
                    <a:lnTo>
                      <a:pt x="19796" y="4434"/>
                    </a:lnTo>
                    <a:lnTo>
                      <a:pt x="0" y="6674"/>
                    </a:lnTo>
                    <a:lnTo>
                      <a:pt x="19796" y="8846"/>
                    </a:lnTo>
                    <a:lnTo>
                      <a:pt x="0" y="11063"/>
                    </a:lnTo>
                    <a:lnTo>
                      <a:pt x="19796" y="13326"/>
                    </a:lnTo>
                    <a:lnTo>
                      <a:pt x="0" y="15520"/>
                    </a:lnTo>
                    <a:lnTo>
                      <a:pt x="0" y="19977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287"/>
              <p:cNvSpPr/>
              <p:nvPr/>
            </p:nvSpPr>
            <p:spPr>
              <a:xfrm>
                <a:off x="4924080" y="3309840"/>
                <a:ext cx="483120" cy="44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7763" y="0"/>
                    </a:lnTo>
                    <a:lnTo>
                      <a:pt x="15526" y="19753"/>
                    </a:lnTo>
                    <a:lnTo>
                      <a:pt x="13316" y="0"/>
                    </a:lnTo>
                    <a:lnTo>
                      <a:pt x="11105" y="19753"/>
                    </a:lnTo>
                    <a:lnTo>
                      <a:pt x="8868" y="0"/>
                    </a:lnTo>
                    <a:lnTo>
                      <a:pt x="6658" y="19753"/>
                    </a:lnTo>
                    <a:lnTo>
                      <a:pt x="444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288"/>
              <p:cNvSpPr/>
              <p:nvPr/>
            </p:nvSpPr>
            <p:spPr>
              <a:xfrm>
                <a:off x="5405400" y="3310920"/>
                <a:ext cx="112320" cy="161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32"/>
                    </a:lnTo>
                    <a:lnTo>
                      <a:pt x="19886" y="1993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289"/>
              <p:cNvSpPr/>
              <p:nvPr/>
            </p:nvSpPr>
            <p:spPr>
              <a:xfrm>
                <a:off x="4799160" y="3310920"/>
                <a:ext cx="146520" cy="180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2" y="0"/>
                    </a:moveTo>
                    <a:lnTo>
                      <a:pt x="0" y="0"/>
                    </a:lnTo>
                    <a:lnTo>
                      <a:pt x="0" y="199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290"/>
              <p:cNvSpPr/>
              <p:nvPr/>
            </p:nvSpPr>
            <p:spPr>
              <a:xfrm>
                <a:off x="5848200" y="290772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9"/>
                    </a:moveTo>
                    <a:lnTo>
                      <a:pt x="0" y="0"/>
                    </a:lnTo>
                    <a:lnTo>
                      <a:pt x="19968" y="0"/>
                    </a:lnTo>
                    <a:lnTo>
                      <a:pt x="19968" y="1991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291"/>
              <p:cNvSpPr/>
              <p:nvPr/>
            </p:nvSpPr>
            <p:spPr>
              <a:xfrm>
                <a:off x="6245280" y="290772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9"/>
                    </a:moveTo>
                    <a:lnTo>
                      <a:pt x="0" y="0"/>
                    </a:lnTo>
                    <a:lnTo>
                      <a:pt x="19968" y="0"/>
                    </a:lnTo>
                    <a:lnTo>
                      <a:pt x="19968" y="1991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92"/>
              <p:cNvSpPr/>
              <p:nvPr/>
            </p:nvSpPr>
            <p:spPr>
              <a:xfrm>
                <a:off x="5848200" y="335916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19"/>
                    </a:lnTo>
                    <a:lnTo>
                      <a:pt x="19968" y="19919"/>
                    </a:lnTo>
                    <a:lnTo>
                      <a:pt x="19968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93"/>
              <p:cNvSpPr/>
              <p:nvPr/>
            </p:nvSpPr>
            <p:spPr>
              <a:xfrm>
                <a:off x="6245280" y="335916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19"/>
                    </a:lnTo>
                    <a:lnTo>
                      <a:pt x="19968" y="19919"/>
                    </a:lnTo>
                    <a:lnTo>
                      <a:pt x="19968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94"/>
              <p:cNvSpPr/>
              <p:nvPr/>
            </p:nvSpPr>
            <p:spPr>
              <a:xfrm>
                <a:off x="5516640" y="2907720"/>
                <a:ext cx="370080" cy="9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5" y="0"/>
                    </a:moveTo>
                    <a:lnTo>
                      <a:pt x="0" y="0"/>
                    </a:lnTo>
                    <a:lnTo>
                      <a:pt x="0" y="1988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295"/>
              <p:cNvSpPr/>
              <p:nvPr/>
            </p:nvSpPr>
            <p:spPr>
              <a:xfrm flipH="1">
                <a:off x="4798800" y="3493800"/>
                <a:ext cx="1079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296"/>
              <p:cNvSpPr/>
              <p:nvPr/>
            </p:nvSpPr>
            <p:spPr>
              <a:xfrm>
                <a:off x="6515640" y="2907720"/>
                <a:ext cx="447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297"/>
              <p:cNvSpPr/>
              <p:nvPr/>
            </p:nvSpPr>
            <p:spPr>
              <a:xfrm flipV="1">
                <a:off x="7281720" y="2907720"/>
                <a:ext cx="360" cy="1166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98"/>
              <p:cNvSpPr/>
              <p:nvPr/>
            </p:nvSpPr>
            <p:spPr>
              <a:xfrm>
                <a:off x="7281720" y="3373920"/>
                <a:ext cx="360" cy="1130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99"/>
              <p:cNvSpPr/>
              <p:nvPr/>
            </p:nvSpPr>
            <p:spPr>
              <a:xfrm>
                <a:off x="6626880" y="3493800"/>
                <a:ext cx="339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300"/>
              <p:cNvSpPr/>
              <p:nvPr/>
            </p:nvSpPr>
            <p:spPr>
              <a:xfrm>
                <a:off x="7517880" y="3038760"/>
                <a:ext cx="314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301"/>
              <p:cNvSpPr/>
              <p:nvPr/>
            </p:nvSpPr>
            <p:spPr>
              <a:xfrm>
                <a:off x="7517880" y="3329280"/>
                <a:ext cx="314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Oval 302"/>
              <p:cNvSpPr/>
              <p:nvPr/>
            </p:nvSpPr>
            <p:spPr>
              <a:xfrm>
                <a:off x="4996800" y="344160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03"/>
              <p:cNvSpPr/>
              <p:nvPr/>
            </p:nvSpPr>
            <p:spPr>
              <a:xfrm>
                <a:off x="4996800" y="344916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Oval 304"/>
              <p:cNvSpPr/>
              <p:nvPr/>
            </p:nvSpPr>
            <p:spPr>
              <a:xfrm>
                <a:off x="6756480" y="344160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05"/>
              <p:cNvSpPr/>
              <p:nvPr/>
            </p:nvSpPr>
            <p:spPr>
              <a:xfrm>
                <a:off x="6766200" y="344916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306"/>
              <p:cNvSpPr/>
              <p:nvPr/>
            </p:nvSpPr>
            <p:spPr>
              <a:xfrm>
                <a:off x="6954840" y="3493800"/>
                <a:ext cx="3272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307"/>
              <p:cNvSpPr/>
              <p:nvPr/>
            </p:nvSpPr>
            <p:spPr>
              <a:xfrm>
                <a:off x="6949440" y="2907720"/>
                <a:ext cx="3276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308"/>
              <p:cNvSpPr/>
              <p:nvPr/>
            </p:nvSpPr>
            <p:spPr>
              <a:xfrm>
                <a:off x="7629840" y="328104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09"/>
              <p:cNvSpPr/>
              <p:nvPr/>
            </p:nvSpPr>
            <p:spPr>
              <a:xfrm>
                <a:off x="7629840" y="328824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310"/>
              <p:cNvSpPr/>
              <p:nvPr/>
            </p:nvSpPr>
            <p:spPr>
              <a:xfrm>
                <a:off x="6782760" y="2601720"/>
                <a:ext cx="108000" cy="10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311"/>
              <p:cNvSpPr/>
              <p:nvPr/>
            </p:nvSpPr>
            <p:spPr>
              <a:xfrm>
                <a:off x="6791040" y="2601720"/>
                <a:ext cx="90360" cy="75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8" y="19855"/>
                    </a:moveTo>
                    <a:lnTo>
                      <a:pt x="19007" y="18841"/>
                    </a:lnTo>
                    <a:lnTo>
                      <a:pt x="0" y="18841"/>
                    </a:lnTo>
                    <a:lnTo>
                      <a:pt x="9504" y="0"/>
                    </a:lnTo>
                    <a:lnTo>
                      <a:pt x="19858" y="19855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12"/>
              <p:cNvSpPr/>
              <p:nvPr/>
            </p:nvSpPr>
            <p:spPr>
              <a:xfrm>
                <a:off x="6838200" y="2702160"/>
                <a:ext cx="360" cy="20628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1" name="Group 313"/>
              <p:cNvGrpSpPr/>
              <p:nvPr/>
            </p:nvGrpSpPr>
            <p:grpSpPr>
              <a:xfrm>
                <a:off x="6995880" y="2875680"/>
                <a:ext cx="97560" cy="79560"/>
                <a:chOff x="6995880" y="2875680"/>
                <a:chExt cx="97560" cy="79560"/>
              </a:xfrm>
            </p:grpSpPr>
            <p:sp>
              <p:nvSpPr>
                <p:cNvPr id="192" name="Freeform 314"/>
                <p:cNvSpPr/>
                <p:nvPr/>
              </p:nvSpPr>
              <p:spPr>
                <a:xfrm>
                  <a:off x="6995880" y="2875680"/>
                  <a:ext cx="97560" cy="594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68" y="0"/>
                      </a:moveTo>
                      <a:lnTo>
                        <a:pt x="19868" y="19815"/>
                      </a:lnTo>
                      <a:lnTo>
                        <a:pt x="0" y="0"/>
                      </a:lnTo>
                      <a:lnTo>
                        <a:pt x="0" y="19815"/>
                      </a:lnTo>
                      <a:lnTo>
                        <a:pt x="1986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315"/>
                <p:cNvSpPr/>
                <p:nvPr/>
              </p:nvSpPr>
              <p:spPr>
                <a:xfrm>
                  <a:off x="7023240" y="2913120"/>
                  <a:ext cx="47520" cy="42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730" y="19740"/>
                      </a:moveTo>
                      <a:lnTo>
                        <a:pt x="0" y="19740"/>
                      </a:lnTo>
                      <a:lnTo>
                        <a:pt x="9730" y="0"/>
                      </a:lnTo>
                      <a:lnTo>
                        <a:pt x="19730" y="197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316"/>
              <p:cNvSpPr/>
              <p:nvPr/>
            </p:nvSpPr>
            <p:spPr>
              <a:xfrm>
                <a:off x="7045920" y="3047040"/>
                <a:ext cx="360" cy="216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17"/>
              <p:cNvSpPr/>
              <p:nvPr/>
            </p:nvSpPr>
            <p:spPr>
              <a:xfrm flipV="1">
                <a:off x="7044840" y="2955960"/>
                <a:ext cx="360" cy="90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318"/>
              <p:cNvSpPr/>
              <p:nvPr/>
            </p:nvSpPr>
            <p:spPr>
              <a:xfrm>
                <a:off x="7044840" y="3057120"/>
                <a:ext cx="360" cy="4370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319"/>
              <p:cNvSpPr/>
              <p:nvPr/>
            </p:nvSpPr>
            <p:spPr>
              <a:xfrm flipV="1">
                <a:off x="6923880" y="2489760"/>
                <a:ext cx="360" cy="4158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320"/>
              <p:cNvSpPr/>
              <p:nvPr/>
            </p:nvSpPr>
            <p:spPr>
              <a:xfrm flipV="1">
                <a:off x="6833520" y="2489760"/>
                <a:ext cx="360" cy="10908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321"/>
              <p:cNvSpPr/>
              <p:nvPr/>
            </p:nvSpPr>
            <p:spPr>
              <a:xfrm flipH="1">
                <a:off x="6171480" y="2490120"/>
                <a:ext cx="6588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322"/>
              <p:cNvSpPr/>
              <p:nvPr/>
            </p:nvSpPr>
            <p:spPr>
              <a:xfrm flipV="1">
                <a:off x="6923880" y="2418840"/>
                <a:ext cx="360" cy="9432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323"/>
              <p:cNvSpPr/>
              <p:nvPr/>
            </p:nvSpPr>
            <p:spPr>
              <a:xfrm>
                <a:off x="6249240" y="1874520"/>
                <a:ext cx="360" cy="54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24"/>
              <p:cNvSpPr/>
              <p:nvPr/>
            </p:nvSpPr>
            <p:spPr>
              <a:xfrm>
                <a:off x="6253200" y="2415600"/>
                <a:ext cx="6710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325"/>
              <p:cNvSpPr/>
              <p:nvPr/>
            </p:nvSpPr>
            <p:spPr>
              <a:xfrm>
                <a:off x="6249240" y="2176560"/>
                <a:ext cx="360" cy="648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326"/>
              <p:cNvSpPr/>
              <p:nvPr/>
            </p:nvSpPr>
            <p:spPr>
              <a:xfrm>
                <a:off x="6008040" y="1590480"/>
                <a:ext cx="292680" cy="613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5846" y="0"/>
                    </a:lnTo>
                    <a:lnTo>
                      <a:pt x="5846" y="19982"/>
                    </a:lnTo>
                    <a:lnTo>
                      <a:pt x="19956" y="1998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327"/>
              <p:cNvSpPr/>
              <p:nvPr/>
            </p:nvSpPr>
            <p:spPr>
              <a:xfrm>
                <a:off x="5707800" y="3990240"/>
                <a:ext cx="1699560" cy="180216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328"/>
              <p:cNvSpPr/>
              <p:nvPr/>
            </p:nvSpPr>
            <p:spPr>
              <a:xfrm>
                <a:off x="5295960" y="5401800"/>
                <a:ext cx="1203840" cy="637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831" y="0"/>
                    </a:moveTo>
                    <a:lnTo>
                      <a:pt x="0" y="0"/>
                    </a:lnTo>
                    <a:lnTo>
                      <a:pt x="0" y="19983"/>
                    </a:lnTo>
                    <a:lnTo>
                      <a:pt x="19989" y="19983"/>
                    </a:lnTo>
                    <a:lnTo>
                      <a:pt x="19989" y="12265"/>
                    </a:lnTo>
                  </a:path>
                </a:pathLst>
              </a:custGeom>
              <a:noFill/>
              <a:ln w="255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329"/>
              <p:cNvSpPr/>
              <p:nvPr/>
            </p:nvSpPr>
            <p:spPr>
              <a:xfrm>
                <a:off x="5295960" y="4693320"/>
                <a:ext cx="412560" cy="70344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330"/>
              <p:cNvSpPr/>
              <p:nvPr/>
            </p:nvSpPr>
            <p:spPr>
              <a:xfrm>
                <a:off x="5295960" y="3990240"/>
                <a:ext cx="412560" cy="70344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331"/>
              <p:cNvSpPr/>
              <p:nvPr/>
            </p:nvSpPr>
            <p:spPr>
              <a:xfrm>
                <a:off x="6551280" y="4797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332"/>
              <p:cNvSpPr/>
              <p:nvPr/>
            </p:nvSpPr>
            <p:spPr>
              <a:xfrm>
                <a:off x="5482800" y="5769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333"/>
              <p:cNvSpPr/>
              <p:nvPr/>
            </p:nvSpPr>
            <p:spPr>
              <a:xfrm>
                <a:off x="5476320" y="49514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334"/>
              <p:cNvSpPr/>
              <p:nvPr/>
            </p:nvSpPr>
            <p:spPr>
              <a:xfrm>
                <a:off x="5463360" y="429228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335"/>
              <p:cNvSpPr/>
              <p:nvPr/>
            </p:nvSpPr>
            <p:spPr>
              <a:xfrm>
                <a:off x="4826160" y="4698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336"/>
              <p:cNvSpPr/>
              <p:nvPr/>
            </p:nvSpPr>
            <p:spPr>
              <a:xfrm>
                <a:off x="5180040" y="34628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337"/>
              <p:cNvSpPr/>
              <p:nvPr/>
            </p:nvSpPr>
            <p:spPr>
              <a:xfrm>
                <a:off x="7696800" y="4792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338"/>
              <p:cNvSpPr/>
              <p:nvPr/>
            </p:nvSpPr>
            <p:spPr>
              <a:xfrm>
                <a:off x="6563880" y="618192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339"/>
              <p:cNvSpPr/>
              <p:nvPr/>
            </p:nvSpPr>
            <p:spPr>
              <a:xfrm>
                <a:off x="6686280" y="34682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340"/>
              <p:cNvSpPr/>
              <p:nvPr/>
            </p:nvSpPr>
            <p:spPr>
              <a:xfrm>
                <a:off x="7008120" y="34682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341"/>
              <p:cNvSpPr/>
              <p:nvPr/>
            </p:nvSpPr>
            <p:spPr>
              <a:xfrm>
                <a:off x="661536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342"/>
              <p:cNvSpPr/>
              <p:nvPr/>
            </p:nvSpPr>
            <p:spPr>
              <a:xfrm>
                <a:off x="621000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343"/>
              <p:cNvSpPr/>
              <p:nvPr/>
            </p:nvSpPr>
            <p:spPr>
              <a:xfrm>
                <a:off x="581724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344"/>
              <p:cNvSpPr/>
              <p:nvPr/>
            </p:nvSpPr>
            <p:spPr>
              <a:xfrm>
                <a:off x="4839120" y="34628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345"/>
              <p:cNvSpPr/>
              <p:nvPr/>
            </p:nvSpPr>
            <p:spPr>
              <a:xfrm>
                <a:off x="5360400" y="32871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346"/>
              <p:cNvSpPr/>
              <p:nvPr/>
            </p:nvSpPr>
            <p:spPr>
              <a:xfrm>
                <a:off x="5482800" y="28861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347"/>
              <p:cNvSpPr/>
              <p:nvPr/>
            </p:nvSpPr>
            <p:spPr>
              <a:xfrm>
                <a:off x="6802200" y="272700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348"/>
              <p:cNvSpPr/>
              <p:nvPr/>
            </p:nvSpPr>
            <p:spPr>
              <a:xfrm>
                <a:off x="6802200" y="25182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49"/>
              <p:cNvSpPr/>
              <p:nvPr/>
            </p:nvSpPr>
            <p:spPr>
              <a:xfrm>
                <a:off x="5527800" y="4325400"/>
                <a:ext cx="1023840" cy="48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350"/>
              <p:cNvSpPr/>
              <p:nvPr/>
            </p:nvSpPr>
            <p:spPr>
              <a:xfrm flipH="1">
                <a:off x="5534280" y="4836240"/>
                <a:ext cx="101736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351"/>
              <p:cNvSpPr/>
              <p:nvPr/>
            </p:nvSpPr>
            <p:spPr>
              <a:xfrm>
                <a:off x="6583320" y="4847040"/>
                <a:ext cx="6840" cy="132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352"/>
              <p:cNvSpPr/>
              <p:nvPr/>
            </p:nvSpPr>
            <p:spPr>
              <a:xfrm flipH="1">
                <a:off x="5534280" y="4847040"/>
                <a:ext cx="1023840" cy="92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353"/>
              <p:cNvSpPr/>
              <p:nvPr/>
            </p:nvSpPr>
            <p:spPr>
              <a:xfrm>
                <a:off x="4884120" y="4731840"/>
                <a:ext cx="58608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354"/>
              <p:cNvSpPr/>
              <p:nvPr/>
            </p:nvSpPr>
            <p:spPr>
              <a:xfrm flipH="1">
                <a:off x="4870800" y="4330800"/>
                <a:ext cx="586440" cy="36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355"/>
              <p:cNvSpPr/>
              <p:nvPr/>
            </p:nvSpPr>
            <p:spPr>
              <a:xfrm>
                <a:off x="6608880" y="4814280"/>
                <a:ext cx="10753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356"/>
              <p:cNvSpPr/>
              <p:nvPr/>
            </p:nvSpPr>
            <p:spPr>
              <a:xfrm>
                <a:off x="6505920" y="379260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357"/>
              <p:cNvSpPr/>
              <p:nvPr/>
            </p:nvSpPr>
            <p:spPr>
              <a:xfrm flipV="1">
                <a:off x="5508360" y="3825360"/>
                <a:ext cx="998280" cy="46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358"/>
              <p:cNvSpPr/>
              <p:nvPr/>
            </p:nvSpPr>
            <p:spPr>
              <a:xfrm flipH="1" flipV="1">
                <a:off x="6538320" y="3846960"/>
                <a:ext cx="45360" cy="94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359"/>
              <p:cNvSpPr/>
              <p:nvPr/>
            </p:nvSpPr>
            <p:spPr>
              <a:xfrm>
                <a:off x="4852080" y="4753800"/>
                <a:ext cx="631080" cy="1022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360"/>
              <p:cNvSpPr/>
              <p:nvPr/>
            </p:nvSpPr>
            <p:spPr>
              <a:xfrm>
                <a:off x="6686280" y="222696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361"/>
              <p:cNvSpPr/>
              <p:nvPr/>
            </p:nvSpPr>
            <p:spPr>
              <a:xfrm>
                <a:off x="6293520" y="216648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362"/>
              <p:cNvSpPr/>
              <p:nvPr/>
            </p:nvSpPr>
            <p:spPr>
              <a:xfrm>
                <a:off x="6544800" y="1479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63"/>
              <p:cNvSpPr/>
              <p:nvPr/>
            </p:nvSpPr>
            <p:spPr>
              <a:xfrm>
                <a:off x="6950160" y="14306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64"/>
              <p:cNvSpPr/>
              <p:nvPr/>
            </p:nvSpPr>
            <p:spPr>
              <a:xfrm>
                <a:off x="5514840" y="14853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65"/>
              <p:cNvSpPr/>
              <p:nvPr/>
            </p:nvSpPr>
            <p:spPr>
              <a:xfrm>
                <a:off x="5920200" y="14853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66"/>
              <p:cNvSpPr/>
              <p:nvPr/>
            </p:nvSpPr>
            <p:spPr>
              <a:xfrm>
                <a:off x="5913720" y="15570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67"/>
              <p:cNvSpPr/>
              <p:nvPr/>
            </p:nvSpPr>
            <p:spPr>
              <a:xfrm>
                <a:off x="5514840" y="15570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68"/>
              <p:cNvSpPr/>
              <p:nvPr/>
            </p:nvSpPr>
            <p:spPr>
              <a:xfrm>
                <a:off x="6132960" y="18316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9"/>
              <p:cNvSpPr/>
              <p:nvPr/>
            </p:nvSpPr>
            <p:spPr>
              <a:xfrm>
                <a:off x="6216480" y="17380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0"/>
              <p:cNvSpPr/>
              <p:nvPr/>
            </p:nvSpPr>
            <p:spPr>
              <a:xfrm>
                <a:off x="6126120" y="16668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71"/>
              <p:cNvSpPr/>
              <p:nvPr/>
            </p:nvSpPr>
            <p:spPr>
              <a:xfrm>
                <a:off x="7014600" y="29851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72"/>
              <p:cNvSpPr/>
              <p:nvPr/>
            </p:nvSpPr>
            <p:spPr>
              <a:xfrm>
                <a:off x="712368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373"/>
              <p:cNvSpPr/>
              <p:nvPr/>
            </p:nvSpPr>
            <p:spPr>
              <a:xfrm>
                <a:off x="7542360" y="3297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374"/>
              <p:cNvSpPr/>
              <p:nvPr/>
            </p:nvSpPr>
            <p:spPr>
              <a:xfrm>
                <a:off x="7773840" y="3297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375"/>
              <p:cNvSpPr/>
              <p:nvPr/>
            </p:nvSpPr>
            <p:spPr>
              <a:xfrm>
                <a:off x="7137000" y="2106360"/>
                <a:ext cx="3222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376"/>
              <p:cNvSpPr/>
              <p:nvPr/>
            </p:nvSpPr>
            <p:spPr>
              <a:xfrm>
                <a:off x="7304040" y="1573560"/>
                <a:ext cx="1872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377"/>
              <p:cNvSpPr/>
              <p:nvPr/>
            </p:nvSpPr>
            <p:spPr>
              <a:xfrm>
                <a:off x="5849640" y="2924640"/>
                <a:ext cx="837000" cy="571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  <a:lnTo>
                      <a:pt x="19985" y="1978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378"/>
              <p:cNvSpPr/>
              <p:nvPr/>
            </p:nvSpPr>
            <p:spPr>
              <a:xfrm>
                <a:off x="6242040" y="2924640"/>
                <a:ext cx="720" cy="566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379"/>
              <p:cNvSpPr/>
              <p:nvPr/>
            </p:nvSpPr>
            <p:spPr>
              <a:xfrm>
                <a:off x="6641280" y="2924640"/>
                <a:ext cx="720" cy="571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380"/>
              <p:cNvSpPr/>
              <p:nvPr/>
            </p:nvSpPr>
            <p:spPr>
              <a:xfrm>
                <a:off x="5398920" y="2941200"/>
                <a:ext cx="109800" cy="527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3" y="0"/>
                    </a:moveTo>
                    <a:lnTo>
                      <a:pt x="19883" y="19979"/>
                    </a:lnTo>
                    <a:lnTo>
                      <a:pt x="1170" y="19979"/>
                    </a:lnTo>
                    <a:lnTo>
                      <a:pt x="0" y="1498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381"/>
              <p:cNvSpPr/>
              <p:nvPr/>
            </p:nvSpPr>
            <p:spPr>
              <a:xfrm>
                <a:off x="4800240" y="3309120"/>
                <a:ext cx="547560" cy="18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6" y="0"/>
                    </a:moveTo>
                    <a:lnTo>
                      <a:pt x="0" y="0"/>
                    </a:lnTo>
                    <a:lnTo>
                      <a:pt x="0" y="19335"/>
                    </a:lnTo>
                    <a:lnTo>
                      <a:pt x="1175" y="199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382"/>
              <p:cNvSpPr/>
              <p:nvPr/>
            </p:nvSpPr>
            <p:spPr>
              <a:xfrm>
                <a:off x="4903560" y="3490560"/>
                <a:ext cx="2642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383"/>
              <p:cNvSpPr/>
              <p:nvPr/>
            </p:nvSpPr>
            <p:spPr>
              <a:xfrm>
                <a:off x="5244480" y="3495960"/>
                <a:ext cx="605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384"/>
              <p:cNvSpPr/>
              <p:nvPr/>
            </p:nvSpPr>
            <p:spPr>
              <a:xfrm>
                <a:off x="7419960" y="3034440"/>
                <a:ext cx="579600" cy="297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774" y="19963"/>
                    </a:moveTo>
                    <a:lnTo>
                      <a:pt x="0" y="19963"/>
                    </a:lnTo>
                    <a:lnTo>
                      <a:pt x="0" y="0"/>
                    </a:lnTo>
                    <a:lnTo>
                      <a:pt x="19978" y="0"/>
                    </a:lnTo>
                    <a:lnTo>
                      <a:pt x="19978" y="19593"/>
                    </a:lnTo>
                    <a:lnTo>
                      <a:pt x="14428" y="1959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385"/>
              <p:cNvSpPr/>
              <p:nvPr/>
            </p:nvSpPr>
            <p:spPr>
              <a:xfrm>
                <a:off x="7040160" y="2902680"/>
                <a:ext cx="232200" cy="59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2742" y="0"/>
                    </a:moveTo>
                    <a:lnTo>
                      <a:pt x="19945" y="0"/>
                    </a:lnTo>
                    <a:lnTo>
                      <a:pt x="19945" y="19981"/>
                    </a:lnTo>
                    <a:lnTo>
                      <a:pt x="0" y="19981"/>
                    </a:lnTo>
                    <a:lnTo>
                      <a:pt x="0" y="44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386"/>
              <p:cNvSpPr/>
              <p:nvPr/>
            </p:nvSpPr>
            <p:spPr>
              <a:xfrm>
                <a:off x="5875200" y="2908080"/>
                <a:ext cx="3222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87"/>
              <p:cNvSpPr/>
              <p:nvPr/>
            </p:nvSpPr>
            <p:spPr>
              <a:xfrm>
                <a:off x="6293520" y="2908080"/>
                <a:ext cx="3222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388"/>
              <p:cNvSpPr/>
              <p:nvPr/>
            </p:nvSpPr>
            <p:spPr>
              <a:xfrm>
                <a:off x="6673320" y="2908080"/>
                <a:ext cx="2257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389"/>
              <p:cNvSpPr/>
              <p:nvPr/>
            </p:nvSpPr>
            <p:spPr>
              <a:xfrm>
                <a:off x="6834240" y="2787480"/>
                <a:ext cx="68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390"/>
              <p:cNvSpPr/>
              <p:nvPr/>
            </p:nvSpPr>
            <p:spPr>
              <a:xfrm>
                <a:off x="6950160" y="2908080"/>
                <a:ext cx="1742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391"/>
              <p:cNvSpPr/>
              <p:nvPr/>
            </p:nvSpPr>
            <p:spPr>
              <a:xfrm>
                <a:off x="4877640" y="1518480"/>
                <a:ext cx="6310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92"/>
              <p:cNvSpPr/>
              <p:nvPr/>
            </p:nvSpPr>
            <p:spPr>
              <a:xfrm>
                <a:off x="4877640" y="1589760"/>
                <a:ext cx="6310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393"/>
              <p:cNvSpPr/>
              <p:nvPr/>
            </p:nvSpPr>
            <p:spPr>
              <a:xfrm>
                <a:off x="5579280" y="1584360"/>
                <a:ext cx="328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394"/>
              <p:cNvSpPr/>
              <p:nvPr/>
            </p:nvSpPr>
            <p:spPr>
              <a:xfrm>
                <a:off x="5585760" y="1518480"/>
                <a:ext cx="328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395"/>
              <p:cNvSpPr/>
              <p:nvPr/>
            </p:nvSpPr>
            <p:spPr>
              <a:xfrm>
                <a:off x="6158520" y="1408680"/>
                <a:ext cx="84240" cy="253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7"/>
                    </a:moveTo>
                    <a:lnTo>
                      <a:pt x="0" y="0"/>
                    </a:lnTo>
                    <a:lnTo>
                      <a:pt x="19847" y="0"/>
                    </a:lnTo>
                    <a:lnTo>
                      <a:pt x="19847" y="195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396"/>
              <p:cNvSpPr/>
              <p:nvPr/>
            </p:nvSpPr>
            <p:spPr>
              <a:xfrm>
                <a:off x="6242040" y="1661400"/>
                <a:ext cx="720" cy="6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8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397"/>
              <p:cNvSpPr/>
              <p:nvPr/>
            </p:nvSpPr>
            <p:spPr>
              <a:xfrm>
                <a:off x="6248520" y="1798560"/>
                <a:ext cx="676440" cy="1071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1481"/>
                    </a:lnTo>
                    <a:lnTo>
                      <a:pt x="19981" y="11481"/>
                    </a:lnTo>
                    <a:lnTo>
                      <a:pt x="19791" y="199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398"/>
              <p:cNvSpPr/>
              <p:nvPr/>
            </p:nvSpPr>
            <p:spPr>
              <a:xfrm>
                <a:off x="6165000" y="1891800"/>
                <a:ext cx="669960" cy="615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269"/>
                    </a:lnTo>
                    <a:lnTo>
                      <a:pt x="19981" y="19447"/>
                    </a:lnTo>
                    <a:lnTo>
                      <a:pt x="19981" y="1998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399"/>
              <p:cNvSpPr/>
              <p:nvPr/>
            </p:nvSpPr>
            <p:spPr>
              <a:xfrm>
                <a:off x="5978160" y="1513080"/>
                <a:ext cx="560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400"/>
              <p:cNvSpPr/>
              <p:nvPr/>
            </p:nvSpPr>
            <p:spPr>
              <a:xfrm>
                <a:off x="4131000" y="1518480"/>
                <a:ext cx="740520" cy="3207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8593" y="19997"/>
                    </a:moveTo>
                    <a:lnTo>
                      <a:pt x="0" y="19997"/>
                    </a:lnTo>
                    <a:lnTo>
                      <a:pt x="174" y="0"/>
                    </a:lnTo>
                    <a:lnTo>
                      <a:pt x="19983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01"/>
              <p:cNvSpPr/>
              <p:nvPr/>
            </p:nvSpPr>
            <p:spPr>
              <a:xfrm>
                <a:off x="4298400" y="1589760"/>
                <a:ext cx="579600" cy="3114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8202" y="19996"/>
                    </a:moveTo>
                    <a:lnTo>
                      <a:pt x="0" y="15306"/>
                    </a:lnTo>
                    <a:lnTo>
                      <a:pt x="0" y="0"/>
                    </a:lnTo>
                    <a:lnTo>
                      <a:pt x="1997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402"/>
              <p:cNvSpPr/>
              <p:nvPr/>
            </p:nvSpPr>
            <p:spPr>
              <a:xfrm>
                <a:off x="5521320" y="4314240"/>
                <a:ext cx="2124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403"/>
              <p:cNvSpPr/>
              <p:nvPr/>
            </p:nvSpPr>
            <p:spPr>
              <a:xfrm>
                <a:off x="6602760" y="4588920"/>
                <a:ext cx="1030320" cy="21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9"/>
                    </a:moveTo>
                    <a:lnTo>
                      <a:pt x="7121" y="0"/>
                    </a:lnTo>
                    <a:lnTo>
                      <a:pt x="1998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04"/>
              <p:cNvSpPr/>
              <p:nvPr/>
            </p:nvSpPr>
            <p:spPr>
              <a:xfrm>
                <a:off x="5527800" y="5000760"/>
                <a:ext cx="20408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8641" y="19960"/>
                    </a:lnTo>
                    <a:lnTo>
                      <a:pt x="19994" y="1996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405"/>
              <p:cNvSpPr/>
              <p:nvPr/>
            </p:nvSpPr>
            <p:spPr>
              <a:xfrm>
                <a:off x="5534280" y="5401800"/>
                <a:ext cx="2105280" cy="412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8254" y="0"/>
                    </a:lnTo>
                    <a:lnTo>
                      <a:pt x="1999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406"/>
              <p:cNvSpPr/>
              <p:nvPr/>
            </p:nvSpPr>
            <p:spPr>
              <a:xfrm>
                <a:off x="7638840" y="4165920"/>
                <a:ext cx="264600" cy="148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26"/>
                    </a:moveTo>
                    <a:lnTo>
                      <a:pt x="19951" y="19926"/>
                    </a:lnTo>
                    <a:lnTo>
                      <a:pt x="1995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407"/>
              <p:cNvSpPr/>
              <p:nvPr/>
            </p:nvSpPr>
            <p:spPr>
              <a:xfrm>
                <a:off x="7619400" y="4177080"/>
                <a:ext cx="367200" cy="412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19965" y="19707"/>
                    </a:lnTo>
                    <a:lnTo>
                      <a:pt x="1996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408"/>
              <p:cNvSpPr/>
              <p:nvPr/>
            </p:nvSpPr>
            <p:spPr>
              <a:xfrm>
                <a:off x="7554960" y="4177080"/>
                <a:ext cx="534600" cy="1099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90"/>
                    </a:moveTo>
                    <a:lnTo>
                      <a:pt x="19976" y="19990"/>
                    </a:lnTo>
                    <a:lnTo>
                      <a:pt x="1997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409"/>
              <p:cNvSpPr/>
              <p:nvPr/>
            </p:nvSpPr>
            <p:spPr>
              <a:xfrm>
                <a:off x="7619400" y="4177080"/>
                <a:ext cx="567000" cy="1225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91"/>
                    </a:moveTo>
                    <a:lnTo>
                      <a:pt x="19977" y="19991"/>
                    </a:lnTo>
                    <a:lnTo>
                      <a:pt x="1997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410"/>
              <p:cNvSpPr/>
              <p:nvPr/>
            </p:nvSpPr>
            <p:spPr>
              <a:xfrm>
                <a:off x="7815960" y="3853080"/>
                <a:ext cx="644040" cy="41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rom supply fa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411"/>
              <p:cNvSpPr/>
              <p:nvPr/>
            </p:nvSpPr>
            <p:spPr>
              <a:xfrm>
                <a:off x="5489280" y="4347360"/>
                <a:ext cx="3160440" cy="1769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607" y="19994"/>
                    </a:lnTo>
                    <a:lnTo>
                      <a:pt x="19996" y="19994"/>
                    </a:lnTo>
                    <a:lnTo>
                      <a:pt x="19996" y="1546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412"/>
              <p:cNvSpPr/>
              <p:nvPr/>
            </p:nvSpPr>
            <p:spPr>
              <a:xfrm>
                <a:off x="5501880" y="5006160"/>
                <a:ext cx="3231360" cy="1247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392" y="19991"/>
                    </a:lnTo>
                    <a:lnTo>
                      <a:pt x="19996" y="19991"/>
                    </a:lnTo>
                    <a:lnTo>
                      <a:pt x="19996" y="1144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413"/>
              <p:cNvSpPr/>
              <p:nvPr/>
            </p:nvSpPr>
            <p:spPr>
              <a:xfrm>
                <a:off x="5527800" y="5742360"/>
                <a:ext cx="3308760" cy="588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2614"/>
                    </a:moveTo>
                    <a:lnTo>
                      <a:pt x="11126" y="19981"/>
                    </a:lnTo>
                    <a:lnTo>
                      <a:pt x="19996" y="19981"/>
                    </a:lnTo>
                    <a:lnTo>
                      <a:pt x="1999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414"/>
              <p:cNvSpPr/>
              <p:nvPr/>
            </p:nvSpPr>
            <p:spPr>
              <a:xfrm>
                <a:off x="6602760" y="4836240"/>
                <a:ext cx="1956960" cy="1225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6" y="0"/>
                    </a:moveTo>
                    <a:lnTo>
                      <a:pt x="0" y="179"/>
                    </a:lnTo>
                    <a:lnTo>
                      <a:pt x="0" y="269"/>
                    </a:lnTo>
                    <a:lnTo>
                      <a:pt x="66" y="359"/>
                    </a:lnTo>
                    <a:lnTo>
                      <a:pt x="17100" y="19991"/>
                    </a:lnTo>
                    <a:lnTo>
                      <a:pt x="19993" y="19991"/>
                    </a:lnTo>
                    <a:lnTo>
                      <a:pt x="19993" y="1497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415"/>
              <p:cNvSpPr/>
              <p:nvPr/>
            </p:nvSpPr>
            <p:spPr>
              <a:xfrm>
                <a:off x="8346960" y="5492520"/>
                <a:ext cx="644040" cy="41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to extract fa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416"/>
              <p:cNvSpPr/>
              <p:nvPr/>
            </p:nvSpPr>
            <p:spPr>
              <a:xfrm>
                <a:off x="7130520" y="1958040"/>
                <a:ext cx="6181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417"/>
              <p:cNvSpPr/>
              <p:nvPr/>
            </p:nvSpPr>
            <p:spPr>
              <a:xfrm>
                <a:off x="7123680" y="2106360"/>
                <a:ext cx="6249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418"/>
              <p:cNvSpPr/>
              <p:nvPr/>
            </p:nvSpPr>
            <p:spPr>
              <a:xfrm>
                <a:off x="7130520" y="2254680"/>
                <a:ext cx="6181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419"/>
              <p:cNvSpPr/>
              <p:nvPr/>
            </p:nvSpPr>
            <p:spPr>
              <a:xfrm flipV="1">
                <a:off x="7137000" y="2457720"/>
                <a:ext cx="618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420"/>
              <p:cNvSpPr/>
              <p:nvPr/>
            </p:nvSpPr>
            <p:spPr>
              <a:xfrm>
                <a:off x="7806240" y="1392120"/>
                <a:ext cx="6440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to zones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421"/>
              <p:cNvSpPr/>
              <p:nvPr/>
            </p:nvSpPr>
            <p:spPr>
              <a:xfrm>
                <a:off x="7786800" y="2100600"/>
                <a:ext cx="644040" cy="32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rom zones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422"/>
              <p:cNvSpPr/>
              <p:nvPr/>
            </p:nvSpPr>
            <p:spPr>
              <a:xfrm flipV="1">
                <a:off x="5785200" y="2210400"/>
                <a:ext cx="51516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423"/>
              <p:cNvSpPr/>
              <p:nvPr/>
            </p:nvSpPr>
            <p:spPr>
              <a:xfrm>
                <a:off x="5128560" y="2391840"/>
                <a:ext cx="64404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luid flow node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424"/>
              <p:cNvSpPr/>
              <p:nvPr/>
            </p:nvSpPr>
            <p:spPr>
              <a:xfrm>
                <a:off x="4433760" y="1985400"/>
                <a:ext cx="104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air flow connectio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425"/>
              <p:cNvSpPr/>
              <p:nvPr/>
            </p:nvSpPr>
            <p:spPr>
              <a:xfrm flipH="1" flipV="1">
                <a:off x="4311000" y="1820160"/>
                <a:ext cx="10980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426"/>
              <p:cNvSpPr/>
              <p:nvPr/>
            </p:nvSpPr>
            <p:spPr>
              <a:xfrm>
                <a:off x="4060440" y="5275440"/>
                <a:ext cx="104328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air flow connectio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427"/>
              <p:cNvSpPr/>
              <p:nvPr/>
            </p:nvSpPr>
            <p:spPr>
              <a:xfrm flipV="1">
                <a:off x="4665240" y="5172480"/>
                <a:ext cx="42984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428"/>
              <p:cNvSpPr/>
              <p:nvPr/>
            </p:nvSpPr>
            <p:spPr>
              <a:xfrm>
                <a:off x="5798160" y="2613240"/>
                <a:ext cx="8694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hot water flow path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429"/>
              <p:cNvSpPr/>
              <p:nvPr/>
            </p:nvSpPr>
            <p:spPr>
              <a:xfrm flipV="1">
                <a:off x="6501600" y="2514240"/>
                <a:ext cx="14652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430"/>
              <p:cNvSpPr/>
              <p:nvPr/>
            </p:nvSpPr>
            <p:spPr>
              <a:xfrm>
                <a:off x="5978160" y="1589760"/>
                <a:ext cx="309240" cy="610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7069" y="0"/>
                    </a:lnTo>
                    <a:lnTo>
                      <a:pt x="7484" y="19982"/>
                    </a:lnTo>
                    <a:lnTo>
                      <a:pt x="19958" y="1998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431"/>
              <p:cNvSpPr/>
              <p:nvPr/>
            </p:nvSpPr>
            <p:spPr>
              <a:xfrm>
                <a:off x="7123680" y="1958040"/>
                <a:ext cx="6840" cy="50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432"/>
              <p:cNvSpPr/>
              <p:nvPr/>
            </p:nvSpPr>
            <p:spPr>
              <a:xfrm>
                <a:off x="6750720" y="2254680"/>
                <a:ext cx="373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433"/>
              <p:cNvSpPr/>
              <p:nvPr/>
            </p:nvSpPr>
            <p:spPr>
              <a:xfrm>
                <a:off x="7014600" y="1315440"/>
                <a:ext cx="470160" cy="143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2038" y="766"/>
                    </a:lnTo>
                    <a:lnTo>
                      <a:pt x="12038" y="19923"/>
                    </a:lnTo>
                    <a:lnTo>
                      <a:pt x="0" y="199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434"/>
              <p:cNvSpPr/>
              <p:nvPr/>
            </p:nvSpPr>
            <p:spPr>
              <a:xfrm>
                <a:off x="7297560" y="1458000"/>
                <a:ext cx="193680" cy="21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50"/>
                    </a:lnTo>
                    <a:lnTo>
                      <a:pt x="19934" y="194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435"/>
              <p:cNvSpPr/>
              <p:nvPr/>
            </p:nvSpPr>
            <p:spPr>
              <a:xfrm flipV="1">
                <a:off x="7304040" y="1458000"/>
                <a:ext cx="180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436"/>
              <p:cNvSpPr/>
              <p:nvPr/>
            </p:nvSpPr>
            <p:spPr>
              <a:xfrm>
                <a:off x="7304040" y="1567800"/>
                <a:ext cx="180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437"/>
              <p:cNvSpPr/>
              <p:nvPr/>
            </p:nvSpPr>
            <p:spPr>
              <a:xfrm>
                <a:off x="6882480" y="34660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Rectangle 438"/>
          <p:cNvSpPr/>
          <p:nvPr/>
        </p:nvSpPr>
        <p:spPr>
          <a:xfrm>
            <a:off x="609480" y="1066680"/>
            <a:ext cx="2514600" cy="990720"/>
          </a:xfrm>
          <a:prstGeom prst="rect">
            <a:avLst/>
          </a:prstGeom>
          <a:solidFill>
            <a:srgbClr val="c4fe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rm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39"/>
          <p:cNvSpPr/>
          <p:nvPr/>
        </p:nvSpPr>
        <p:spPr>
          <a:xfrm>
            <a:off x="380880" y="3657600"/>
            <a:ext cx="13716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440"/>
          <p:cNvSpPr/>
          <p:nvPr/>
        </p:nvSpPr>
        <p:spPr>
          <a:xfrm>
            <a:off x="533520" y="5562720"/>
            <a:ext cx="251460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41"/>
          <p:cNvSpPr/>
          <p:nvPr/>
        </p:nvSpPr>
        <p:spPr>
          <a:xfrm>
            <a:off x="1981080" y="3657600"/>
            <a:ext cx="13716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0" name="AutoShape 443"/>
          <p:cNvCxnSpPr>
            <a:stCxn id="319" idx="0"/>
            <a:endCxn id="316" idx="2"/>
          </p:cNvCxnSpPr>
          <p:nvPr/>
        </p:nvCxnSpPr>
        <p:spPr>
          <a:xfrm flipV="1" rot="16200000">
            <a:off x="1466280" y="2456640"/>
            <a:ext cx="1600920" cy="800640"/>
          </a:xfrm>
          <a:prstGeom prst="bentConnector3">
            <a:avLst>
              <a:gd name="adj1" fmla="val 23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1" name="AutoShape 444"/>
          <p:cNvCxnSpPr>
            <a:stCxn id="317" idx="0"/>
            <a:endCxn id="316" idx="2"/>
          </p:cNvCxnSpPr>
          <p:nvPr/>
        </p:nvCxnSpPr>
        <p:spPr>
          <a:xfrm flipH="1" flipV="1" rot="5400000">
            <a:off x="666360" y="2456640"/>
            <a:ext cx="1600920" cy="801000"/>
          </a:xfrm>
          <a:prstGeom prst="bentConnector3">
            <a:avLst>
              <a:gd name="adj1" fmla="val 23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2" name="AutoShape 445"/>
          <p:cNvCxnSpPr>
            <a:stCxn id="318" idx="0"/>
            <a:endCxn id="319" idx="2"/>
          </p:cNvCxnSpPr>
          <p:nvPr/>
        </p:nvCxnSpPr>
        <p:spPr>
          <a:xfrm flipH="1" flipV="1" rot="5400000">
            <a:off x="1618920" y="4514400"/>
            <a:ext cx="1220040" cy="876960"/>
          </a:xfrm>
          <a:prstGeom prst="bentConnector3">
            <a:avLst>
              <a:gd name="adj1" fmla="val 7576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AutoShape 446"/>
          <p:cNvCxnSpPr>
            <a:stCxn id="318" idx="0"/>
            <a:endCxn id="317" idx="2"/>
          </p:cNvCxnSpPr>
          <p:nvPr/>
        </p:nvCxnSpPr>
        <p:spPr>
          <a:xfrm flipV="1" rot="16200000">
            <a:off x="818280" y="4590360"/>
            <a:ext cx="1220040" cy="724680"/>
          </a:xfrm>
          <a:prstGeom prst="bentConnector3">
            <a:avLst>
              <a:gd name="adj1" fmla="val 765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4" name="Text Box 447"/>
          <p:cNvSpPr/>
          <p:nvPr/>
        </p:nvSpPr>
        <p:spPr>
          <a:xfrm>
            <a:off x="79560" y="2276640"/>
            <a:ext cx="1179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here does fluid flow occur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s and cracks and other opening in the envelope and interior 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zone infiltration and 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air distribu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nic heating/cooling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spaces (intra-zone convective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hy does fluid-flow matter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ltration and ventilation aff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nd energy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comfort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nt and moisture disp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nic flows affect plant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evels of re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"/>
          <p:cNvSpPr/>
          <p:nvPr/>
        </p:nvSpPr>
        <p:spPr>
          <a:xfrm>
            <a:off x="390600" y="3608280"/>
            <a:ext cx="8172360" cy="18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382320" y="2219400"/>
            <a:ext cx="1413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heduled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ir flo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3510720" y="2219400"/>
            <a:ext cx="21268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essure-driv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7005240" y="2219400"/>
            <a:ext cx="13356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FD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459360" y="4495680"/>
            <a:ext cx="1806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-to-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6327360" y="4572000"/>
            <a:ext cx="178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-to-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of conservation equations for mass, energy, and momentum for all gri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 is large amount of computing resourc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ainly to predict temperature and velocity fields inside large and complex enclosures such as a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1162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s to building therma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s to air-flow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s flow patterns within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flowvis2"/>
          <p:cNvPicPr/>
          <p:nvPr/>
        </p:nvPicPr>
        <p:blipFill>
          <a:blip r:embed="rId1"/>
          <a:stretch/>
        </p:blipFill>
        <p:spPr>
          <a:xfrm>
            <a:off x="5029200" y="1295280"/>
            <a:ext cx="3505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17:35Z</dcterms:modified>
  <cp:revision>13</cp:revision>
  <dc:subject/>
  <dc:title>PCC V2 Proposal</dc:title>
</cp:coreProperties>
</file>