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FB7B-5B97-41A6-B702-A65DF35EA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2070-11EE-4D35-B840-839D071C6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764B-D894-41D9-A0C1-5171A2FFA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11D0-CD41-4815-97D5-0083DDAD3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1F60-D293-4E24-A05A-5F909FF70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93C2-BDB8-4A29-9F0F-5F6037BC3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332A-345F-4F28-8471-B65271D4A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B99E-D8CF-49CC-BB9C-6BE63CAB7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E40E-8133-46CB-84E5-B05A46278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5033-9127-4612-B1F0-AAB9ED3A2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2E8C-FD2C-4544-B503-3257B563C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4BC2-CDB4-42F4-A2E1-498C246D3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5535720"/>
            <a:ext cx="9145440" cy="132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6ba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2280" y="60199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ABF0-4B4E-4FF2-86BB-8FEB860FE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Working with PV and SDHW modules in ESP-r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art Loman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vember 2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In ESP-r, a PV module is situated on an existing zon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V construction is physically linked to the thermal solution domain since it is a surface in a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or a PV rack on a flat roof, must build dummy zone to represent th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General Procedure for specifying PV in ESP-r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transparent construction to represent PV com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special material component to link the TMC zone surface to the PV calcula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DC node in an electrical network and connect the PV array to the DC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77360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9880" y="99072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16040" indent="-173160">
              <a:lnSpc>
                <a:spcPct val="10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ee /tester/test_suite/pv_example or /tester/test_suite/bld_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 transparent construction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8861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7590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3080" y="1371600"/>
            <a:ext cx="2286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Optical property s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Direct transmission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olar absorptivities of Silicium layer drive PV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rmal domain solver assumes solar absorbed is turned entirely into h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1576440"/>
            <a:ext cx="2095560" cy="204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676520"/>
            <a:ext cx="121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495680"/>
            <a:ext cx="327672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alibri"/>
              </a:rPr>
              <a:t>*.tmc</a:t>
            </a: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 file holds PV solar optical properties just like for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pecial materials component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Create PV special materials component in pr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zone composition menu -&gt; integrated 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HOT3000 uses WATSUN-PV model (special material type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alibri"/>
              </a:rPr>
              <a:t>Refer to [1] or source code for WATSUN-PV model description and input paramete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ook for subroutine SPMCMP5 in esrubld/spmatl.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A special materials file is crea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 special materials file tag in the model configuration (cfg) file is </a:t>
            </a: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*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0773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914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implest network: 1 DC node and one PV connect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87352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" y="350532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2743200"/>
            <a:ext cx="1524240" cy="9144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8620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152424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3051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97188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– sample file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ectrical network file tag in model configuration file is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*p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286600" cy="53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Refer to [2] for a description of the SDHW model and see example: /tester/test_suite/plt_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Unlike the DHW model, SDHW is modeled as an explicit plant network in ESP-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ee ESP-r cook-book for a good tutorial on plant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lant control functions actuate the pumps in the system based on sensed tank and collector proper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The DHW draw profile is modeled as a dummy plant component. The draw profile can be changed by editing the plant component.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91440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2800" indent="-15048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HOT3000 input screen for 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13200" y="1460520"/>
            <a:ext cx="5178240" cy="34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- fil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del files required for SDHW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pln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plant network file holds component description and data, component connections and component containments (if plant components are situated in a thermal zone then the UA heat losses are represented as zone casual g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ctl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contains all control functions for building, plant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914400"/>
            <a:ext cx="3200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figuration model </a:t>
            </a: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(*.cfg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) cha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54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4916520"/>
            <a:ext cx="4429080" cy="14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352760" y="3700440"/>
            <a:ext cx="2667240" cy="184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1800" y="6051600"/>
            <a:ext cx="3752640" cy="330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Referenc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1] Mottillo, M., Beausoleil-Morrison, I., Couture, L., Poissant, Y., “ A Comparison and Validation of Two Photovoltaic Models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2] Haddad, K., Purdy, J., Sibbitt, B., “Simulation of Residential Solar DHW Systems in HOT3000 Software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41:55Z</dcterms:created>
  <dc:creator>comm branch NRCan User</dc:creator>
  <dc:description/>
  <dc:language>en-US</dc:language>
  <cp:lastModifiedBy>blomanow</cp:lastModifiedBy>
  <dcterms:modified xsi:type="dcterms:W3CDTF">2009-11-26T14:33:15Z</dcterms:modified>
  <cp:revision>28</cp:revision>
  <dc:subject/>
  <dc:title>PowerPoint Presentation</dc:title>
</cp:coreProperties>
</file>