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96864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49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5160" cy="46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968640" y="8763120"/>
            <a:ext cx="3035520" cy="46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CA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9BF20F2-000E-4478-B76A-5F5B4B1795F1}" type="slidenum">
              <a:rPr b="0" lang="en-CA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7652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8640" y="8763120"/>
            <a:ext cx="30355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1D46171-E024-4CEF-BFD5-1685869D8E39}" type="slidenum">
              <a:rPr b="0" lang="en-CA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8640" y="8763120"/>
            <a:ext cx="30355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47B5468-2E61-450D-94DC-64A3A8030809}" type="slidenum">
              <a:rPr b="0" lang="en-CA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0200" y="4381200"/>
            <a:ext cx="56037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8640" y="8763120"/>
            <a:ext cx="30355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B971B73-8D6C-4E73-887D-082C37424B6B}" type="slidenum">
              <a:rPr b="0" lang="en-CA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88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31600" y="4365360"/>
            <a:ext cx="51354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200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84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56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500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56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500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428760"/>
            <a:ext cx="83217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84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200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84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56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5000" y="138384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56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5000" y="4122000"/>
            <a:ext cx="26755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28760"/>
            <a:ext cx="8321760" cy="20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840" y="412200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840" y="1383840"/>
            <a:ext cx="40550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2000"/>
            <a:ext cx="831024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7"/>
          <p:cNvSpPr/>
          <p:nvPr/>
        </p:nvSpPr>
        <p:spPr>
          <a:xfrm flipH="1">
            <a:off x="437760" y="809640"/>
            <a:ext cx="8325000" cy="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1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90520" indent="-290520"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90520" indent="-290520"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6"/>
          <p:cNvSpPr/>
          <p:nvPr/>
        </p:nvSpPr>
        <p:spPr>
          <a:xfrm flipV="1">
            <a:off x="447840" y="745920"/>
            <a:ext cx="8324640" cy="2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2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5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6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8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90520" indent="-290520"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90520" indent="-290520">
              <a:spcBef>
                <a:spcPts val="104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esp-r.net/espr/svn_dem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6720" y="3117600"/>
            <a:ext cx="8226720" cy="86652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for ESP-r developer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 control solution (2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76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79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1" name="AutoShape 9"/>
          <p:cNvCxnSpPr>
            <a:stCxn id="176" idx="2"/>
            <a:endCxn id="182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82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4"/>
            <p:cNvSpPr/>
            <p:nvPr/>
          </p:nvSpPr>
          <p:spPr>
            <a:xfrm>
              <a:off x="6801480" y="5194440"/>
              <a:ext cx="451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15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1590480" y="1152360"/>
            <a:ext cx="60508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She must first update her local copy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with the most recent version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 control solution (3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91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5"/>
            <p:cNvSpPr/>
            <p:nvPr/>
          </p:nvSpPr>
          <p:spPr>
            <a:xfrm>
              <a:off x="4237560" y="3041640"/>
              <a:ext cx="3740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94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6" name="AutoShape 9"/>
          <p:cNvCxnSpPr>
            <a:stCxn id="191" idx="2"/>
            <a:endCxn id="197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8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97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4"/>
            <p:cNvSpPr/>
            <p:nvPr/>
          </p:nvSpPr>
          <p:spPr>
            <a:xfrm>
              <a:off x="6801480" y="5194440"/>
              <a:ext cx="451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15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2657520" y="1152360"/>
            <a:ext cx="3978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after which she can 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contribute her chan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lingo (1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posito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archive of files, usually located on a remote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Working copy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cal copy of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part thereof, on your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lingo (2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heck-out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of copying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part thereof) on to your computer, thereby making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orking co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mmit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of copying modifications from you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orking co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ck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hange set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remental set of modifications added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uring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lingo (3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vi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que version of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A new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vi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made upon ever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Updat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of copying new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change s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usually contributed by others) from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you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orking co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flic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 incompatibility between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hange-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posi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modifications in you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cal co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Conflicts usually arise when two developers edit the same line of source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lingo (4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runk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base-line”, or reference ver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ran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copy of part of the repository that allows alternate versions of files to exist concurr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870120" y="6321600"/>
            <a:ext cx="6378480" cy="9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812160" y="3413160"/>
            <a:ext cx="2206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tting Zoo Me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53920" y="6418440"/>
            <a:ext cx="3186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nk (Goats and rabbi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8"/>
          <p:cNvSpPr/>
          <p:nvPr/>
        </p:nvSpPr>
        <p:spPr>
          <a:xfrm>
            <a:off x="2676600" y="5145120"/>
            <a:ext cx="209520" cy="209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31"/>
          <p:cNvGrpSpPr/>
          <p:nvPr/>
        </p:nvGrpSpPr>
        <p:grpSpPr>
          <a:xfrm>
            <a:off x="1841400" y="3992400"/>
            <a:ext cx="6969240" cy="2386080"/>
            <a:chOff x="1841400" y="3992400"/>
            <a:chExt cx="6969240" cy="2386080"/>
          </a:xfrm>
        </p:grpSpPr>
        <p:sp>
          <p:nvSpPr>
            <p:cNvPr id="217" name="Oval 19"/>
            <p:cNvSpPr/>
            <p:nvPr/>
          </p:nvSpPr>
          <p:spPr>
            <a:xfrm>
              <a:off x="1841400" y="6202440"/>
              <a:ext cx="176400" cy="17604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AutoShape 22"/>
            <p:cNvCxnSpPr>
              <a:stCxn id="217" idx="0"/>
              <a:endCxn id="219" idx="1"/>
            </p:cNvCxnSpPr>
            <p:nvPr/>
          </p:nvCxnSpPr>
          <p:spPr>
            <a:xfrm flipH="1" flipV="1" rot="5400000">
              <a:off x="3596040" y="2476800"/>
              <a:ext cx="2059920" cy="5392080"/>
            </a:xfrm>
            <a:prstGeom prst="bentConnector2">
              <a:avLst/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  <p:sp>
          <p:nvSpPr>
            <p:cNvPr id="219" name="Text Box 23"/>
            <p:cNvSpPr/>
            <p:nvPr/>
          </p:nvSpPr>
          <p:spPr>
            <a:xfrm>
              <a:off x="7321680" y="3992400"/>
              <a:ext cx="14889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Jungle ca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30"/>
          <p:cNvGrpSpPr/>
          <p:nvPr/>
        </p:nvGrpSpPr>
        <p:grpSpPr>
          <a:xfrm>
            <a:off x="2435400" y="5389560"/>
            <a:ext cx="6462360" cy="996840"/>
            <a:chOff x="2435400" y="5389560"/>
            <a:chExt cx="6462360" cy="996840"/>
          </a:xfrm>
        </p:grpSpPr>
        <p:sp>
          <p:nvSpPr>
            <p:cNvPr id="221" name="Oval 24"/>
            <p:cNvSpPr/>
            <p:nvPr/>
          </p:nvSpPr>
          <p:spPr>
            <a:xfrm>
              <a:off x="2435400" y="6210360"/>
              <a:ext cx="176040" cy="17604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2" name="AutoShape 25"/>
            <p:cNvCxnSpPr>
              <a:stCxn id="221" idx="0"/>
              <a:endCxn id="223" idx="1"/>
            </p:cNvCxnSpPr>
            <p:nvPr/>
          </p:nvCxnSpPr>
          <p:spPr>
            <a:xfrm flipH="1" flipV="1" rot="5400000">
              <a:off x="4631040" y="3432240"/>
              <a:ext cx="670680" cy="4885560"/>
            </a:xfrm>
            <a:prstGeom prst="bentConnector2">
              <a:avLst/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  <p:sp>
          <p:nvSpPr>
            <p:cNvPr id="223" name="Text Box 26"/>
            <p:cNvSpPr/>
            <p:nvPr/>
          </p:nvSpPr>
          <p:spPr>
            <a:xfrm>
              <a:off x="7408800" y="5389560"/>
              <a:ext cx="14889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iant Squi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29"/>
          <p:cNvGrpSpPr/>
          <p:nvPr/>
        </p:nvGrpSpPr>
        <p:grpSpPr>
          <a:xfrm>
            <a:off x="3040200" y="4147920"/>
            <a:ext cx="5933880" cy="860760"/>
            <a:chOff x="3040200" y="4147920"/>
            <a:chExt cx="5933880" cy="860760"/>
          </a:xfrm>
        </p:grpSpPr>
        <p:sp>
          <p:nvSpPr>
            <p:cNvPr id="225" name="Text Box 27"/>
            <p:cNvSpPr/>
            <p:nvPr/>
          </p:nvSpPr>
          <p:spPr>
            <a:xfrm>
              <a:off x="7186680" y="4707000"/>
              <a:ext cx="17874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rizzly bear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6" name="AutoShape 28"/>
            <p:cNvCxnSpPr>
              <a:endCxn id="225" idx="1"/>
            </p:cNvCxnSpPr>
            <p:nvPr/>
          </p:nvCxnSpPr>
          <p:spPr>
            <a:xfrm>
              <a:off x="3040200" y="4147920"/>
              <a:ext cx="4147200" cy="710280"/>
            </a:xfrm>
            <a:prstGeom prst="bentConnector3">
              <a:avLst>
                <a:gd name="adj1" fmla="val 303"/>
              </a:avLst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ersioning control lingo (5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20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rg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of copying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hange s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on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ran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870120" y="6321600"/>
            <a:ext cx="6378480" cy="9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812160" y="3413160"/>
            <a:ext cx="2206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tting Zoo Me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865080" y="6396120"/>
            <a:ext cx="37148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nk (Elephants and Zebr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676600" y="5145120"/>
            <a:ext cx="209520" cy="209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8"/>
          <p:cNvGrpSpPr/>
          <p:nvPr/>
        </p:nvGrpSpPr>
        <p:grpSpPr>
          <a:xfrm>
            <a:off x="1841400" y="3992400"/>
            <a:ext cx="6969240" cy="2386080"/>
            <a:chOff x="1841400" y="3992400"/>
            <a:chExt cx="6969240" cy="2386080"/>
          </a:xfrm>
        </p:grpSpPr>
        <p:sp>
          <p:nvSpPr>
            <p:cNvPr id="234" name="Oval 9"/>
            <p:cNvSpPr/>
            <p:nvPr/>
          </p:nvSpPr>
          <p:spPr>
            <a:xfrm>
              <a:off x="1841400" y="6202440"/>
              <a:ext cx="176400" cy="17604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5" name="AutoShape 10"/>
            <p:cNvCxnSpPr>
              <a:stCxn id="234" idx="0"/>
              <a:endCxn id="236" idx="1"/>
            </p:cNvCxnSpPr>
            <p:nvPr/>
          </p:nvCxnSpPr>
          <p:spPr>
            <a:xfrm flipH="1" flipV="1" rot="5400000">
              <a:off x="3596040" y="2476800"/>
              <a:ext cx="2059920" cy="5392080"/>
            </a:xfrm>
            <a:prstGeom prst="bentConnector2">
              <a:avLst/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  <p:sp>
          <p:nvSpPr>
            <p:cNvPr id="236" name="Text Box 11"/>
            <p:cNvSpPr/>
            <p:nvPr/>
          </p:nvSpPr>
          <p:spPr>
            <a:xfrm>
              <a:off x="7321680" y="3992400"/>
              <a:ext cx="14889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Jungle ca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12"/>
          <p:cNvGrpSpPr/>
          <p:nvPr/>
        </p:nvGrpSpPr>
        <p:grpSpPr>
          <a:xfrm>
            <a:off x="2435400" y="5389560"/>
            <a:ext cx="6462360" cy="996840"/>
            <a:chOff x="2435400" y="5389560"/>
            <a:chExt cx="6462360" cy="996840"/>
          </a:xfrm>
        </p:grpSpPr>
        <p:sp>
          <p:nvSpPr>
            <p:cNvPr id="238" name="Oval 13"/>
            <p:cNvSpPr/>
            <p:nvPr/>
          </p:nvSpPr>
          <p:spPr>
            <a:xfrm>
              <a:off x="2435400" y="6210360"/>
              <a:ext cx="176040" cy="17604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9" name="AutoShape 14"/>
            <p:cNvCxnSpPr>
              <a:stCxn id="238" idx="0"/>
              <a:endCxn id="240" idx="1"/>
            </p:cNvCxnSpPr>
            <p:nvPr/>
          </p:nvCxnSpPr>
          <p:spPr>
            <a:xfrm flipH="1" flipV="1" rot="5400000">
              <a:off x="4631040" y="3432240"/>
              <a:ext cx="670680" cy="4885560"/>
            </a:xfrm>
            <a:prstGeom prst="bentConnector2">
              <a:avLst/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  <p:sp>
          <p:nvSpPr>
            <p:cNvPr id="240" name="Text Box 15"/>
            <p:cNvSpPr/>
            <p:nvPr/>
          </p:nvSpPr>
          <p:spPr>
            <a:xfrm>
              <a:off x="7408800" y="5389560"/>
              <a:ext cx="14889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iant Squi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6"/>
          <p:cNvGrpSpPr/>
          <p:nvPr/>
        </p:nvGrpSpPr>
        <p:grpSpPr>
          <a:xfrm>
            <a:off x="3040200" y="4147920"/>
            <a:ext cx="5933880" cy="860760"/>
            <a:chOff x="3040200" y="4147920"/>
            <a:chExt cx="5933880" cy="860760"/>
          </a:xfrm>
        </p:grpSpPr>
        <p:sp>
          <p:nvSpPr>
            <p:cNvPr id="242" name="Text Box 17"/>
            <p:cNvSpPr/>
            <p:nvPr/>
          </p:nvSpPr>
          <p:spPr>
            <a:xfrm>
              <a:off x="7186680" y="4707000"/>
              <a:ext cx="17874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Grizzly bear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" name="AutoShape 18"/>
            <p:cNvCxnSpPr>
              <a:endCxn id="242" idx="1"/>
            </p:cNvCxnSpPr>
            <p:nvPr/>
          </p:nvCxnSpPr>
          <p:spPr>
            <a:xfrm>
              <a:off x="3040200" y="4147920"/>
              <a:ext cx="4147200" cy="710280"/>
            </a:xfrm>
            <a:prstGeom prst="bentConnector3">
              <a:avLst>
                <a:gd name="adj1" fmla="val 303"/>
              </a:avLst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</p:cxnSp>
      </p:grpSp>
      <p:sp>
        <p:nvSpPr>
          <p:cNvPr id="244" name="Line 19"/>
          <p:cNvSpPr/>
          <p:nvPr/>
        </p:nvSpPr>
        <p:spPr>
          <a:xfrm>
            <a:off x="5002200" y="3568680"/>
            <a:ext cx="0" cy="5508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5134680" y="3422520"/>
            <a:ext cx="1881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burg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2"/>
          <p:cNvSpPr/>
          <p:nvPr/>
        </p:nvSpPr>
        <p:spPr>
          <a:xfrm>
            <a:off x="5738760" y="4151160"/>
            <a:ext cx="0" cy="7066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ubvers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version is a versioning control tool. ‘svn’ is a robust command-line subversion cl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vn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checkou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&lt;remote-ur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vn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vn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commi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vn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updat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vn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merg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–c &lt;change-set&gt; &lt;remote-ur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Monkey"/>
          <p:cNvPicPr/>
          <p:nvPr/>
        </p:nvPicPr>
        <p:blipFill>
          <a:blip r:embed="rId1"/>
          <a:stretch/>
        </p:blipFill>
        <p:spPr>
          <a:xfrm>
            <a:off x="4581360" y="3375000"/>
            <a:ext cx="4762800" cy="35053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statistical theorem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50385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n infinite number of monkeys, on an infinite number of typewriters, will eventually produce the complete works of William Shakespeare, </a:t>
            </a:r>
            <a:r>
              <a:rPr b="1" i="1" lang="en-US" sz="2600" spc="-1" strike="noStrike">
                <a:solidFill>
                  <a:srgbClr val="ff3300"/>
                </a:solidFill>
                <a:latin typeface="Arial"/>
              </a:rPr>
              <a:t>provided they have a good versioning control system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VN demonstra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name: demosv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word:  demosvn_esp-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out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vn co </a:t>
            </a:r>
            <a:r>
              <a:rPr b="0" lang="en-US" sz="23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s://esp-r.net/espr/svn_demo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--username demosv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is versioning control,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d how do I use i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do I obtain ESP-r source cod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do I modify ESP-r source cod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do I contribute my changes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 the communit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dding new featur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1563840" y="2111400"/>
            <a:ext cx="67420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1619280" y="3133800"/>
            <a:ext cx="6686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1685880" y="4168800"/>
            <a:ext cx="66200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78120" y="18493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11240" y="284004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ment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35280" y="39974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Joe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 flipV="1">
            <a:off x="3200400" y="3209760"/>
            <a:ext cx="0" cy="914400"/>
          </a:xfrm>
          <a:prstGeom prst="line">
            <a:avLst/>
          </a:prstGeom>
          <a:ln cap="rnd" w="572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3208320" y="3133800"/>
            <a:ext cx="509760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17"/>
          <p:cNvGrpSpPr/>
          <p:nvPr/>
        </p:nvGrpSpPr>
        <p:grpSpPr>
          <a:xfrm>
            <a:off x="4191120" y="1990800"/>
            <a:ext cx="4109760" cy="1143000"/>
            <a:chOff x="4191120" y="1990800"/>
            <a:chExt cx="4109760" cy="1143000"/>
          </a:xfrm>
        </p:grpSpPr>
        <p:sp>
          <p:nvSpPr>
            <p:cNvPr id="264" name="Line 18"/>
            <p:cNvSpPr/>
            <p:nvPr/>
          </p:nvSpPr>
          <p:spPr>
            <a:xfrm flipV="1">
              <a:off x="4289400" y="2219400"/>
              <a:ext cx="0" cy="914400"/>
            </a:xfrm>
            <a:prstGeom prst="line">
              <a:avLst/>
            </a:prstGeom>
            <a:ln cap="rnd" w="57240">
              <a:solidFill>
                <a:srgbClr val="00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4346280" y="221940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Version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11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0"/>
            <p:cNvSpPr/>
            <p:nvPr/>
          </p:nvSpPr>
          <p:spPr>
            <a:xfrm>
              <a:off x="4267080" y="2111400"/>
              <a:ext cx="403380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21"/>
            <p:cNvSpPr/>
            <p:nvPr/>
          </p:nvSpPr>
          <p:spPr>
            <a:xfrm>
              <a:off x="4191120" y="1990800"/>
              <a:ext cx="228600" cy="228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22"/>
          <p:cNvGrpSpPr/>
          <p:nvPr/>
        </p:nvGrpSpPr>
        <p:grpSpPr>
          <a:xfrm>
            <a:off x="2362320" y="4168800"/>
            <a:ext cx="5935680" cy="1009440"/>
            <a:chOff x="2362320" y="4168800"/>
            <a:chExt cx="5935680" cy="1009440"/>
          </a:xfrm>
        </p:grpSpPr>
        <p:grpSp>
          <p:nvGrpSpPr>
            <p:cNvPr id="269" name="Group 23"/>
            <p:cNvGrpSpPr/>
            <p:nvPr/>
          </p:nvGrpSpPr>
          <p:grpSpPr>
            <a:xfrm>
              <a:off x="2362320" y="4168800"/>
              <a:ext cx="5935680" cy="945360"/>
              <a:chOff x="2362320" y="4168800"/>
              <a:chExt cx="5935680" cy="945360"/>
            </a:xfrm>
          </p:grpSpPr>
          <p:sp>
            <p:nvSpPr>
              <p:cNvPr id="270" name="Line 24"/>
              <p:cNvSpPr/>
              <p:nvPr/>
            </p:nvSpPr>
            <p:spPr>
              <a:xfrm flipV="1">
                <a:off x="2362320" y="4200120"/>
                <a:ext cx="0" cy="914040"/>
              </a:xfrm>
              <a:prstGeom prst="line">
                <a:avLst/>
              </a:prstGeom>
              <a:ln cap="rnd" w="57240">
                <a:solidFill>
                  <a:srgbClr val="0099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5"/>
              <p:cNvSpPr/>
              <p:nvPr/>
            </p:nvSpPr>
            <p:spPr>
              <a:xfrm>
                <a:off x="2362320" y="4168800"/>
                <a:ext cx="5935680" cy="0"/>
              </a:xfrm>
              <a:prstGeom prst="line">
                <a:avLst/>
              </a:prstGeom>
              <a:ln w="5724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Text Box 26"/>
            <p:cNvSpPr/>
            <p:nvPr/>
          </p:nvSpPr>
          <p:spPr>
            <a:xfrm>
              <a:off x="2440800" y="480996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New Fe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Line 38"/>
          <p:cNvSpPr/>
          <p:nvPr/>
        </p:nvSpPr>
        <p:spPr>
          <a:xfrm>
            <a:off x="1716120" y="5521320"/>
            <a:ext cx="66196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9"/>
          <p:cNvSpPr/>
          <p:nvPr/>
        </p:nvSpPr>
        <p:spPr>
          <a:xfrm>
            <a:off x="65160" y="534996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Jane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ynchronizing with development branch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"/>
          <p:cNvSpPr/>
          <p:nvPr/>
        </p:nvSpPr>
        <p:spPr>
          <a:xfrm>
            <a:off x="1563840" y="2111400"/>
            <a:ext cx="67420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"/>
          <p:cNvSpPr/>
          <p:nvPr/>
        </p:nvSpPr>
        <p:spPr>
          <a:xfrm>
            <a:off x="1619280" y="3133800"/>
            <a:ext cx="6686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1685880" y="4168800"/>
            <a:ext cx="66200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78120" y="18493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11240" y="284004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ment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35280" y="39974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Joe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 flipV="1">
            <a:off x="3200400" y="3209760"/>
            <a:ext cx="0" cy="914400"/>
          </a:xfrm>
          <a:prstGeom prst="line">
            <a:avLst/>
          </a:prstGeom>
          <a:ln cap="rnd" w="57240">
            <a:solidFill>
              <a:srgbClr val="00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>
            <a:off x="3208320" y="3133800"/>
            <a:ext cx="509760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4191120" y="1990800"/>
            <a:ext cx="4109760" cy="1143000"/>
            <a:chOff x="4191120" y="1990800"/>
            <a:chExt cx="4109760" cy="1143000"/>
          </a:xfrm>
        </p:grpSpPr>
        <p:sp>
          <p:nvSpPr>
            <p:cNvPr id="285" name="Line 12"/>
            <p:cNvSpPr/>
            <p:nvPr/>
          </p:nvSpPr>
          <p:spPr>
            <a:xfrm flipV="1">
              <a:off x="4289400" y="2219400"/>
              <a:ext cx="0" cy="914400"/>
            </a:xfrm>
            <a:prstGeom prst="line">
              <a:avLst/>
            </a:prstGeom>
            <a:ln cap="rnd" w="57240">
              <a:solidFill>
                <a:srgbClr val="00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3"/>
            <p:cNvSpPr/>
            <p:nvPr/>
          </p:nvSpPr>
          <p:spPr>
            <a:xfrm>
              <a:off x="4346280" y="221940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Version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11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4"/>
            <p:cNvSpPr/>
            <p:nvPr/>
          </p:nvSpPr>
          <p:spPr>
            <a:xfrm>
              <a:off x="4267080" y="2111400"/>
              <a:ext cx="403380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4191120" y="1990800"/>
              <a:ext cx="228600" cy="228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6"/>
          <p:cNvGrpSpPr/>
          <p:nvPr/>
        </p:nvGrpSpPr>
        <p:grpSpPr>
          <a:xfrm>
            <a:off x="2362320" y="4168800"/>
            <a:ext cx="5935680" cy="1009440"/>
            <a:chOff x="2362320" y="4168800"/>
            <a:chExt cx="5935680" cy="1009440"/>
          </a:xfrm>
        </p:grpSpPr>
        <p:grpSp>
          <p:nvGrpSpPr>
            <p:cNvPr id="290" name="Group 17"/>
            <p:cNvGrpSpPr/>
            <p:nvPr/>
          </p:nvGrpSpPr>
          <p:grpSpPr>
            <a:xfrm>
              <a:off x="2362320" y="4168800"/>
              <a:ext cx="5935680" cy="945360"/>
              <a:chOff x="2362320" y="4168800"/>
              <a:chExt cx="5935680" cy="945360"/>
            </a:xfrm>
          </p:grpSpPr>
          <p:sp>
            <p:nvSpPr>
              <p:cNvPr id="291" name="Line 18"/>
              <p:cNvSpPr/>
              <p:nvPr/>
            </p:nvSpPr>
            <p:spPr>
              <a:xfrm flipV="1">
                <a:off x="2362320" y="4200120"/>
                <a:ext cx="0" cy="914040"/>
              </a:xfrm>
              <a:prstGeom prst="line">
                <a:avLst/>
              </a:prstGeom>
              <a:ln cap="rnd" w="57240">
                <a:solidFill>
                  <a:srgbClr val="0099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19"/>
              <p:cNvSpPr/>
              <p:nvPr/>
            </p:nvSpPr>
            <p:spPr>
              <a:xfrm>
                <a:off x="2362320" y="4168800"/>
                <a:ext cx="5935680" cy="0"/>
              </a:xfrm>
              <a:prstGeom prst="line">
                <a:avLst/>
              </a:prstGeom>
              <a:ln w="5724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 Box 20"/>
            <p:cNvSpPr/>
            <p:nvPr/>
          </p:nvSpPr>
          <p:spPr>
            <a:xfrm>
              <a:off x="2440800" y="480996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New Fea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21"/>
          <p:cNvSpPr/>
          <p:nvPr/>
        </p:nvSpPr>
        <p:spPr>
          <a:xfrm>
            <a:off x="1716120" y="5521320"/>
            <a:ext cx="66196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65160" y="534996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Jane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25"/>
          <p:cNvGrpSpPr/>
          <p:nvPr/>
        </p:nvGrpSpPr>
        <p:grpSpPr>
          <a:xfrm>
            <a:off x="3939480" y="3193560"/>
            <a:ext cx="4383720" cy="2454480"/>
            <a:chOff x="3939480" y="3193560"/>
            <a:chExt cx="4383720" cy="2454480"/>
          </a:xfrm>
        </p:grpSpPr>
        <p:sp>
          <p:nvSpPr>
            <p:cNvPr id="297" name="Arc 23"/>
            <p:cNvSpPr/>
            <p:nvPr/>
          </p:nvSpPr>
          <p:spPr>
            <a:xfrm flipH="1" rot="17568000">
              <a:off x="4420080" y="3321360"/>
              <a:ext cx="1738080" cy="2198520"/>
            </a:xfrm>
            <a:custGeom>
              <a:avLst/>
              <a:gdLst/>
              <a:ahLst/>
              <a:rect l="l" t="t" r="r" b="b"/>
              <a:pathLst>
                <a:path fill="none" w="21389" h="21600">
                  <a:moveTo>
                    <a:pt x="0" y="0"/>
                  </a:moveTo>
                  <a:cubicBezTo>
                    <a:pt x="10765" y="0"/>
                    <a:pt x="19887" y="7927"/>
                    <a:pt x="21388" y="18588"/>
                  </a:cubicBezTo>
                </a:path>
                <a:path stroke="0" w="21389" h="21600">
                  <a:moveTo>
                    <a:pt x="0" y="0"/>
                  </a:moveTo>
                  <a:cubicBezTo>
                    <a:pt x="10765" y="0"/>
                    <a:pt x="19887" y="7927"/>
                    <a:pt x="21388" y="18588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57240">
              <a:solidFill>
                <a:srgbClr val="008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4"/>
            <p:cNvSpPr/>
            <p:nvPr/>
          </p:nvSpPr>
          <p:spPr>
            <a:xfrm>
              <a:off x="5648400" y="5519880"/>
              <a:ext cx="267480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32"/>
          <p:cNvGrpSpPr/>
          <p:nvPr/>
        </p:nvGrpSpPr>
        <p:grpSpPr>
          <a:xfrm>
            <a:off x="6033960" y="5526000"/>
            <a:ext cx="2291040" cy="914400"/>
            <a:chOff x="6033960" y="5526000"/>
            <a:chExt cx="2291040" cy="914400"/>
          </a:xfrm>
        </p:grpSpPr>
        <p:sp>
          <p:nvSpPr>
            <p:cNvPr id="300" name="Line 27"/>
            <p:cNvSpPr/>
            <p:nvPr/>
          </p:nvSpPr>
          <p:spPr>
            <a:xfrm flipV="1">
              <a:off x="6067440" y="5526000"/>
              <a:ext cx="0" cy="914400"/>
            </a:xfrm>
            <a:prstGeom prst="line">
              <a:avLst/>
            </a:prstGeom>
            <a:ln cap="rnd" w="57240">
              <a:solidFill>
                <a:srgbClr val="ff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9"/>
            <p:cNvSpPr/>
            <p:nvPr/>
          </p:nvSpPr>
          <p:spPr>
            <a:xfrm>
              <a:off x="6033960" y="5527800"/>
              <a:ext cx="2291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31"/>
            <p:cNvSpPr/>
            <p:nvPr/>
          </p:nvSpPr>
          <p:spPr>
            <a:xfrm>
              <a:off x="6165720" y="6021360"/>
              <a:ext cx="177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3300"/>
                  </a:solidFill>
                  <a:latin typeface="Arial"/>
                </a:rPr>
                <a:t>New Featu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-r results are sensiti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ing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incenti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A protocol helps ensure your changes do not interrupt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Quality assurance elemen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 guide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analy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bil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856800" y="4254480"/>
            <a:ext cx="7276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esru.strath.ac.uk/Programs/ESP-r_central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ocument, document, 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document!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Calculate the molar flow rate of each gas constitu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-------N2 in air and fuel flowing into FCPM does not re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dot_FCPMexh_N2 = chi_air_N2*Ndot_FCPM_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 + chi_fuel_N2*Ndot_FCPM_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-------Ar in air flowing into FCPM does not re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dot_FCPMexh_Ar = chi_air_Ar*Ndot_FCPM_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-------O2 in exhaust comes from fuel and excess 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dot_FCPMexh_O2 = chi_fuel_O2*Ndot_FCPM_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 + lambda_FCPM*Ndot_FCPM_O2_sto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7159680" y="1347840"/>
            <a:ext cx="183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ite published paper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Smith A and Jones B (1999), ‘Heat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Coefficient Correlations for  Building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Modelling’, Int. J. Heat and Mass Transfer, 38(8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pp856-88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Coefficient correlation for a wall with a radia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located under a window (Smith and J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C publication, Table 2, Equation 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c = 2.30*(dt**0.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323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Unix-like platforms for developmen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7280" indent="0">
              <a:spcBef>
                <a:spcPts val="104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ed Plat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0">
              <a:spcBef>
                <a:spcPts val="300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-276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u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0">
              <a:spcBef>
                <a:spcPts val="300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-276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0">
              <a:spcBef>
                <a:spcPts val="300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-276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x (Solar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0">
              <a:spcBef>
                <a:spcPts val="300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-276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0">
              <a:spcBef>
                <a:spcPts val="300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9320" indent="-2761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"/>
          <p:cNvSpPr/>
          <p:nvPr/>
        </p:nvSpPr>
        <p:spPr>
          <a:xfrm>
            <a:off x="2352600" y="2133720"/>
            <a:ext cx="657360" cy="4505040"/>
          </a:xfrm>
          <a:prstGeom prst="upDownArrow">
            <a:avLst>
              <a:gd name="adj1" fmla="val 50000"/>
              <a:gd name="adj2" fmla="val 136430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309600" y="2260440"/>
            <a:ext cx="1893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comm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213120" y="6270480"/>
            <a:ext cx="2142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Unrecomm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Use modern fortran exten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MPLICIT 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o while ( ... )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ourier New"/>
              </a:rPr>
              <a:t>GO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98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7"/>
          <p:cNvGrpSpPr/>
          <p:nvPr/>
        </p:nvGrpSpPr>
        <p:grpSpPr>
          <a:xfrm>
            <a:off x="279360" y="5440320"/>
            <a:ext cx="2199960" cy="897840"/>
            <a:chOff x="279360" y="5440320"/>
            <a:chExt cx="2199960" cy="897840"/>
          </a:xfrm>
        </p:grpSpPr>
        <p:sp>
          <p:nvSpPr>
            <p:cNvPr id="321" name="Line 5"/>
            <p:cNvSpPr/>
            <p:nvPr/>
          </p:nvSpPr>
          <p:spPr>
            <a:xfrm flipV="1">
              <a:off x="279360" y="5440320"/>
              <a:ext cx="2199960" cy="8978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6"/>
            <p:cNvSpPr/>
            <p:nvPr/>
          </p:nvSpPr>
          <p:spPr>
            <a:xfrm>
              <a:off x="407520" y="5508360"/>
              <a:ext cx="1956600" cy="7851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SP-r dependenci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3674880" cy="21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p/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/g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606920" y="1413000"/>
            <a:ext cx="41860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11/xorg &amp; head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xml2 &amp; head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xs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49280" y="4078440"/>
            <a:ext cx="367488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ta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ort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K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le: gcc 3.4.6 (gcc/g++/g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testing: gFortran 3.4.6 (gcc/g++/g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Fortran builds exhibit small, unexplained numerical differences (~2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ing gcc 3.2 on newer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-gcc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-gcc-32-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-gcc-32-g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-libf2c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Versioning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 to versioning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-r source cod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on and 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sub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ing ESP-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points for ESP-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What is versioning control?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ing control is a tool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s files and directories that change over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s old 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277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rationalize conflicting modifications from multiple contribu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ing problem (1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0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00" name="AutoShape 8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4424040" y="30416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1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03" name="AutoShape 12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2052360" y="51944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5" name="AutoShape 15"/>
          <p:cNvCxnSpPr>
            <a:stCxn id="100" idx="2"/>
            <a:endCxn id="103" idx="0"/>
          </p:cNvCxnSpPr>
          <p:nvPr/>
        </p:nvCxnSpPr>
        <p:spPr>
          <a:xfrm rot="5400000">
            <a:off x="2909520" y="3119400"/>
            <a:ext cx="896040" cy="23724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6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8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09" name="AutoShape 19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0"/>
            <p:cNvSpPr/>
            <p:nvPr/>
          </p:nvSpPr>
          <p:spPr>
            <a:xfrm>
              <a:off x="7034040" y="51944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1" name="AutoShape 21"/>
          <p:cNvCxnSpPr>
            <a:stCxn id="100" idx="2"/>
            <a:endCxn id="109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Text Box 22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2008080" y="1019160"/>
            <a:ext cx="505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First, John and Jane read the 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same file from a reposit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ing problem (2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16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5"/>
            <p:cNvSpPr/>
            <p:nvPr/>
          </p:nvSpPr>
          <p:spPr>
            <a:xfrm>
              <a:off x="4424040" y="30416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19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24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4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16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942480" y="1152360"/>
            <a:ext cx="72349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Next, John and Jane both make change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ing problem (3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30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5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33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AutoShape 9"/>
          <p:cNvCxnSpPr>
            <a:stCxn id="130" idx="2"/>
            <a:endCxn id="133" idx="0"/>
          </p:cNvCxnSpPr>
          <p:nvPr/>
        </p:nvCxnSpPr>
        <p:spPr>
          <a:xfrm rot="5400000">
            <a:off x="2909520" y="3119400"/>
            <a:ext cx="896040" cy="23724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6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39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4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6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1859400" y="1152360"/>
            <a:ext cx="5439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Jon contributes his change back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to the repository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ing problem (4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45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"/>
            <p:cNvSpPr/>
            <p:nvPr/>
          </p:nvSpPr>
          <p:spPr>
            <a:xfrm>
              <a:off x="4299480" y="3041640"/>
              <a:ext cx="311760" cy="301680"/>
            </a:xfrm>
            <a:prstGeom prst="rect">
              <a:avLst/>
            </a:prstGeom>
            <a:solidFill>
              <a:srgbClr val="c9d3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48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53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5" name="AutoShape 15"/>
          <p:cNvCxnSpPr>
            <a:stCxn id="145" idx="2"/>
            <a:endCxn id="153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6" name="Text Box 16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2166480" y="1152360"/>
            <a:ext cx="4825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followed shortly by Jane.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But her changes clobber hi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 version control solution (1)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60" name="AutoShape 4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5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6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63" name="AutoShape 7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5" name="AutoShape 9"/>
          <p:cNvCxnSpPr>
            <a:endCxn id="166" idx="0"/>
          </p:cNvCxnSpPr>
          <p:nvPr/>
        </p:nvCxnSpPr>
        <p:spPr>
          <a:xfrm>
            <a:off x="5486400" y="4314600"/>
            <a:ext cx="1667520" cy="43884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7" name="Text Box 10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2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66" name="AutoShape 13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4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5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1823400" y="1152360"/>
            <a:ext cx="55465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Versioning control prevents J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from overwriting the chan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5250960" y="4114800"/>
            <a:ext cx="2552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02:20:58Z</dcterms:created>
  <dc:creator>Scott Cairney</dc:creator>
  <dc:description/>
  <dc:language>en-US</dc:language>
  <cp:lastModifiedBy>jon@esru.strath.ac.uk</cp:lastModifiedBy>
  <cp:lastPrinted>2001-11-26T16:15:26Z</cp:lastPrinted>
  <dcterms:modified xsi:type="dcterms:W3CDTF">2019-10-22T09:34:33Z</dcterms:modified>
  <cp:revision>354</cp:revision>
  <dc:subject>PCC Public Site</dc:subject>
  <dc:title>PCC V2 Proposal</dc:title>
</cp:coreProperties>
</file>