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F6C1-9660-440F-B398-3AF8903E3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F5F5-9D7A-4321-A612-DE65DA183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31E6-35AB-405C-A506-E2BBA512B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6D42-BDB7-489B-A499-5D80394444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4970-77BE-4970-8E2D-A0495BC2A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DBE5-D355-437B-B069-55441C17C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BCFC-4425-4613-8AEA-30B14BF83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6340-F0FA-4119-BE56-B1B0D1FC2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B5D0-2899-448D-A60D-90F81E89F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86F8-B312-4B02-8F5F-8CAC0568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35D6-2D2A-4C09-A455-06CB45913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4750-C087-4BAE-9305-A9075D911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5535720"/>
            <a:ext cx="9145440" cy="132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6ba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0199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0513-3E2C-48DF-9CA5-532F00FD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Working with PV and SDHW modules in ESP-r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art Lomanow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vember 2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In ESP-r, a PV module is situated on an existing zone 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V construction is physically linked to the thermal solution domain since it is a surface in a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or a PV rack on a flat roof, must build dummy zone to represent th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General Procedure for specifying PV in ESP-r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transparent construction to represent PV 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special material component to link the TMC zone surface to the PV calcula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Create a DC node in an electrical network and connect the PV array to the DC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77360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809880" y="990720"/>
            <a:ext cx="381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16040" indent="-173160">
              <a:lnSpc>
                <a:spcPct val="10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ee /tester/test_suite/pv_example or /tester/test_suite/bld_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PV transparent construction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28861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33920" y="914400"/>
            <a:ext cx="27590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3080" y="1371600"/>
            <a:ext cx="2286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Optical property s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Direct transmission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Solar absorptivities of Silicium layer drive PV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rmal domain solver assumes solar absorbed is turned entirely into h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1576440"/>
            <a:ext cx="2095560" cy="204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676520"/>
            <a:ext cx="12193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09680" y="4495680"/>
            <a:ext cx="3276720" cy="165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487692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alibri"/>
              </a:rPr>
              <a:t>*.tmc</a:t>
            </a: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 file holds PV solar optical properties just like for w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pecial materials component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Create PV special materials component in prj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zone composition menu -&gt; integrated renew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HOT3000 uses WATSUN-PV model (special material type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alibri"/>
              </a:rPr>
              <a:t>Refer to [1] or source code for WATSUN-PV model description and input parameter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ook for subroutine SPMCMP5 in esrubld/spmatl.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A special materials file is crea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80000"/>
              </a:lnSpc>
              <a:spcBef>
                <a:spcPts val="349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he special materials file tag in the model configuration (cfg) file is </a:t>
            </a:r>
            <a:r>
              <a:rPr b="0" i="1" lang="en-CA" sz="1400" spc="-1" strike="noStrike">
                <a:solidFill>
                  <a:srgbClr val="000000"/>
                </a:solidFill>
                <a:latin typeface="Calibri"/>
              </a:rPr>
              <a:t>*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80773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9144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implest network: 1 DC node and one PV connected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287352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350532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24080" y="2743200"/>
            <a:ext cx="1524240" cy="9144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86200"/>
            <a:ext cx="26668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038480"/>
            <a:ext cx="152424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3051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4114800"/>
            <a:ext cx="397188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Electrical network – sample file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ectrical network file tag in model configuration file is </a:t>
            </a: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*p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2866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Refer to [2] for a description of the SDHW model and see example: /tester/test_suite/plt_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Unlike the DHW model, SDHW is modeled as an explicit plant network in ESP-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See ESP-r cook-book for a good tutorial on plant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Plant control functions actuate the pumps in the system based on sensed tank and collector proper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171360">
              <a:lnSpc>
                <a:spcPct val="9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The DHW draw profile is modeled as a dummy plant component. The draw profile can be changed by editing the plant component.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914400"/>
            <a:ext cx="380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22800" indent="-15048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HOT3000 input screen for SD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13200" y="1460520"/>
            <a:ext cx="5178240" cy="34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SDHW - fil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del files required for SDHW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pln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plant network file holds component description and data, component connections and component containments (if plant components are situated in a thermal zone then the UA heat losses are represented as zone casual ga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173160">
              <a:lnSpc>
                <a:spcPct val="100000"/>
              </a:lnSpc>
              <a:spcBef>
                <a:spcPts val="400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Calibri"/>
              </a:rPr>
              <a:t>*.ctl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 – contains all control functions for building, plant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914400"/>
            <a:ext cx="3200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171360">
              <a:lnSpc>
                <a:spcPct val="100000"/>
              </a:lnSpc>
              <a:spcBef>
                <a:spcPts val="451"/>
              </a:spcBef>
              <a:buClr>
                <a:srgbClr val="0e6b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Configuration model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(*.cfg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) cha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5400" cy="26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4916520"/>
            <a:ext cx="4429080" cy="14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352760" y="3700440"/>
            <a:ext cx="2667240" cy="184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1800" y="6051600"/>
            <a:ext cx="3752640" cy="3301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e6ba1"/>
                </a:solidFill>
                <a:latin typeface="Tahoma"/>
              </a:rPr>
              <a:t>References </a:t>
            </a:r>
            <a:endParaRPr b="1" lang="en-US" sz="3200" spc="-1" strike="noStrike">
              <a:solidFill>
                <a:srgbClr val="0e6ba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1] Mottillo, M., Beausoleil-Morrison, I., Couture, L., Poissant, Y., “ A Comparison and Validation of Two Photovoltaic Models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[2] Haddad, K., Purdy, J., Sibbitt, B., “Simulation of Residential Solar DHW Systems in HOT3000 Software”, eSim 20?? presum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3:41:55Z</dcterms:created>
  <dc:creator>comm branch NRCan User</dc:creator>
  <dc:description/>
  <dc:language>en-US</dc:language>
  <cp:lastModifiedBy>blomanow</cp:lastModifiedBy>
  <dcterms:modified xsi:type="dcterms:W3CDTF">2009-11-26T14:33:15Z</dcterms:modified>
  <cp:revision>28</cp:revision>
  <dc:subject/>
  <dc:title>PowerPoint Presentation</dc:title>
</cp:coreProperties>
</file>