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005600" cy="9223200"/>
          </a:xfrm>
          <a:custGeom>
            <a:avLst/>
            <a:gdLst>
              <a:gd name="textAreaLeft" fmla="*/ 360 w 7005600"/>
              <a:gd name="textAreaRight" fmla="*/ 7005240 w 7005600"/>
              <a:gd name="textAreaTop" fmla="*/ 360 h 9223200"/>
              <a:gd name="textAreaBottom" fmla="*/ 9222840 h 9223200"/>
            </a:gdLst>
            <a:ahLst/>
            <a:rect l="textAreaLeft" t="textAreaTop" r="textAreaRight" b="textAreaBottom"/>
            <a:pathLst>
              <a:path w="21600" h="28437">
                <a:moveTo>
                  <a:pt x="4" y="0"/>
                </a:moveTo>
                <a:arcTo wR="4" hR="4" stAng="16200000" swAng="-5400000"/>
                <a:lnTo>
                  <a:pt x="0" y="28433"/>
                </a:lnTo>
                <a:arcTo wR="4" hR="4" stAng="10800000" swAng="-5400000"/>
                <a:lnTo>
                  <a:pt x="21596" y="2843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005600" cy="9223200"/>
          </a:xfrm>
          <a:custGeom>
            <a:avLst/>
            <a:gdLst>
              <a:gd name="textAreaLeft" fmla="*/ 360 w 7005600"/>
              <a:gd name="textAreaRight" fmla="*/ 7005240 w 7005600"/>
              <a:gd name="textAreaTop" fmla="*/ 360 h 9223200"/>
              <a:gd name="textAreaBottom" fmla="*/ 9222840 h 9223200"/>
            </a:gdLst>
            <a:ahLst/>
            <a:rect l="textAreaLeft" t="textAreaTop" r="textAreaRight" b="textAreaBottom"/>
            <a:pathLst>
              <a:path w="21600" h="28437">
                <a:moveTo>
                  <a:pt x="4" y="0"/>
                </a:moveTo>
                <a:arcTo wR="4" hR="4" stAng="16200000" swAng="-5400000"/>
                <a:lnTo>
                  <a:pt x="0" y="28433"/>
                </a:lnTo>
                <a:arcTo wR="4" hR="4" stAng="10800000" swAng="-5400000"/>
                <a:lnTo>
                  <a:pt x="21596" y="2843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968280" y="0"/>
            <a:ext cx="303228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95200" y="692280"/>
            <a:ext cx="460980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31600" y="4365720"/>
            <a:ext cx="5133960" cy="4146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-360" y="8763120"/>
            <a:ext cx="3032280" cy="457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968280" y="8763120"/>
            <a:ext cx="3032280" cy="457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BCBB7-CC04-452C-A8DD-0D76B27ADD95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6880" y="4473720"/>
            <a:ext cx="1123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195560" y="692280"/>
            <a:ext cx="4613040" cy="34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73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73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2760" y="412128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840" y="138384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3560" y="138384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840" y="412128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3560" y="412128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73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73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852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73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2760" y="412128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73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73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73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2760" y="412128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4840" y="138384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3560" y="138384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4840" y="412128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3560" y="4121280"/>
            <a:ext cx="2674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73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8520" cy="20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7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2760" y="412128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2760" y="1383840"/>
            <a:ext cx="40539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73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434880" y="809640"/>
            <a:ext cx="8331120" cy="1440"/>
          </a:xfrm>
          <a:prstGeom prst="line">
            <a:avLst/>
          </a:prstGeom>
          <a:ln w="19080">
            <a:solidFill>
              <a:srgbClr val="b399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5760" y="1383840"/>
            <a:ext cx="830736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47840" y="742680"/>
            <a:ext cx="8324640" cy="3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1060560"/>
            <a:ext cx="9145440" cy="5797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971800" cy="382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400800" y="4929120"/>
            <a:ext cx="2176560" cy="1700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440" y="2831760"/>
            <a:ext cx="6791400" cy="1606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38160" y="6126120"/>
            <a:ext cx="1398600" cy="345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7280" indent="-287280">
              <a:lnSpc>
                <a:spcPct val="87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6720" y="2832120"/>
            <a:ext cx="8226720" cy="86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upling TRNSYS Components to ESP-r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12760" y="3610080"/>
            <a:ext cx="656244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ex Ferguson &amp; Weimin W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 23,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SP-r Plant Componen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310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DATA 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Component total mass (k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=    300.00        Range (Min Max):     1.0000        100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DATA 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Firing signal (on/of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additional output parameters:   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dditional output 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urner output (W)              Type :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The TRNSYS Wrapper in Plant DB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3284640"/>
            <a:ext cx="8310600" cy="27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ur approach is to establish </a:t>
            </a: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ON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dummy ESP-r component in the database file for TRNSYS wrap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87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elds of node scheme description, miscellaneous data, ADATA, CDATA, and additional outputs have dummy values in the database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87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ctual, meaningful values are provided in a text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052640"/>
            <a:ext cx="8310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566640" indent="-387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wrapper aims to be generi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6640" indent="-387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nodes, connections, and parameters cannot be fixed beforehand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6640" indent="-387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 fun to work with the plant databas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The TRNSYS Wrapper in Plant DB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484280"/>
            <a:ext cx="83106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566640" indent="-387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lant component no 8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6640" indent="-387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and have a loo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566640" indent="-387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CA" sz="2800" spc="-1" strike="noStrike">
                <a:solidFill>
                  <a:srgbClr val="ff0000"/>
                </a:solidFill>
                <a:latin typeface="Arial"/>
              </a:rPr>
              <a:t>Warning: out of prj control 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ESP-r Coefficients Matri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63640" y="2205000"/>
            <a:ext cx="1440000" cy="2303640"/>
          </a:xfrm>
          <a:prstGeom prst="ellipse">
            <a:avLst/>
          </a:prstGeom>
          <a:solidFill>
            <a:srgbClr val="ffcc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2060640"/>
            <a:ext cx="1081080" cy="1008000"/>
          </a:xfrm>
          <a:prstGeom prst="ellipse">
            <a:avLst/>
          </a:prstGeom>
          <a:solidFill>
            <a:srgbClr val="00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2205000"/>
            <a:ext cx="865080" cy="2160720"/>
          </a:xfrm>
          <a:prstGeom prst="ellipse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835280" y="2349360"/>
            <a:ext cx="5184720" cy="2592360"/>
            <a:chOff x="1835280" y="2349360"/>
            <a:chExt cx="5184720" cy="2592360"/>
          </a:xfrm>
        </p:grpSpPr>
        <p:sp>
          <p:nvSpPr>
            <p:cNvPr id="124" name=""/>
            <p:cNvSpPr/>
            <p:nvPr/>
          </p:nvSpPr>
          <p:spPr>
            <a:xfrm>
              <a:off x="1835280" y="2421000"/>
              <a:ext cx="72720" cy="1512720"/>
            </a:xfrm>
            <a:custGeom>
              <a:avLst/>
              <a:gdLst>
                <a:gd name="textAreaLeft" fmla="*/ 21240 w 72720"/>
                <a:gd name="textAreaRight" fmla="*/ 73080 w 72720"/>
                <a:gd name="textAreaTop" fmla="*/ 63000 h 1512720"/>
                <a:gd name="textAreaBottom" fmla="*/ 1449720 h 15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11640" y="2421000"/>
              <a:ext cx="71280" cy="1511280"/>
            </a:xfrm>
            <a:custGeom>
              <a:avLst/>
              <a:gdLst>
                <a:gd name="textAreaLeft" fmla="*/ 0 w 71280"/>
                <a:gd name="textAreaRight" fmla="*/ 50040 w 71280"/>
                <a:gd name="textAreaTop" fmla="*/ 62640 h 1511280"/>
                <a:gd name="textAreaBottom" fmla="*/ 144864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79640" y="249228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68360" y="306864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68360" y="3645000"/>
              <a:ext cx="216000" cy="21564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5640"/>
                <a:gd name="textAreaBottom" fmla="*/ 12672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43280" y="3645000"/>
              <a:ext cx="216000" cy="21564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5640"/>
                <a:gd name="textAreaBottom" fmla="*/ 12672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3640" y="2349360"/>
              <a:ext cx="0" cy="1584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48000" y="249228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24360" y="249228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76720" y="2349360"/>
              <a:ext cx="71640" cy="2592360"/>
            </a:xfrm>
            <a:custGeom>
              <a:avLst/>
              <a:gdLst>
                <a:gd name="textAreaLeft" fmla="*/ 20880 w 71640"/>
                <a:gd name="textAreaRight" fmla="*/ 72000 w 71640"/>
                <a:gd name="textAreaTop" fmla="*/ 108000 h 2592360"/>
                <a:gd name="textAreaBottom" fmla="*/ 2484360 h 25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08720" y="2349360"/>
              <a:ext cx="71280" cy="2592360"/>
            </a:xfrm>
            <a:custGeom>
              <a:avLst/>
              <a:gdLst>
                <a:gd name="textAreaLeft" fmla="*/ 0 w 71280"/>
                <a:gd name="textAreaRight" fmla="*/ 50040 w 71280"/>
                <a:gd name="textAreaTop" fmla="*/ 108000 h 2592360"/>
                <a:gd name="textAreaBottom" fmla="*/ 2484360 h 25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19640" y="249228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19640" y="306864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19640" y="3645000"/>
              <a:ext cx="216000" cy="21564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5640"/>
                <a:gd name="textAreaBottom" fmla="*/ 12672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19640" y="414972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19640" y="465300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16720" y="2349360"/>
              <a:ext cx="71280" cy="1656000"/>
            </a:xfrm>
            <a:custGeom>
              <a:avLst/>
              <a:gdLst>
                <a:gd name="textAreaLeft" fmla="*/ 20880 w 71280"/>
                <a:gd name="textAreaRight" fmla="*/ 71640 w 71280"/>
                <a:gd name="textAreaTop" fmla="*/ 68760 h 1656000"/>
                <a:gd name="textAreaBottom" fmla="*/ 1587240 h 165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48360" y="2349360"/>
              <a:ext cx="71640" cy="1656000"/>
            </a:xfrm>
            <a:custGeom>
              <a:avLst/>
              <a:gdLst>
                <a:gd name="textAreaLeft" fmla="*/ 0 w 71640"/>
                <a:gd name="textAreaRight" fmla="*/ 50400 w 71640"/>
                <a:gd name="textAreaTop" fmla="*/ 68760 h 1656000"/>
                <a:gd name="textAreaBottom" fmla="*/ 1587240 h 165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59640" y="249228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59640" y="306864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59640" y="3645000"/>
              <a:ext cx="216000" cy="21564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5640"/>
                <a:gd name="textAreaBottom" fmla="*/ 12672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00720" y="29973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67280" y="2997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619280" y="1341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Self coeffici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1341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Cross coeffici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27640" y="1341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RHS coeffici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88000" y="522936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State variabl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oefficient Generator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310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inpu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urpose of coefficient generator aims at producing the following 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pu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fficients C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outputs PCA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erent Modelling Approach of TRNSY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31060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1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tial Modelling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inputs, a TRNSYS components will produce the outputs for state variab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RNSYS Wrapper’s Coefficients Matrix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37080" y="2205000"/>
            <a:ext cx="865440" cy="2016000"/>
          </a:xfrm>
          <a:prstGeom prst="ellipse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2421000"/>
            <a:ext cx="72720" cy="1512720"/>
          </a:xfrm>
          <a:custGeom>
            <a:avLst/>
            <a:gdLst>
              <a:gd name="textAreaLeft" fmla="*/ 21240 w 72720"/>
              <a:gd name="textAreaRight" fmla="*/ 73080 w 72720"/>
              <a:gd name="textAreaTop" fmla="*/ 63000 h 1512720"/>
              <a:gd name="textAreaBottom" fmla="*/ 14497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421000"/>
            <a:ext cx="71280" cy="1511280"/>
          </a:xfrm>
          <a:custGeom>
            <a:avLst/>
            <a:gdLst>
              <a:gd name="textAreaLeft" fmla="*/ 0 w 71280"/>
              <a:gd name="textAreaRight" fmla="*/ 50040 w 71280"/>
              <a:gd name="textAreaTop" fmla="*/ 62640 h 1511280"/>
              <a:gd name="textAreaBottom" fmla="*/ 1448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2349360"/>
            <a:ext cx="71280" cy="1656000"/>
          </a:xfrm>
          <a:custGeom>
            <a:avLst/>
            <a:gdLst>
              <a:gd name="textAreaLeft" fmla="*/ 20880 w 71280"/>
              <a:gd name="textAreaRight" fmla="*/ 71640 w 71280"/>
              <a:gd name="textAreaTop" fmla="*/ 68760 h 1656000"/>
              <a:gd name="textAreaBottom" fmla="*/ 158724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2349360"/>
            <a:ext cx="73080" cy="1656000"/>
          </a:xfrm>
          <a:custGeom>
            <a:avLst/>
            <a:gdLst>
              <a:gd name="textAreaLeft" fmla="*/ 0 w 73080"/>
              <a:gd name="textAreaRight" fmla="*/ 51480 w 73080"/>
              <a:gd name="textAreaTop" fmla="*/ 68760 h 1656000"/>
              <a:gd name="textAreaBottom" fmla="*/ 15872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84720" y="249228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84720" y="306864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84720" y="3645000"/>
            <a:ext cx="216000" cy="21564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5640"/>
              <a:gd name="textAreaBottom" fmla="*/ 1267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1800" y="2349360"/>
            <a:ext cx="71280" cy="1656000"/>
          </a:xfrm>
          <a:custGeom>
            <a:avLst/>
            <a:gdLst>
              <a:gd name="textAreaLeft" fmla="*/ 20880 w 71280"/>
              <a:gd name="textAreaRight" fmla="*/ 71640 w 71280"/>
              <a:gd name="textAreaTop" fmla="*/ 68760 h 1656000"/>
              <a:gd name="textAreaBottom" fmla="*/ 158724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13440" y="2349360"/>
            <a:ext cx="71280" cy="1656000"/>
          </a:xfrm>
          <a:custGeom>
            <a:avLst/>
            <a:gdLst>
              <a:gd name="textAreaLeft" fmla="*/ 0 w 71280"/>
              <a:gd name="textAreaRight" fmla="*/ 50040 w 71280"/>
              <a:gd name="textAreaTop" fmla="*/ 68760 h 1656000"/>
              <a:gd name="textAreaBottom" fmla="*/ 158724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4360" y="249228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24360" y="306864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24360" y="3645000"/>
            <a:ext cx="216000" cy="21564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5640"/>
              <a:gd name="textAreaBottom" fmla="*/ 1267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5440" y="299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32360" y="2997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19280" y="1341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Self coeffici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134136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RHS coeffici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134136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State variabl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79640" y="2421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2924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71640" y="3500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3640" y="2205000"/>
            <a:ext cx="1584360" cy="2087640"/>
          </a:xfrm>
          <a:prstGeom prst="ellipse">
            <a:avLst/>
          </a:prstGeom>
          <a:solidFill>
            <a:srgbClr val="ffcc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4436640"/>
            <a:ext cx="8310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682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 coefficients are entity matr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682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ross coefficients exist even if the component has external conn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682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S coefficients are TRNSYS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oefficient Generator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31060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we can see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efficients (COUT) will be known once the TRNSYS component generates its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ESP-r outputs (PCAOUT) will be selected from the TRNSYS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3860640"/>
            <a:ext cx="83106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631800" indent="-27792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he wrapper’s task includ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repare the input for the coupled TRNSYS compon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all this TRNSYS subroutin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Map TRNSYS outputs to COUT and PCAO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TRNSYS Typ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560" y="1384200"/>
            <a:ext cx="871380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lnSpc>
                <a:spcPct val="87000"/>
              </a:lnSpc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TYPEn(TIME,XIN,OUT,T,DTDT,PAR,INFO,ICNTRL,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ula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TD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riv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CNT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3960"/>
                <a:tab algn="l" pos="63180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ternate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TRNSYS Inputs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310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s are those parameters that might change with simulation time. Potential input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variables (temperature,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hase flow rate) associated with the connected inflow fl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vironment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outputs of other plant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efined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848360" cy="18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120000"/>
              </a:lnSpc>
              <a:spcBef>
                <a:spcPts val="1301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earn the use of a wrapper to couple TRNSYS components to ESP-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TRNSYS Parameters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310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s do not change with simulation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efined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rmal physical properties (e.g., density and specific heat) that vary wit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environment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TRNSYS Outputs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3106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normally many outputs for a TRNSYS components. What we are interested most is to map these TRNSYS outputs to ESP-r’s coefficient generator outpu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T, states variables for leaving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7920">
              <a:lnSpc>
                <a:spcPct val="11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ed additional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Unit Issues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31060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units may be employed by ESP-r and TRNSYS in their inputs and outputs. For example, flow rate has the uni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g/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ESP-r while it is usual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g/h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RNS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042920" y="3645000"/>
            <a:ext cx="7058160" cy="2520720"/>
            <a:chOff x="1042920" y="3645000"/>
            <a:chExt cx="7058160" cy="2520720"/>
          </a:xfrm>
        </p:grpSpPr>
        <p:sp>
          <p:nvSpPr>
            <p:cNvPr id="193" name=""/>
            <p:cNvSpPr/>
            <p:nvPr/>
          </p:nvSpPr>
          <p:spPr>
            <a:xfrm>
              <a:off x="1042920" y="4221000"/>
              <a:ext cx="3168720" cy="13687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CA" sz="2400" spc="-1" strike="noStrike">
                  <a:solidFill>
                    <a:srgbClr val="ffffff"/>
                  </a:solidFill>
                  <a:latin typeface="Arial"/>
                </a:rPr>
                <a:t>ESP-r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32360" y="4221000"/>
              <a:ext cx="3168720" cy="13687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CA" sz="2400" spc="-1" strike="noStrike">
                  <a:solidFill>
                    <a:srgbClr val="ffffff"/>
                  </a:solidFill>
                  <a:latin typeface="Arial"/>
                </a:rPr>
                <a:t>TRNSYS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43280" y="5589720"/>
              <a:ext cx="3673440" cy="576000"/>
            </a:xfrm>
            <a:custGeom>
              <a:avLst/>
              <a:gdLst>
                <a:gd name="textAreaLeft" fmla="*/ 642600 w 3673440"/>
                <a:gd name="textAreaRight" fmla="*/ 2663280 w 3673440"/>
                <a:gd name="textAreaTop" fmla="*/ 77040 h 576000"/>
                <a:gd name="textAreaBottom" fmla="*/ 49896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0800000">
              <a:off x="2842920" y="3645000"/>
              <a:ext cx="3600360" cy="576000"/>
            </a:xfrm>
            <a:custGeom>
              <a:avLst/>
              <a:gdLst>
                <a:gd name="textAreaLeft" fmla="*/ 630000 w 3600360"/>
                <a:gd name="textAreaRight" fmla="*/ 2610360 w 3600360"/>
                <a:gd name="textAreaTop" fmla="*/ 77040 h 576000"/>
                <a:gd name="textAreaBottom" fmla="*/ 49896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Unit Conversion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310600" cy="20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Approach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bjectiveUnit = sourceUnit * A +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multiplicat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addit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3573360"/>
            <a:ext cx="8310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Approach 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cod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E1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E2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E3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nput File: General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2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text file is named as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trnsysInput?.tx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Indicates the serial number of that TRNSYS component in the plant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text file must be located at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../trnsy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le has the same formats as other ESP-r input text fi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words are case sen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major sections including component configuration, parameters, inputs, derivatives and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omponent Configur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49636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NSYS-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  ?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mponent-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des-Numbe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  ?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de-Conne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?[I],?[I],...,?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Nodes-Number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riable-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  ?[I],?[I],...,?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Nodes-Number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Node Connection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4360" y="1413000"/>
            <a:ext cx="7559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0 : expected number of  receiving connec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=0 : no entering or leaving external connections allow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: only leaving connections allow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08360" y="3213000"/>
            <a:ext cx="4680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1: water in heat exchang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de connection  = 1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2: outlet water for supp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de connection = 1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99640" y="3357720"/>
            <a:ext cx="2088000" cy="2519280"/>
            <a:chOff x="899640" y="3357720"/>
            <a:chExt cx="2088000" cy="2519280"/>
          </a:xfrm>
        </p:grpSpPr>
        <p:sp>
          <p:nvSpPr>
            <p:cNvPr id="208" name=""/>
            <p:cNvSpPr/>
            <p:nvPr/>
          </p:nvSpPr>
          <p:spPr>
            <a:xfrm>
              <a:off x="1619280" y="4076640"/>
              <a:ext cx="865080" cy="144144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00000" y="378936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1763640" y="4724280"/>
              <a:ext cx="216000" cy="577800"/>
              <a:chOff x="1763640" y="4724280"/>
              <a:chExt cx="216000" cy="577800"/>
            </a:xfrm>
          </p:grpSpPr>
          <p:sp>
            <p:nvSpPr>
              <p:cNvPr id="211" name=""/>
              <p:cNvSpPr/>
              <p:nvPr/>
            </p:nvSpPr>
            <p:spPr>
              <a:xfrm>
                <a:off x="1763640" y="4724280"/>
                <a:ext cx="216000" cy="7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1763640" y="4795920"/>
                <a:ext cx="216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763640" y="4869000"/>
                <a:ext cx="216000" cy="7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1763640" y="4940280"/>
                <a:ext cx="216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63640" y="5013360"/>
                <a:ext cx="216000" cy="7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1763640" y="5084640"/>
                <a:ext cx="216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763640" y="5157720"/>
                <a:ext cx="216000" cy="7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1763640" y="5229360"/>
                <a:ext cx="216000" cy="72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1763640" y="378936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3640" y="5300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899640" y="5877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268360" y="544500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268360" y="371592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50920" y="3357720"/>
              <a:ext cx="936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87000"/>
                </a:lnSpc>
                <a:spcBef>
                  <a:spcPts val="1049"/>
                </a:spcBef>
                <a:tabLst>
                  <a:tab algn="l" pos="0"/>
                  <a:tab algn="l" pos="911160"/>
                  <a:tab algn="l" pos="1368360"/>
                  <a:tab algn="l" pos="1825560"/>
                  <a:tab algn="l" pos="2282760"/>
                  <a:tab algn="l" pos="2739960"/>
                  <a:tab algn="l" pos="3197160"/>
                  <a:tab algn="l" pos="3654360"/>
                  <a:tab algn="l" pos="4111560"/>
                  <a:tab algn="l" pos="4568760"/>
                  <a:tab algn="l" pos="5025960"/>
                  <a:tab algn="l" pos="5483160"/>
                  <a:tab algn="l" pos="5940360"/>
                  <a:tab algn="l" pos="6397560"/>
                  <a:tab algn="l" pos="6854760"/>
                  <a:tab algn="l" pos="7311960"/>
                  <a:tab algn="l" pos="7769160"/>
                  <a:tab algn="l" pos="8226360"/>
                  <a:tab algn="l" pos="8683560"/>
                  <a:tab algn="l" pos="914076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upply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987640" y="5273640"/>
            <a:ext cx="561672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Other schemes are workable but may be not reasonable 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Variable Typ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1197000"/>
            <a:ext cx="84960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SV value that defines nodal fluid type &amp; coefficient generator model capabiliti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V=0,10,20 node represents wat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V=1,11,21 node represents dry air + water vapou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V=9,19,29 node represents some solid material on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&lt;=ISV&lt;10  model suitable for energy balance on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&lt;=ISV&lt;20  model suitable for energy + single phase mass bala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&lt;=ISV&lt;30  model suitable for energy + two phase mass balan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arameter Section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rameters,     ?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, description, type(=Y or N), type-dependent-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9280" y="3068640"/>
            <a:ext cx="590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D, description,  Y,  ?[R]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2, tank volume, Y, 0.3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arameter Section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47640" y="5516640"/>
            <a:ext cx="6480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0, fluid density, N, -2, 6, DN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1484280"/>
            <a:ext cx="648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,  description, N, ?[I], ?[I], ?[C*3]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2565360"/>
            <a:ext cx="3960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0: environment temperatu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0: properties that change due to the receiving temp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0: properties that change not due to the receiving temp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56000" y="2492280"/>
            <a:ext cx="4537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44600" indent="-4446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446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: specific heat of dry ai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44600" indent="-4446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446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: specific heat of water    vapou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44600" indent="-4446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446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: specific heat of wat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44600" indent="-4446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446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 : density of dry ai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44600" indent="-4446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446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: density of water vapou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44600" indent="-4446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446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 : density of wat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44600" indent="-4446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446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 : environment temperatu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8232600">
            <a:off x="2836800" y="2003040"/>
            <a:ext cx="935280" cy="355680"/>
          </a:xfrm>
          <a:prstGeom prst="rightArrow">
            <a:avLst>
              <a:gd name="adj1" fmla="val 50000"/>
              <a:gd name="adj2" fmla="val 6573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815200">
            <a:off x="4615920" y="1969560"/>
            <a:ext cx="936720" cy="355680"/>
          </a:xfrm>
          <a:prstGeom prst="rightArrow">
            <a:avLst>
              <a:gd name="adj1" fmla="val 50000"/>
              <a:gd name="adj2" fmla="val 6584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hen and Why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0872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l for a required component does not exist in the base program (ESP-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isting model is not adequate for a specific stu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ave time and financial re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nput Section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puts,     ?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, description, type, type-dependent-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9280" y="2708280"/>
            <a:ext cx="878544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upporting Typ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3 :outdoor temperatu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, 1st input description, -3, TE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2 :control variab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, 1st input description, -2, 2, DM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1 :environment temperatu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, 1st input description, -1, TE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 :user fixed valu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, 1st input description,  0, 35.8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nput Section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9280" y="1484280"/>
            <a:ext cx="8785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upporting Typ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:temperature of a receiving connection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, 1st input description, 1, 2, 1, TE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3500280"/>
            <a:ext cx="8785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:first phase mass flow rate of a receiving connec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, 1st input description, 2, 2, 1, MF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:second phase mass flow rate of a receiving connec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, 1st input description, 3, 2, 1, MF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 :additional output of a plant compon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1, 1st input description, 4, 3, 2, EN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64000" y="2924280"/>
            <a:ext cx="201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nked nod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51640" y="2924280"/>
            <a:ext cx="201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pling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8139600">
            <a:off x="4787640" y="2565360"/>
            <a:ext cx="492120" cy="355680"/>
          </a:xfrm>
          <a:prstGeom prst="rightArrow">
            <a:avLst>
              <a:gd name="adj1" fmla="val 50000"/>
              <a:gd name="adj2" fmla="val 3459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3266400">
            <a:off x="5656320" y="2560320"/>
            <a:ext cx="492120" cy="355680"/>
          </a:xfrm>
          <a:prstGeom prst="rightArrow">
            <a:avLst>
              <a:gd name="adj1" fmla="val 50000"/>
              <a:gd name="adj2" fmla="val 3459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erivative Section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7840" y="1557000"/>
            <a:ext cx="62643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rivatives, ?[I], ?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3645000"/>
            <a:ext cx="5113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,   ?[R]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90560" y="2349360"/>
            <a:ext cx="201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Number of derivativ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67280" y="2349360"/>
            <a:ext cx="37432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itialization method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0 : set by ESP-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1 : set by us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9280" y="4508640"/>
            <a:ext cx="8569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 algn="ctr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 the current stage, the derivatives are assumed to represent temperature in oC onl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8139600">
            <a:off x="2266200" y="1915920"/>
            <a:ext cx="492120" cy="355320"/>
          </a:xfrm>
          <a:prstGeom prst="rightArrow">
            <a:avLst>
              <a:gd name="adj1" fmla="val 50000"/>
              <a:gd name="adj2" fmla="val 34625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3266400">
            <a:off x="3638160" y="1913040"/>
            <a:ext cx="492120" cy="355320"/>
          </a:xfrm>
          <a:prstGeom prst="rightArrow">
            <a:avLst>
              <a:gd name="adj1" fmla="val 50000"/>
              <a:gd name="adj2" fmla="val 34625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utput Section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puts,  ?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, description, ?[I], ?[C*3],  ?[I], ?[C*3], ?[I], C*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58920" y="3357720"/>
            <a:ext cx="87850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eger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tion &gt; 0, map to TRNSYS outpu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tion &lt; 0, map to TRNSYS inpu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tion = 0, map to zer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3280" y="2708280"/>
            <a:ext cx="180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temperatu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19640" y="2708280"/>
            <a:ext cx="15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2000" spc="-1" strike="noStrike" baseline="30000">
                <a:solidFill>
                  <a:srgbClr val="3333cc"/>
                </a:solidFill>
                <a:latin typeface="Courier New"/>
              </a:rPr>
              <a:t>st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phase mas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236000" y="2708280"/>
            <a:ext cx="151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1000"/>
          </a:bodyPr>
          <a:p>
            <a:pPr marL="217080" indent="-21708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000" spc="-1" strike="noStrike" baseline="30000">
                <a:solidFill>
                  <a:srgbClr val="3333cc"/>
                </a:solidFill>
                <a:latin typeface="Courier New"/>
              </a:rPr>
              <a:t>nd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phase mas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8360" y="5084640"/>
            <a:ext cx="820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000" spc="-1" strike="noStrike">
                <a:solidFill>
                  <a:srgbClr val="ff0000"/>
                </a:solidFill>
                <a:latin typeface="Courier New"/>
              </a:rPr>
              <a:t>2, 2nd node, 5, TE1,  -10, MF1,  0, MF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3474720" y="2006280"/>
            <a:ext cx="358920" cy="1044720"/>
          </a:xfrm>
          <a:prstGeom prst="rightArrowCallout">
            <a:avLst>
              <a:gd name="adj1" fmla="val 72775"/>
              <a:gd name="adj2" fmla="val 72768"/>
              <a:gd name="adj3" fmla="val 16667"/>
              <a:gd name="adj4" fmla="val 66667"/>
            </a:avLst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5706720" y="2006280"/>
            <a:ext cx="358920" cy="1044720"/>
          </a:xfrm>
          <a:prstGeom prst="rightArrowCallout">
            <a:avLst>
              <a:gd name="adj1" fmla="val 72775"/>
              <a:gd name="adj2" fmla="val 72768"/>
              <a:gd name="adj3" fmla="val 16667"/>
              <a:gd name="adj4" fmla="val 66667"/>
            </a:avLst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7722720" y="2006640"/>
            <a:ext cx="358920" cy="1044360"/>
          </a:xfrm>
          <a:prstGeom prst="rightArrowCallout">
            <a:avLst>
              <a:gd name="adj1" fmla="val 72750"/>
              <a:gd name="adj2" fmla="val 72743"/>
              <a:gd name="adj3" fmla="val 16667"/>
              <a:gd name="adj4" fmla="val 66667"/>
            </a:avLst>
          </a:prstGeom>
          <a:solidFill>
            <a:srgbClr val="00b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utput Section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itional-Outputs,  ?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,      description,    ?[I],    ?[C*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16360" y="2924280"/>
            <a:ext cx="360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TRNSYS output posi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0920" y="3573360"/>
            <a:ext cx="820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xampl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2,  2nd additional output description,  15,  PW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5400000">
            <a:off x="4065840" y="2423160"/>
            <a:ext cx="503280" cy="355320"/>
          </a:xfrm>
          <a:prstGeom prst="rightArrow">
            <a:avLst>
              <a:gd name="adj1" fmla="val 50000"/>
              <a:gd name="adj2" fmla="val 3541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Related Source Files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1294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srucom/readTrnsys.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cetc/trnsys_wrapper.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cetc/trnsys_lib.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sruplt/trstyp.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nclude/trnsys.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CA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1294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k through sourc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8200"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cessary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4000" y="2421000"/>
            <a:ext cx="1944720" cy="244800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508720" y="2708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29080" y="2708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556000" y="458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508720" y="458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00000" y="2492280"/>
            <a:ext cx="165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, 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,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00000" y="4365720"/>
            <a:ext cx="16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, 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,o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16720" y="2492280"/>
            <a:ext cx="165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, 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,o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588000" y="4365720"/>
            <a:ext cx="165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68200" indent="-268200">
              <a:lnSpc>
                <a:spcPct val="87000"/>
              </a:lnSpc>
              <a:spcBef>
                <a:spcPts val="1049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, T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,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ank Parameter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63272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ume: 32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ight: 1.8 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: cylindr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t loss factor:  0.1 W/m2/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t capacitance of fluid: 4200 J/kg/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mal conductivity of fluid: 0.58 W/m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thermal conductivity: 0 W/m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sity of fluid: 1000 kg/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ment temperature: 5 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iven Condition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63272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l tank temperature: 30 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36 L/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,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50 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,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0 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oupling Strategies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1163160"/>
            <a:ext cx="835164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7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and executable simulation programs co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7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mmunicate with each other at ru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7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distributed simulation in lit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7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imulation program ex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75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ogram contains component models from other simulation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589720"/>
            <a:ext cx="835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7280" indent="-287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Reuse at different level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ossible Bug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63272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ompatible compi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756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756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supported features such as modules and array operation as a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756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supporte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rippl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756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global variables   </a:t>
            </a:r>
            <a:r>
              <a:rPr b="1" lang="en-CA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i="1" lang="en-CA" sz="2400" spc="-1" strike="noStrike">
                <a:solidFill>
                  <a:srgbClr val="3333cc"/>
                </a:solidFill>
                <a:latin typeface="Arial"/>
              </a:rPr>
              <a:t>trnsys.h</a:t>
            </a:r>
            <a:r>
              <a:rPr b="1" lang="en-CA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756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utility functions   </a:t>
            </a:r>
            <a:r>
              <a:rPr b="1" lang="en-CA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i="1" lang="en-CA" sz="2400" spc="-1" strike="noStrike">
                <a:solidFill>
                  <a:srgbClr val="3333cc"/>
                </a:solidFill>
                <a:latin typeface="Arial"/>
              </a:rPr>
              <a:t>trnsys_lib.F</a:t>
            </a:r>
            <a:r>
              <a:rPr b="1" lang="en-CA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756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ubrouti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3272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y gfortran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ide and conq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patien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3400" spc="-1" strike="noStrike">
                <a:solidFill>
                  <a:srgbClr val="000000"/>
                </a:solidFill>
                <a:latin typeface="Arial"/>
              </a:rPr>
              <a:t>TRNSYS Simulatio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400720" cy="457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8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3400" spc="-1" strike="noStrike">
                <a:solidFill>
                  <a:srgbClr val="000000"/>
                </a:solidFill>
                <a:latin typeface="Arial"/>
              </a:rPr>
              <a:t>Results Comparison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rcRect l="2873" t="4454" r="2045" b="3344"/>
          <a:stretch/>
        </p:blipFill>
        <p:spPr>
          <a:xfrm>
            <a:off x="324000" y="1197000"/>
            <a:ext cx="8569080" cy="45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CA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4360" y="2420640"/>
            <a:ext cx="763272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 algn="ctr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ents  &amp;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Your Help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1360" indent="-4413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nd test the wra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nd correct the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 the scope from plant to electrical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st case without copyrigh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332000" y="5300640"/>
            <a:ext cx="676728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41360" indent="-44136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i="1" lang="en-US" sz="3200" spc="-1" strike="noStrike">
                <a:solidFill>
                  <a:srgbClr val="3333cc"/>
                </a:solidFill>
                <a:latin typeface="Arial"/>
              </a:rPr>
              <a:t>weiwang@nrcan.gc.c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Internal Coupling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5760" y="1384200"/>
            <a:ext cx="83102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he component model to be coupled into a subroutine of the host simulation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code needs to be avail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rapper is designed to ease the coupling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you still have to work on the source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hy TRNSYS ?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5760" y="130788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, modular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code available for end-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many components commonly found in thermal and electrical energ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in modelling solar energ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Review of ESP-r Plant Modelling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310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ct val="12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ous modelling techn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 matrix structure depend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756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trix structure for each plant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7756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nections among plant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 matrix structure is known prior to simulation for a well-defined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run time, the simulation fills the matrix with coefficients and solve the state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Review of ESP-r Plant Modelling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310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ing a new plant component requir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try in the plant data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(a type in TRNSYS libr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broutine to check the validity of its definition in the plant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(Initialization call and TIME=TIME0 manipul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broutine to generate the required coeffici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(Every time step manipul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ESP-r Plant Component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310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nent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ic type     : gas-fired water tank with 2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cription      : 3-node tank for charging by residential fuel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ertion date   : 19 Oct 01 11: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ype: Single component                    Component code :    8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Nodal Scheme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ber of nodes  :   3      No of nonzero matrix elements :    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rix positions :   1,   5,   8,   9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 connections :   2,   0,   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able type    :  20,  21,  2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iscellaneou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87000"/>
              </a:lnSpc>
              <a:spcBef>
                <a:spcPts val="1049"/>
              </a:spcBef>
              <a:buNone/>
              <a:tabLst>
                <a:tab algn="l" pos="0"/>
                <a:tab algn="l" pos="287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ata items   :  14    Bdata items   :   0    Cdata items   :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helpdsk</cp:lastModifiedBy>
  <dcterms:modified xsi:type="dcterms:W3CDTF">2007-11-20T15:56:34Z</dcterms:modified>
  <cp:revision>37</cp:revision>
  <dc:subject/>
  <dc:title>PCC V2 Proposal</dc:title>
</cp:coreProperties>
</file>