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25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20.wmf" ContentType="image/x-wmf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56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7005600" cy="9223200"/>
          </a:xfrm>
          <a:custGeom>
            <a:avLst/>
            <a:gdLst>
              <a:gd name="textAreaLeft" fmla="*/ 360 w 7005600"/>
              <a:gd name="textAreaRight" fmla="*/ 7005240 w 7005600"/>
              <a:gd name="textAreaTop" fmla="*/ 360 h 9223200"/>
              <a:gd name="textAreaBottom" fmla="*/ 9222840 h 9223200"/>
            </a:gdLst>
            <a:ahLst/>
            <a:rect l="textAreaLeft" t="textAreaTop" r="textAreaRight" b="textAreaBottom"/>
            <a:pathLst>
              <a:path w="21600" h="28437">
                <a:moveTo>
                  <a:pt x="4" y="0"/>
                </a:moveTo>
                <a:arcTo wR="4" hR="4" stAng="16200000" swAng="-5400000"/>
                <a:lnTo>
                  <a:pt x="0" y="28433"/>
                </a:lnTo>
                <a:arcTo wR="4" hR="4" stAng="10800000" swAng="-5400000"/>
                <a:lnTo>
                  <a:pt x="21596" y="2843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968280" y="-360"/>
            <a:ext cx="303372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160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1600" y="4365720"/>
            <a:ext cx="5135400" cy="4147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96828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3B58E-AC9D-4D1D-8B8F-4847377E17E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76880" y="4473720"/>
            <a:ext cx="1123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30699-4346-4F04-A854-6DE2114DEE5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BEC87-8160-49AB-8605-0CE94AA3085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E18CE-7C95-4CE1-B8C8-AA65A87283E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0204B-C6A9-477D-A201-79C0514C220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67DDE-F85A-4087-B6CC-B9EA0D6D1D2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8081E-55F8-4527-B97B-8292972B6997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5D662-DFFD-45E3-91A6-48F7930F1E03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7AC00-A89F-45E0-8E5B-EF69E27692A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02DC8-22C4-4873-A79A-74BE553F3A0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32F30-7B97-453C-9A4E-4E47B2E8193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D8F89-598D-41AE-8A30-4F0FD5D2A522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DCF39-2997-4442-96AD-7DF6805DCAE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D8A1D-BBA6-4680-8B19-091087DC532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01C91-D13A-4A0C-BF5C-AA229A2D92E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74290-5170-4FC4-B28C-719BD1A2C3A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CC71E-579F-4581-B14A-14710A40DBE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F1FC1-61F4-47F3-BA9A-52EE0347C38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ADBE9-B6C1-4D3D-ACE8-4552D57A43E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52A22-E299-4E33-8916-158422B185B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30513-1ACE-494B-98EE-315543EC0D7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712E0-1160-4722-A69C-6833DBC076E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AF89B-312F-4978-8C24-F1526CD9F5B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B9019-9AD0-4110-B6E2-018E530C0DDC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08CD8-4441-4FDD-B499-1029F41E52D3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CDF40-1914-41A5-87A1-5BC8CFFAB3D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5981D-2138-4827-B540-1D30B0B02AD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C6AF9-AD2F-4EB5-95DC-A0C31E691D4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113A8-5074-4475-B26A-9D3A803476E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FACB2-B893-4234-BF21-119AA09B7AE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13607-270A-4839-B5B9-61ECE0B1D337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4D2D0-EABF-4B5D-921B-1877D42AF91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2EA3B-0129-4526-8FA2-9C8AD25327B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A1A50-C16B-433D-AED8-8CFF29B9FBC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F7D6E-7BAA-43BD-AE87-57ED4035B3E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F349F-FD32-46A8-8A30-485B147F602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70EB4-6105-4FBA-9AE3-B7C664256A1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1307F-FEE8-4C93-97E6-48338BE66E95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B1D7E-699B-485B-BA89-F8E9C077488A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DDD68-3B9A-4BCC-96B8-E1F89DBD42F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9DAB9-C3E6-4E2C-A304-7A37DCD650E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ADF07-ACEF-4758-A914-19DBDB3703A4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8D1E4-D4B8-4B77-BED9-10F76157DDA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89138-3FEC-47C1-8FE7-95B43B049A9D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11C04-4476-484C-9A06-4108C1594CC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4D674-2BB3-4A25-BA2C-6026D2CD894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DA9D0-77C8-49D1-B9F5-42F37EA2BB7B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34CB7-35E1-4D7E-BE84-F6F0F0DE37FE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7BCA6-5C09-406F-84DF-4764ABE776D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4AD43-84E7-4F13-9463-39F64E889908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26EDC-3D87-41CA-BC9C-3E4C04223B8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EC38A-55E2-4615-B494-8636D1209FD1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B32FA-C050-482D-A81F-10AC39BBB700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6403E-5436-4633-8FFE-277E9173C939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572BC-A184-4E42-AE4D-B4B31C334503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FA4C0-DF8F-4C3A-97DE-99E0302C6416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8640" y="8763120"/>
            <a:ext cx="30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593C6-A57B-4A84-8A95-5EDA6E030C6F}" type="slidenum">
              <a:rPr b="0" lang="en-GB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3040" cy="345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31960" y="4365360"/>
            <a:ext cx="51372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20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8384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20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4121280"/>
            <a:ext cx="267516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760"/>
            <a:ext cx="83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12128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383840"/>
            <a:ext cx="405468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4121280"/>
            <a:ext cx="8308800" cy="249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 flipH="1">
            <a:off x="436320" y="809640"/>
            <a:ext cx="8327880" cy="1440"/>
          </a:xfrm>
          <a:prstGeom prst="line">
            <a:avLst/>
          </a:prstGeom>
          <a:ln w="19080">
            <a:solidFill>
              <a:srgbClr val="b399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1383840"/>
            <a:ext cx="8308800" cy="52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 flipV="1">
            <a:off x="447840" y="744480"/>
            <a:ext cx="8324640" cy="31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1060560"/>
            <a:ext cx="9145440" cy="57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971800" cy="38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4"/>
          <a:stretch/>
        </p:blipFill>
        <p:spPr>
          <a:xfrm>
            <a:off x="6400800" y="4929120"/>
            <a:ext cx="21765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440" y="2831760"/>
            <a:ext cx="6792840" cy="160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5"/>
          <a:stretch/>
        </p:blipFill>
        <p:spPr>
          <a:xfrm>
            <a:off x="938160" y="6126120"/>
            <a:ext cx="1398600" cy="345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9080" indent="-289080">
              <a:lnSpc>
                <a:spcPct val="93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192480"/>
            <a:ext cx="6794640" cy="86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n Introduction to ESP-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 HOT3000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73160" y="1047600"/>
            <a:ext cx="7164360" cy="55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 Daylight 1-2-3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820800" y="1063800"/>
            <a:ext cx="7513560" cy="53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Capabilit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"/>
          <p:cNvSpPr/>
          <p:nvPr/>
        </p:nvSpPr>
        <p:spPr>
          <a:xfrm>
            <a:off x="2149560" y="2850120"/>
            <a:ext cx="130644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elop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3"/>
          <p:cNvSpPr/>
          <p:nvPr/>
        </p:nvSpPr>
        <p:spPr>
          <a:xfrm>
            <a:off x="4726440" y="3898080"/>
            <a:ext cx="145332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a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F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3746880" y="5097960"/>
            <a:ext cx="145332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2327400" y="4342320"/>
            <a:ext cx="151740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VAC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660240" y="3475800"/>
            <a:ext cx="151776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736560" y="1646640"/>
            <a:ext cx="151776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55760" y="955800"/>
            <a:ext cx="744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P-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466560" y="1362240"/>
            <a:ext cx="5896080" cy="527652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2612880" y="1456560"/>
            <a:ext cx="151776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660240" y="5056920"/>
            <a:ext cx="165132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ewab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2"/>
          <p:cNvSpPr/>
          <p:nvPr/>
        </p:nvSpPr>
        <p:spPr>
          <a:xfrm>
            <a:off x="3584520" y="2723400"/>
            <a:ext cx="1650960" cy="139500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l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13"/>
          <p:cNvSpPr/>
          <p:nvPr/>
        </p:nvSpPr>
        <p:spPr>
          <a:xfrm>
            <a:off x="4504320" y="1440360"/>
            <a:ext cx="1740240" cy="14342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olation &amp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struction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7048440" y="1838160"/>
            <a:ext cx="16192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7010280" y="1352160"/>
            <a:ext cx="1857600" cy="1239480"/>
          </a:xfrm>
          <a:prstGeom prst="rect">
            <a:avLst/>
          </a:prstGeom>
          <a:noFill/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diance (daylighting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6953400" y="2819880"/>
            <a:ext cx="1857240" cy="1540800"/>
          </a:xfrm>
          <a:prstGeom prst="rect">
            <a:avLst/>
          </a:prstGeom>
          <a:noFill/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NSY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HVAC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7"/>
          <p:cNvSpPr/>
          <p:nvPr/>
        </p:nvSpPr>
        <p:spPr>
          <a:xfrm>
            <a:off x="6962760" y="4809600"/>
            <a:ext cx="1857240" cy="1239480"/>
          </a:xfrm>
          <a:prstGeom prst="rect">
            <a:avLst/>
          </a:prstGeom>
          <a:noFill/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lab (controls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6362640" y="54673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362640" y="354348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6381720" y="19717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Maturit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2150280" y="2850120"/>
            <a:ext cx="1306440" cy="1434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elop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727880" y="3898440"/>
            <a:ext cx="1453320" cy="13950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a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F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3747960" y="5097960"/>
            <a:ext cx="1453320" cy="1434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-zon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flow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2327400" y="4342320"/>
            <a:ext cx="1517400" cy="143424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VAC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660240" y="3476160"/>
            <a:ext cx="1517760" cy="1395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8"/>
          <p:cNvSpPr/>
          <p:nvPr/>
        </p:nvSpPr>
        <p:spPr>
          <a:xfrm>
            <a:off x="736560" y="1646640"/>
            <a:ext cx="1517760" cy="143424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55760" y="955800"/>
            <a:ext cx="744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P-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66560" y="1362240"/>
            <a:ext cx="5896080" cy="527652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2612880" y="1456560"/>
            <a:ext cx="1517760" cy="1395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or Air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660240" y="5057280"/>
            <a:ext cx="1651320" cy="139500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ewabl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3584520" y="2723400"/>
            <a:ext cx="1650960" cy="139500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l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4502520" y="1440360"/>
            <a:ext cx="1740240" cy="1434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olation &amp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struction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7048440" y="1838160"/>
            <a:ext cx="16192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7010280" y="1351800"/>
            <a:ext cx="1857600" cy="12394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diance (daylighting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953400" y="2820600"/>
            <a:ext cx="1857240" cy="15408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NSY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HVAC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6962760" y="4809600"/>
            <a:ext cx="1857240" cy="12394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lab (controls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6362640" y="54673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6362640" y="354348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6381720" y="1971720"/>
            <a:ext cx="619200" cy="14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Building domai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-r’s heat-balance 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retize in space by representing building fabric and internal zones with control volumes (CV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 heat balances for each C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taneously solve matrix of heat bal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27120" y="3549600"/>
            <a:ext cx="7840440" cy="311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Wind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006640" y="1303200"/>
            <a:ext cx="538776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Integrating other domai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80160" y="1371600"/>
            <a:ext cx="29858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 (HV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wer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404640" y="928800"/>
            <a:ext cx="528012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Additional capabiliti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lar shad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lar inso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l surface conv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ew factor calc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sual gains control (daylight contro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mperature-dependent material proper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age rende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ols: network air flow, setback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lant injections: radiant-slabs, convective heating, convective-radiative, etc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ol of optical proper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RNSYS coup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Explicit plant mode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5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Integraded CFD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2903400" cy="525780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1333440" y="2171880"/>
            <a:ext cx="3257640" cy="33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es ESP-r model building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What is ESP-r capable of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w do I model buildings in ESP-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276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Lighting simulation with Radian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324480" cy="4173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Structur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304920" y="961920"/>
            <a:ext cx="2438280" cy="533520"/>
          </a:xfrm>
          <a:prstGeom prst="flowChartAlternate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ject management fac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533520" y="2104920"/>
            <a:ext cx="1981080" cy="533520"/>
          </a:xfrm>
          <a:prstGeom prst="flowChartAlternate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imulation eng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380880" y="3247920"/>
            <a:ext cx="2438640" cy="609840"/>
          </a:xfrm>
          <a:prstGeom prst="flowChartAlternate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 recovery &amp; analy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533520" y="4314960"/>
            <a:ext cx="205740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3rd party graphing 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nalysis pack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3676680" y="1038240"/>
            <a:ext cx="1523880" cy="3808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3rd party C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3276720" y="286704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lant component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276720" y="347652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vent profiles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3276720" y="416232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Climatic time-series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3276720" y="477216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Temporal definitions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1"/>
          <p:cNvSpPr/>
          <p:nvPr/>
        </p:nvSpPr>
        <p:spPr>
          <a:xfrm>
            <a:off x="3276720" y="5457960"/>
            <a:ext cx="2057400" cy="2286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hading/insolation d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>
            <a:off x="1523880" y="149544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1523880" y="263844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1523880" y="385776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133200" y="1190520"/>
            <a:ext cx="1717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142920" y="1201680"/>
            <a:ext cx="144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152280" y="35528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8"/>
          <p:cNvSpPr/>
          <p:nvPr/>
        </p:nvSpPr>
        <p:spPr>
          <a:xfrm>
            <a:off x="914400" y="149544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3048120" y="56102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0"/>
          <p:cNvSpPr/>
          <p:nvPr/>
        </p:nvSpPr>
        <p:spPr>
          <a:xfrm>
            <a:off x="3048120" y="492444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1"/>
          <p:cNvSpPr/>
          <p:nvPr/>
        </p:nvSpPr>
        <p:spPr>
          <a:xfrm>
            <a:off x="3048120" y="43149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>
            <a:off x="3048120" y="36291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>
            <a:off x="3048120" y="301932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4"/>
          <p:cNvSpPr/>
          <p:nvPr/>
        </p:nvSpPr>
        <p:spPr>
          <a:xfrm>
            <a:off x="3048120" y="301932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5"/>
          <p:cNvSpPr/>
          <p:nvPr/>
        </p:nvSpPr>
        <p:spPr>
          <a:xfrm>
            <a:off x="4191120" y="309564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>
            <a:off x="4191120" y="3705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7"/>
          <p:cNvSpPr/>
          <p:nvPr/>
        </p:nvSpPr>
        <p:spPr>
          <a:xfrm>
            <a:off x="4191120" y="439092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4191120" y="500076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29"/>
          <p:cNvSpPr/>
          <p:nvPr/>
        </p:nvSpPr>
        <p:spPr>
          <a:xfrm>
            <a:off x="5943600" y="2867040"/>
            <a:ext cx="2971800" cy="3049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lant component db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5943600" y="3476520"/>
            <a:ext cx="2971800" cy="3049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vent profile db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31"/>
          <p:cNvSpPr/>
          <p:nvPr/>
        </p:nvSpPr>
        <p:spPr>
          <a:xfrm>
            <a:off x="5943600" y="4086360"/>
            <a:ext cx="2971800" cy="30456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Climate db analysis &amp;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32"/>
          <p:cNvSpPr/>
          <p:nvPr/>
        </p:nvSpPr>
        <p:spPr>
          <a:xfrm>
            <a:off x="5943600" y="4695840"/>
            <a:ext cx="2971800" cy="3049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Temporal def’ns db mana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3"/>
          <p:cNvSpPr/>
          <p:nvPr/>
        </p:nvSpPr>
        <p:spPr>
          <a:xfrm>
            <a:off x="5943600" y="5305320"/>
            <a:ext cx="2971800" cy="5335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xternal shading and intern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solation predi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34"/>
          <p:cNvSpPr/>
          <p:nvPr/>
        </p:nvSpPr>
        <p:spPr>
          <a:xfrm>
            <a:off x="5943600" y="6143760"/>
            <a:ext cx="2971800" cy="53316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Stand-alone mass flow so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amp; results reco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2752560" y="12096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36"/>
          <p:cNvSpPr/>
          <p:nvPr/>
        </p:nvSpPr>
        <p:spPr>
          <a:xfrm>
            <a:off x="6172200" y="317196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7"/>
          <p:cNvSpPr/>
          <p:nvPr/>
        </p:nvSpPr>
        <p:spPr>
          <a:xfrm>
            <a:off x="6172200" y="37814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8"/>
          <p:cNvSpPr/>
          <p:nvPr/>
        </p:nvSpPr>
        <p:spPr>
          <a:xfrm>
            <a:off x="6172200" y="439092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9"/>
          <p:cNvSpPr/>
          <p:nvPr/>
        </p:nvSpPr>
        <p:spPr>
          <a:xfrm>
            <a:off x="6172200" y="500076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0"/>
          <p:cNvSpPr/>
          <p:nvPr/>
        </p:nvSpPr>
        <p:spPr>
          <a:xfrm>
            <a:off x="5334120" y="301932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41"/>
          <p:cNvSpPr/>
          <p:nvPr/>
        </p:nvSpPr>
        <p:spPr>
          <a:xfrm>
            <a:off x="5334120" y="362916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2"/>
          <p:cNvSpPr/>
          <p:nvPr/>
        </p:nvSpPr>
        <p:spPr>
          <a:xfrm>
            <a:off x="5334120" y="423864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43"/>
          <p:cNvSpPr/>
          <p:nvPr/>
        </p:nvSpPr>
        <p:spPr>
          <a:xfrm>
            <a:off x="5334120" y="492444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44"/>
          <p:cNvSpPr/>
          <p:nvPr/>
        </p:nvSpPr>
        <p:spPr>
          <a:xfrm>
            <a:off x="5334120" y="561024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45"/>
          <p:cNvSpPr/>
          <p:nvPr/>
        </p:nvSpPr>
        <p:spPr>
          <a:xfrm>
            <a:off x="2514600" y="24861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6"/>
          <p:cNvSpPr/>
          <p:nvPr/>
        </p:nvSpPr>
        <p:spPr>
          <a:xfrm>
            <a:off x="2895480" y="2486160"/>
            <a:ext cx="180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7"/>
          <p:cNvSpPr/>
          <p:nvPr/>
        </p:nvSpPr>
        <p:spPr>
          <a:xfrm>
            <a:off x="2895480" y="6296040"/>
            <a:ext cx="3048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8"/>
          <p:cNvSpPr/>
          <p:nvPr/>
        </p:nvSpPr>
        <p:spPr>
          <a:xfrm>
            <a:off x="1619280" y="1581120"/>
            <a:ext cx="1085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robl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9"/>
          <p:cNvSpPr/>
          <p:nvPr/>
        </p:nvSpPr>
        <p:spPr>
          <a:xfrm>
            <a:off x="2133720" y="5686560"/>
            <a:ext cx="914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Mass fl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0"/>
          <p:cNvSpPr/>
          <p:nvPr/>
        </p:nvSpPr>
        <p:spPr>
          <a:xfrm>
            <a:off x="1600200" y="2695680"/>
            <a:ext cx="838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 datab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1581120" y="3914640"/>
            <a:ext cx="876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Ex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52"/>
          <p:cNvSpPr/>
          <p:nvPr/>
        </p:nvSpPr>
        <p:spPr>
          <a:xfrm>
            <a:off x="2514600" y="240984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53"/>
          <p:cNvSpPr/>
          <p:nvPr/>
        </p:nvSpPr>
        <p:spPr>
          <a:xfrm>
            <a:off x="3048120" y="240984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Availabilit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nary versions can be downloaded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esru.strath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rce code available through versioning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esru.strath.ac.uk/Programs/ESP-r_central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Resourc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esru.strath.ac.uk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mailing li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esru.strath.ac.uk/Programs/user_club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monstration and exercis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domain exerc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ng co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ng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ibuting su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ing bounda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sing air flow and internal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ing plant and controls ide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ing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z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onstructions databas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base of constructio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uctivity, density, and specific he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red emissivity and solar absorptiv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many standard materia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ily mod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base of multilayer co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yer-by-layer descrip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s materials from elements databa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y thickness of each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973160" y="5286240"/>
            <a:ext cx="4648320" cy="152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paque envelop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2381400" y="2171880"/>
            <a:ext cx="4608360" cy="4103640"/>
            <a:chOff x="2381400" y="2171880"/>
            <a:chExt cx="4608360" cy="4103640"/>
          </a:xfrm>
        </p:grpSpPr>
        <p:sp>
          <p:nvSpPr>
            <p:cNvPr id="254" name="Rectangle 4"/>
            <p:cNvSpPr/>
            <p:nvPr/>
          </p:nvSpPr>
          <p:spPr>
            <a:xfrm>
              <a:off x="2381400" y="2171880"/>
              <a:ext cx="4608360" cy="41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5" name="Picture 5" descr=""/>
            <p:cNvPicPr/>
            <p:nvPr/>
          </p:nvPicPr>
          <p:blipFill>
            <a:blip r:embed="rId1"/>
            <a:stretch/>
          </p:blipFill>
          <p:spPr>
            <a:xfrm>
              <a:off x="3465000" y="2423880"/>
              <a:ext cx="2440800" cy="3598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icit geometrical model required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-surface radiation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 surface conv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d external conv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ar shading and insolation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429000" cy="3024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5410080" y="3733920"/>
            <a:ext cx="3400560" cy="2923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4267080" y="4724280"/>
            <a:ext cx="60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: creating a zo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41936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ordin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vertex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in vertices to form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urfa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e must be completely encl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ts of handy tools to assist data in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52960" cy="32860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1618200" y="5629320"/>
            <a:ext cx="4801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Simpler models are bette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: Creating a building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562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defined zone-by-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ones can be moved, copied, deleted, and mer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the model (make a sketch) before attempting data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D input possible, but generally easier to use project mana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void unnecessary complex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5791320" y="1752480"/>
            <a:ext cx="3116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383840"/>
            <a:ext cx="68403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Building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-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hands-on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 thermal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air flow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Defining Geometr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314360" y="2077920"/>
            <a:ext cx="6505560" cy="39988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2184480" y="2525760"/>
            <a:ext cx="502272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Opaque envelope: Attribute surface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rfaces attributed by assigning multilayer constructions from data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2733840" y="3600360"/>
            <a:ext cx="30384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geometrical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2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ed transparent multilayer constru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d in similar fashion as opaque mlc’s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cal properties also requir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s fill characterized by a thermal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import optical properties from Win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wall geometry first, then insert wind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ame: declare separately as opaque MLC or include effect on window U-value and optical properties of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ert window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ribute the window with the layered construction calle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_glz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033640" y="2244600"/>
            <a:ext cx="510552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windows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3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boundary condi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3240"/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layer constructions have inside and outside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3240"/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2397240" y="2711520"/>
            <a:ext cx="395748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Types of boundary conditions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67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sid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s the zone’s air-poi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handl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st define boundary condition for outsid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sed to outdoo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s another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sed to fixed temperature and radiation sour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ed to ground (user-defined monthly temperature pro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osed to same conditions as insi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iabat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SIMP foun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approache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anu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ign boundary condition to each surface the same way it is attributed with a multilayer constru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utomatic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topology checker program to automatically match common surfaces between adjoining zones and prompt for other boundary condition typ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boundary conditions: Tool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boundary condi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windows, walls and ceiling to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 floor to BASESIMP, and use configuration 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What is building simulation?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41360" y="1050480"/>
            <a:ext cx="394524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ipment siz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ergy use &amp; e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upant com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r qu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light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t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ou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2244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s integrated desig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5120" y="905040"/>
            <a:ext cx="4373640" cy="5257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727920" y="6337440"/>
            <a:ext cx="4051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MHC “Healthy House”, Toron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boundary condition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4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internal gai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l gains can be se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ccupa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ui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 internal g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s in W or W/ m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iant and convective por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ible and latent por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ains are schedu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sible to import fractional profiles from previously created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air fl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methods for handling air f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lculated with a network air-flow model (coming lat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mal impact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mpo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lows calc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filtr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ir flow from the outdoors to the z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Ventil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ir flow from another zone (or at a set temperatur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647720" y="4562640"/>
            <a:ext cx="543888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air flow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616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 infiltration and ventilation r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zone-by-zone bas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c/h (receiving zon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source zone (or temperature) for venti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w rates can be controlled (3-stage) as a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on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acent zon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door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d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mposing air flows and internal gai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18352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3"/>
          <p:cNvGraphicFramePr/>
          <p:nvPr/>
        </p:nvGraphicFramePr>
        <p:xfrm>
          <a:off x="1143000" y="2133720"/>
          <a:ext cx="6172200" cy="41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6172200" cy="41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operations input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5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Modelling plant and controls Ideally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methods for plant model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icitly with a component mod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l plant model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behavior of HVAC system modeled, but not compon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 approach employed by ESP-r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deal control: Sensor and actuato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ens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zon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temperature in another z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 of zone temperature and M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door condition: temperature, wind, s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ctua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point of current zone (convective he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a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in a layered construction (radiant sl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ctive/radiative h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Ideal control: Control law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y control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trol la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deal heat injection/extraction with fixed capaci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-flo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/off and 3-posi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ant volume, variable tempera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D, fuzzy-logic PI-P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y set points and heating &amp; cooling capa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pplying ideal control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1072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1685880" y="2033640"/>
            <a:ext cx="6091200" cy="4064040"/>
            <a:chOff x="1685880" y="2033640"/>
            <a:chExt cx="6091200" cy="4064040"/>
          </a:xfrm>
        </p:grpSpPr>
        <p:graphicFrame>
          <p:nvGraphicFramePr>
            <p:cNvPr id="317" name="Object 4"/>
            <p:cNvGraphicFramePr/>
            <p:nvPr/>
          </p:nvGraphicFramePr>
          <p:xfrm>
            <a:off x="1685880" y="2033640"/>
            <a:ext cx="6091200" cy="406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5880" y="2033640"/>
                      <a:ext cx="6091200" cy="40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Text Box 5"/>
            <p:cNvSpPr/>
            <p:nvPr/>
          </p:nvSpPr>
          <p:spPr>
            <a:xfrm>
              <a:off x="1685880" y="2033640"/>
              <a:ext cx="6091200" cy="40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Rectangle 6"/>
          <p:cNvSpPr/>
          <p:nvPr/>
        </p:nvSpPr>
        <p:spPr>
          <a:xfrm>
            <a:off x="2714400" y="2270160"/>
            <a:ext cx="12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free floating</a:t>
            </a:r>
            <a:r>
              <a:rPr b="0" lang="en-GB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 rot="16200000">
            <a:off x="3165480" y="21934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914400" y="6553080"/>
            <a:ext cx="71229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age: Clarke, J.A. (2001)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nergy Simulation in Building Design, 2</a:t>
            </a:r>
            <a:r>
              <a:rPr b="0" i="1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inputs for zone controls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6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Shading and Insola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methods for inso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fied insolation within zone 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us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olation to 1 or 2 su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ding and insolation module: 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ding and insolation mod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obstruction blocks, window reveals, overha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ed internal insol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es not account for self sh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2822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ude obstruction geome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dding obstruc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596360" cy="56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Catch-up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did not complete the inputs for zone shading and insolation, then do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t ESP-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er “skipto intro7” in your term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erforming simula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weather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period of sim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time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ion togg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y model, surface convection model, solver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ce detailed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ction coefficients, air flow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 zone temperatures and plant injections as simulation prog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Performing simulation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10720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ate house with constant set-point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eat simulation, but use set-back thermost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ulate from Jan 9-15, 1 hour time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-2764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r /usr/esru/esp-r/climate/ottawa.cwec for the weathe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3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685800"/>
                <a:tab algn="l" pos="1308240"/>
                <a:tab algn="l" pos="2222640"/>
                <a:tab algn="l" pos="3137040"/>
                <a:tab algn="l" pos="4051440"/>
                <a:tab algn="l" pos="4965840"/>
                <a:tab algn="l" pos="5880240"/>
                <a:tab algn="l" pos="6794640"/>
                <a:tab algn="l" pos="7709040"/>
                <a:tab algn="l" pos="8623440"/>
                <a:tab algn="l" pos="9537840"/>
                <a:tab algn="l" pos="1045224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nalyzing Resul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 solution variables against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one, surface, and interstitial temperat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t injections or extrac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iltration &amp; ventilation load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nal loads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plots of cross-sectional temper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aph frequency distrib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erat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t fluxes;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xt output of instantaneous and integrated qua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Analyzing Result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nstration and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ot zone temperature and heat injection for constant set-point temperature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0500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eat for set-back thermostat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536840"/>
                <a:tab algn="l" pos="2451240"/>
                <a:tab algn="l" pos="3365640"/>
                <a:tab algn="l" pos="4280040"/>
                <a:tab algn="l" pos="5194440"/>
                <a:tab algn="l" pos="6108840"/>
                <a:tab algn="l" pos="7023240"/>
                <a:tab algn="l" pos="7937640"/>
                <a:tab algn="l" pos="8852040"/>
                <a:tab algn="l" pos="9766440"/>
                <a:tab algn="l" pos="1068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Levels of resolution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"/>
          <p:cNvSpPr/>
          <p:nvPr/>
        </p:nvSpPr>
        <p:spPr>
          <a:xfrm>
            <a:off x="390600" y="2581200"/>
            <a:ext cx="8172360" cy="18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57560" y="1574640"/>
            <a:ext cx="14454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easibil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368440" y="1725480"/>
            <a:ext cx="14911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sident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547880" y="1725480"/>
            <a:ext cx="1599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042680" y="1725480"/>
            <a:ext cx="12582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esearch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305720" y="5527800"/>
            <a:ext cx="6559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 DOE Software tools directory:</a:t>
            </a:r>
            <a:br>
              <a:rPr sz="5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www.eere.energy.gov/buildings/tools_directory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130320" y="2944440"/>
            <a:ext cx="8661240" cy="1787760"/>
            <a:chOff x="-130320" y="2944440"/>
            <a:chExt cx="8661240" cy="1787760"/>
          </a:xfrm>
        </p:grpSpPr>
        <p:grpSp>
          <p:nvGrpSpPr>
            <p:cNvPr id="111" name="Group 9"/>
            <p:cNvGrpSpPr/>
            <p:nvPr/>
          </p:nvGrpSpPr>
          <p:grpSpPr>
            <a:xfrm>
              <a:off x="-130320" y="2944440"/>
              <a:ext cx="8249400" cy="1356840"/>
              <a:chOff x="-130320" y="2944440"/>
              <a:chExt cx="8249400" cy="1356840"/>
            </a:xfrm>
          </p:grpSpPr>
          <p:sp>
            <p:nvSpPr>
              <p:cNvPr id="112" name="Text Box 10"/>
              <p:cNvSpPr/>
              <p:nvPr/>
            </p:nvSpPr>
            <p:spPr>
              <a:xfrm rot="18540000">
                <a:off x="-280440" y="3463560"/>
                <a:ext cx="144396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</a:rPr>
                  <a:t>RETScreen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Text Box 11"/>
              <p:cNvSpPr/>
              <p:nvPr/>
            </p:nvSpPr>
            <p:spPr>
              <a:xfrm rot="18540000">
                <a:off x="1177920" y="3350520"/>
                <a:ext cx="11347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Hot 2000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Text Box 12"/>
              <p:cNvSpPr/>
              <p:nvPr/>
            </p:nvSpPr>
            <p:spPr>
              <a:xfrm rot="18540000">
                <a:off x="2376000" y="3351960"/>
                <a:ext cx="11347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Hot 3000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13"/>
              <p:cNvSpPr/>
              <p:nvPr/>
            </p:nvSpPr>
            <p:spPr>
              <a:xfrm rot="18540000">
                <a:off x="4259160" y="3321720"/>
                <a:ext cx="125640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eQuest</a:t>
                </a:r>
                <a:br>
                  <a:rPr sz="2200"/>
                </a:b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(DOE 2.1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Text Box 14"/>
              <p:cNvSpPr/>
              <p:nvPr/>
            </p:nvSpPr>
            <p:spPr>
              <a:xfrm rot="18540000">
                <a:off x="5401800" y="3458520"/>
                <a:ext cx="143028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EnergyPlus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Text Box 15"/>
              <p:cNvSpPr/>
              <p:nvPr/>
            </p:nvSpPr>
            <p:spPr>
              <a:xfrm rot="18540000">
                <a:off x="6899400" y="3302280"/>
                <a:ext cx="1209240" cy="60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TRNSYS,</a:t>
                </a:r>
                <a:br>
                  <a:rPr sz="2200"/>
                </a:br>
                <a:r>
                  <a:rPr b="0" i="1" lang="en-GB" sz="2200" spc="-1" strike="noStrike">
                    <a:solidFill>
                      <a:srgbClr val="000000"/>
                    </a:solidFill>
                    <a:latin typeface="Arial"/>
                  </a:rPr>
                  <a:t>ESP-r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Text Box 16"/>
            <p:cNvSpPr/>
            <p:nvPr/>
          </p:nvSpPr>
          <p:spPr>
            <a:xfrm>
              <a:off x="273960" y="4430520"/>
              <a:ext cx="1678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(Easy-to-use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7"/>
            <p:cNvSpPr/>
            <p:nvPr/>
          </p:nvSpPr>
          <p:spPr>
            <a:xfrm>
              <a:off x="6869160" y="4420800"/>
              <a:ext cx="16617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(Hard-to-use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Open source softwar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5546880" y="3467160"/>
            <a:ext cx="3149280" cy="38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429160" y="1204920"/>
            <a:ext cx="3314880" cy="2143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84200"/>
            <a:ext cx="8310240" cy="57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-r is free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censed under the G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-and-share-alik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ibutions fr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.Eidenhoven, U.London, NRC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ordia, U. Calgary, Dalhousie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. Toronto, Carleton, Laval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le Polytechnique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321760" cy="45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Arial"/>
              </a:rPr>
              <a:t>ESP-r: Research focused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7850160" cy="52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-r is a research to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ed by graduate students and prof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-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-principles” 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e-of-Use is not a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ers are research-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ed resources for general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11 interface circa 19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7792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of surprises (bugs)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289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xpect to be frustra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3199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ESP-r: X11 interfa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37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rney</dc:creator>
  <dc:description/>
  <dc:language>en-US</dc:language>
  <cp:lastModifiedBy>jon@esru.strath.ac.uk</cp:lastModifiedBy>
  <dcterms:modified xsi:type="dcterms:W3CDTF">2019-10-22T09:24:30Z</dcterms:modified>
  <cp:revision>19</cp:revision>
  <dc:subject/>
  <dc:title>PCC V2 Proposal</dc:title>
</cp:coreProperties>
</file>