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FF2B-6590-42C0-8083-E1D05E6A7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9640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3E8E-0BD5-4B24-B4D5-D7ADD33D9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6F5C-59BC-40E8-BE99-D21CEF78F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86A9-1AC7-4990-9279-DF6C102A0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AF8F-B684-4A80-92F6-6B60AB6CF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59640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A5EE-2BB5-49A5-9E09-AF7BE5B50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8EBA-0458-4D08-A6C7-FC55B6D94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7A64-9447-436E-BE95-712832CF1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5EF1-B8F8-42F1-B755-BDE6F363A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D20B-79B7-48D4-8479-516766B09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2CA9-316B-4C9B-BBE7-D412495EB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1CB4-0545-4BA3-A5AA-0E3CAC749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7583" b="0"/>
          <a:stretch/>
        </p:blipFill>
        <p:spPr>
          <a:xfrm>
            <a:off x="6300720" y="5792760"/>
            <a:ext cx="2862360" cy="57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Picture 12" descr="Canada logo"/>
          <p:cNvPicPr/>
          <p:nvPr/>
        </p:nvPicPr>
        <p:blipFill>
          <a:blip r:embed="rId3"/>
          <a:stretch/>
        </p:blipFill>
        <p:spPr>
          <a:xfrm>
            <a:off x="7696080" y="6429240"/>
            <a:ext cx="1295640" cy="331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514600" y="0"/>
            <a:ext cx="3733920" cy="228600"/>
          </a:xfrm>
          <a:prstGeom prst="rect">
            <a:avLst/>
          </a:prstGeom>
          <a:solidFill>
            <a:srgbClr val="64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895480" cy="228600"/>
          </a:xfrm>
          <a:prstGeom prst="rect">
            <a:avLst/>
          </a:prstGeom>
          <a:solidFill>
            <a:srgbClr val="125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19920" y="0"/>
            <a:ext cx="3124080" cy="228600"/>
          </a:xfrm>
          <a:prstGeom prst="rect">
            <a:avLst/>
          </a:prstGeom>
          <a:solidFill>
            <a:srgbClr val="a5c3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DFB8-A3AE-401D-BC05-01920B1EF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0" y="6361200"/>
            <a:ext cx="9144000" cy="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228600" y="6477120"/>
            <a:ext cx="2496960" cy="19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4495680" y="0"/>
            <a:ext cx="99072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14400" y="1617840"/>
            <a:ext cx="7381800" cy="1422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664240" y="5576760"/>
            <a:ext cx="3479760" cy="650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348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547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12547c"/>
              </a:solidFill>
              <a:latin typeface="Tahoma"/>
            </a:endParaRPr>
          </a:p>
        </p:txBody>
      </p:sp>
      <p:pic>
        <p:nvPicPr>
          <p:cNvPr id="51" name="Picture 12" descr="Canada logo"/>
          <p:cNvPicPr/>
          <p:nvPr/>
        </p:nvPicPr>
        <p:blipFill>
          <a:blip r:embed="rId5"/>
          <a:stretch/>
        </p:blipFill>
        <p:spPr>
          <a:xfrm>
            <a:off x="7315200" y="6353280"/>
            <a:ext cx="1600200" cy="41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1600200"/>
            <a:ext cx="739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0" y="6226200"/>
            <a:ext cx="9144000" cy="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228600" y="6477120"/>
            <a:ext cx="312408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348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547c"/>
                </a:solidFill>
                <a:latin typeface="Tahoma"/>
              </a:rPr>
              <a:t>Versioning control for ESP-r developers</a:t>
            </a:r>
            <a:endParaRPr b="1" lang="en-US" sz="32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4101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 control solution (2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78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81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3" name=""/>
          <p:cNvCxnSpPr>
            <a:stCxn id="178" idx="2"/>
            <a:endCxn id="184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84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01480" y="5194440"/>
              <a:ext cx="451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90480" y="1152360"/>
            <a:ext cx="6050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She must first update her local copy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with the most recent version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 control solution (3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93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37560" y="3041640"/>
              <a:ext cx="374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96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"/>
          <p:cNvCxnSpPr>
            <a:stCxn id="193" idx="2"/>
            <a:endCxn id="199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99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01480" y="5194440"/>
              <a:ext cx="451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57520" y="1152360"/>
            <a:ext cx="3978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after which she can 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contribute her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Versioning control lingo (1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Repositor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chive of files, usually located on a remote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Working cop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local copy of the repository, or part thereof, on your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Versioning control lingo (2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heck-out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 of copying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part thereof) on to your computer, thereby making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king co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ommit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 of copying modifications from you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king co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ck to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hange set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cremental set of modifications added to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uring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Versioning control lingo (3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Revision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unique version of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A new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vi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made upon ever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m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Updat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 of copying new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change se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usually contributed by others) from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king co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compatibility between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ange-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modifications in you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ocal co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flicts usually arise when two developers edit the same line of sourc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Versioning control – more info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ahoma"/>
              </a:rPr>
              <a:t>http://www.strath.ac.uk/esru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oftware -&gt; ESP-r -&gt; ESP-r 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Quality Assurance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-r results are sensitiv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earch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lting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vernment incentive pro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A protocol helps ensure your changes do not interrupt oth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Quality assurance element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 guideli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ression test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ability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124720" y="4276800"/>
            <a:ext cx="473904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http://www.strath.ac.uk/es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Software -&gt; ESP-r -&gt; ESP-r Cen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Document, document, </a:t>
            </a:r>
            <a:r>
              <a:rPr b="1" i="1" lang="en-US" sz="2800" spc="-1" strike="noStrike">
                <a:solidFill>
                  <a:srgbClr val="12547c"/>
                </a:solidFill>
                <a:latin typeface="Tahoma"/>
              </a:rPr>
              <a:t>document!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 Calculate the molar flow rate of each gas constituen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N2 in air and fuel flowing into FCPM does not rea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dot_FCPMexh_N2 = chi_air_N2*Ndot_FCPM_a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 + chi_fuel_N2*Ndot_FCPM_fu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Ar in air flowing into FCPM does not reac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dot_FCPMexh_Ar = chi_air_Ar*Ndot_FCPM_a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O2 in exhaust comes from fuel and excess a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dot_FCPMexh_O2 = chi_fuel_O2*Ndot_FCPM_fu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 + lambda_FCPM*Ndot_FCPM_O2_stoi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159680" y="1347840"/>
            <a:ext cx="183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Cite published paper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Smith A and Jones B (1999), ‘Heat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Coefficient Correlations for  Building Energ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Modelling’, Int. J. Heat and Mass Transfer, 38(8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pp856-88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Coefficient correlation for a wall with a radiat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located under a window (Smith and Jon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publication, Table 2, Equation 6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 = 2.30*(dt**0.2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Objective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at is versioning control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nd how do I use it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do I obtain ESP-r source code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do I modify ESP-r source code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do I contribute my chang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o the community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More documentation for developer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ahoma"/>
              </a:rPr>
              <a:t>http://www.strath.ac.uk/esru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oftware -&gt; ESP-r -&gt; ESP-r 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38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12547c"/>
                </a:solidFill>
                <a:latin typeface="Tahoma"/>
              </a:rPr>
              <a:t>Unix-like platforms for development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7280" indent="0">
              <a:spcBef>
                <a:spcPts val="601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pported Platfor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nux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ygw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ix (Solar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S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nG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352600" y="1841400"/>
            <a:ext cx="657360" cy="4505400"/>
          </a:xfrm>
          <a:prstGeom prst="upDownArrow">
            <a:avLst>
              <a:gd name="adj1" fmla="val 50000"/>
              <a:gd name="adj2" fmla="val 136441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9600" y="1968480"/>
            <a:ext cx="1893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comm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120" y="5978520"/>
            <a:ext cx="2142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Unrecomm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ESP-r dependencie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149480"/>
            <a:ext cx="363852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p/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cc/g7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606920" y="1413000"/>
            <a:ext cx="41860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For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11/xorg &amp; head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bxml2 &amp; head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bxs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9280" y="4078440"/>
            <a:ext cx="367488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et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TK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Compiler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le: gcc 3.4.6 (gcc/g++/g7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c 4.1.2 (gcc/g++/gFortr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a: gcc 4.2 (gcc/g++/gFortr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c 4.3 (gcc/g++/gFortr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Outline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Versioning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versioning contro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P-r source code reposi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nstration and hands-on exerc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sub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ing ESP-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ing points for ESP-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What is versioning control?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ing control is a tool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s files and directories that change over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s old ver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s rationalize conflicting modifications from multiple contribu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ing problem (1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02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24040" y="30416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666800" y="4613400"/>
            <a:ext cx="1009800" cy="1257120"/>
            <a:chOff x="1666800" y="4613400"/>
            <a:chExt cx="1009800" cy="1257120"/>
          </a:xfrm>
        </p:grpSpPr>
        <p:sp>
          <p:nvSpPr>
            <p:cNvPr id="105" name=""/>
            <p:cNvSpPr/>
            <p:nvPr/>
          </p:nvSpPr>
          <p:spPr>
            <a:xfrm>
              <a:off x="1666800" y="461340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2360" y="505476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" name=""/>
          <p:cNvCxnSpPr>
            <a:stCxn id="102" idx="2"/>
            <a:endCxn id="105" idx="0"/>
          </p:cNvCxnSpPr>
          <p:nvPr/>
        </p:nvCxnSpPr>
        <p:spPr>
          <a:xfrm rot="5400000">
            <a:off x="2979360" y="3049560"/>
            <a:ext cx="756360" cy="23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39600" y="50817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648480" y="4613400"/>
            <a:ext cx="1009800" cy="1257120"/>
            <a:chOff x="6648480" y="4613400"/>
            <a:chExt cx="1009800" cy="1257120"/>
          </a:xfrm>
        </p:grpSpPr>
        <p:sp>
          <p:nvSpPr>
            <p:cNvPr id="111" name=""/>
            <p:cNvSpPr/>
            <p:nvPr/>
          </p:nvSpPr>
          <p:spPr>
            <a:xfrm>
              <a:off x="6648480" y="461340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34040" y="505476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3" name=""/>
          <p:cNvCxnSpPr>
            <a:stCxn id="102" idx="2"/>
            <a:endCxn id="111" idx="0"/>
          </p:cNvCxnSpPr>
          <p:nvPr/>
        </p:nvCxnSpPr>
        <p:spPr>
          <a:xfrm flipH="1" rot="16200000">
            <a:off x="5469480" y="2930400"/>
            <a:ext cx="75636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5944680" y="50799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92680" y="1241280"/>
            <a:ext cx="4885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Tahoma"/>
              </a:rPr>
              <a:t>First, John and Jane read the 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Tahoma"/>
              </a:rPr>
              <a:t>same file from a reposit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ing problem (2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18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24040" y="30416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66800" y="4676760"/>
            <a:ext cx="1009800" cy="1257120"/>
            <a:chOff x="1666800" y="4676760"/>
            <a:chExt cx="1009800" cy="1257120"/>
          </a:xfrm>
        </p:grpSpPr>
        <p:sp>
          <p:nvSpPr>
            <p:cNvPr id="121" name=""/>
            <p:cNvSpPr/>
            <p:nvPr/>
          </p:nvSpPr>
          <p:spPr>
            <a:xfrm>
              <a:off x="1666800" y="467676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90080" y="511812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648480" y="4676760"/>
            <a:ext cx="1009800" cy="1257120"/>
            <a:chOff x="6648480" y="4676760"/>
            <a:chExt cx="1009800" cy="1257120"/>
          </a:xfrm>
        </p:grpSpPr>
        <p:sp>
          <p:nvSpPr>
            <p:cNvPr id="126" name=""/>
            <p:cNvSpPr/>
            <p:nvPr/>
          </p:nvSpPr>
          <p:spPr>
            <a:xfrm>
              <a:off x="6648480" y="467676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31720" y="511812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4720" y="1360440"/>
            <a:ext cx="70293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Tahoma"/>
              </a:rPr>
              <a:t>Next, John and Jane both make changes.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ing problem (3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32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35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stCxn id="132" idx="2"/>
            <a:endCxn id="135" idx="0"/>
          </p:cNvCxnSpPr>
          <p:nvPr/>
        </p:nvCxnSpPr>
        <p:spPr>
          <a:xfrm rot="5400000">
            <a:off x="2909520" y="3119400"/>
            <a:ext cx="896040" cy="23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41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59400" y="1152360"/>
            <a:ext cx="5439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Jon contributes his change back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to the repositor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ing problem (4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47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99480" y="3041640"/>
              <a:ext cx="311760" cy="301680"/>
            </a:xfrm>
            <a:prstGeom prst="rect">
              <a:avLst/>
            </a:prstGeom>
            <a:solidFill>
              <a:srgbClr val="c9d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50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55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7" name=""/>
          <p:cNvCxnSpPr>
            <a:stCxn id="147" idx="2"/>
            <a:endCxn id="155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66480" y="1152360"/>
            <a:ext cx="4825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ollowed shortly by Jane.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But her changes clobber hi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 control solution (1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62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65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7" name=""/>
          <p:cNvCxnSpPr>
            <a:endCxn id="168" idx="0"/>
          </p:cNvCxnSpPr>
          <p:nvPr/>
        </p:nvCxnSpPr>
        <p:spPr>
          <a:xfrm>
            <a:off x="5486400" y="4314600"/>
            <a:ext cx="1667520" cy="43884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68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23400" y="1152360"/>
            <a:ext cx="5546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Versioning control prevents J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rom overwriting the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0960" y="4114800"/>
            <a:ext cx="255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6:18:20Z</dcterms:created>
  <dc:creator>trindade</dc:creator>
  <dc:description/>
  <dc:language>en-US</dc:language>
  <cp:lastModifiedBy>jpurdy</cp:lastModifiedBy>
  <dcterms:modified xsi:type="dcterms:W3CDTF">2012-03-14T14:45:34Z</dcterms:modified>
  <cp:revision>23</cp:revision>
  <dc:subject/>
  <dc:title>Slide 1</dc:title>
</cp:coreProperties>
</file>