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CA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0DF6C6-28F1-4745-8880-72F07D64228D}" type="slidenum">
              <a:rPr b="0" lang="en-CA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7652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E79793-915A-47C0-954E-FFCA978D7067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F2FEEA-AFD8-486B-8028-E0379E8300FE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FFA09D-54E2-4A54-9FDE-4EEA5C5D2CBC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7"/>
          <p:cNvSpPr/>
          <p:nvPr/>
        </p:nvSpPr>
        <p:spPr>
          <a:xfrm flipH="1">
            <a:off x="437760" y="809640"/>
            <a:ext cx="8325000" cy="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 flipV="1">
            <a:off x="447840" y="745920"/>
            <a:ext cx="832464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5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6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sp-r.net/espr/svn_dem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117600"/>
            <a:ext cx="8226720" cy="866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for ESP-r develo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7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1" name="AutoShape 9"/>
          <p:cNvCxnSpPr>
            <a:stCxn id="176" idx="2"/>
            <a:endCxn id="182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2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1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4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AutoShape 9"/>
          <p:cNvCxnSpPr>
            <a:stCxn id="191" idx="2"/>
            <a:endCxn id="197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7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osi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rchive of files, usually located on a remot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orking copy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copy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art thereof,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ck-ou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part thereof) on to your computer, thereby mak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mi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modifications from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ange set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al set of modifications added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vi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version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ne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de upon ever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p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contributed by others)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li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compatibility betwee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difications in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onflicts usually arise when two developers edit the same line of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un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base-line”, or reference ver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an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py of part of the repository that allows alternate versions of files to exist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53920" y="6418440"/>
            <a:ext cx="318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Goats and rabb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17" name="Oval 1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22"/>
            <p:cNvCxnSpPr>
              <a:stCxn id="217" idx="0"/>
              <a:endCxn id="219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19" name="Text Box 23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0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21" name="Oval 24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AutoShape 25"/>
            <p:cNvCxnSpPr>
              <a:stCxn id="221" idx="0"/>
              <a:endCxn id="223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23" name="Text Box 26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25" name="Text Box 2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28"/>
            <p:cNvCxnSpPr>
              <a:endCxn id="225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5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r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an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65080" y="6396120"/>
            <a:ext cx="3714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Elephants and Zeb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8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34" name="Oval 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10"/>
            <p:cNvCxnSpPr>
              <a:stCxn id="234" idx="0"/>
              <a:endCxn id="236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36" name="Text Box 11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38" name="Oval 13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AutoShape 14"/>
            <p:cNvCxnSpPr>
              <a:stCxn id="238" idx="0"/>
              <a:endCxn id="240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40" name="Text Box 15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42" name="Text Box 1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8"/>
            <p:cNvCxnSpPr>
              <a:endCxn id="242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244" name="Line 19"/>
          <p:cNvSpPr/>
          <p:nvPr/>
        </p:nvSpPr>
        <p:spPr>
          <a:xfrm>
            <a:off x="5002200" y="3568680"/>
            <a:ext cx="0" cy="5508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5134680" y="3422520"/>
            <a:ext cx="1881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bur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5738760" y="4151160"/>
            <a:ext cx="0" cy="706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version is a versioning control tool. ‘svn’ is a robust command-line subversion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hecko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om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mer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–c &lt;change-set&gt;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onkey"/>
          <p:cNvPicPr/>
          <p:nvPr/>
        </p:nvPicPr>
        <p:blipFill>
          <a:blip r:embed="rId1"/>
          <a:stretch/>
        </p:blipFill>
        <p:spPr>
          <a:xfrm>
            <a:off x="4581360" y="3375000"/>
            <a:ext cx="476280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statistical theor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50385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infinite number of monkeys, on an infinite number of typewriters, will eventually produce the complete works of William Shakespeare,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provided they have a good versioning control syst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VN demonstr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: demosv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 demosvn_esp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out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n co </a:t>
            </a:r>
            <a:r>
              <a:rPr b="0" lang="en-US" sz="23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s://esp-r.net/espr/svn_dem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-username demosv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versioning control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how do I use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obtain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modify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contribute my change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the communit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dding new featur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64" name="Line 18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1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69" name="Group 23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70" name="Line 24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26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38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ynchronizing with development branch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85" name="Line 12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6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90" name="Group 17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91" name="Line 18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9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21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5"/>
          <p:cNvGrpSpPr/>
          <p:nvPr/>
        </p:nvGrpSpPr>
        <p:grpSpPr>
          <a:xfrm>
            <a:off x="3939480" y="3193560"/>
            <a:ext cx="4383720" cy="2454480"/>
            <a:chOff x="3939480" y="3193560"/>
            <a:chExt cx="4383720" cy="2454480"/>
          </a:xfrm>
        </p:grpSpPr>
        <p:sp>
          <p:nvSpPr>
            <p:cNvPr id="297" name="Arc 23"/>
            <p:cNvSpPr/>
            <p:nvPr/>
          </p:nvSpPr>
          <p:spPr>
            <a:xfrm flipH="1" rot="17568000">
              <a:off x="4420080" y="3321360"/>
              <a:ext cx="1738080" cy="2198520"/>
            </a:xfrm>
            <a:custGeom>
              <a:avLst/>
              <a:gdLst/>
              <a:ahLst/>
              <a:rect l="l" t="t" r="r" b="b"/>
              <a:pathLst>
                <a:path fill="none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</a:path>
                <a:path stroke="0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57240">
              <a:solidFill>
                <a:srgbClr val="008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5648400" y="5519880"/>
              <a:ext cx="2674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2"/>
          <p:cNvGrpSpPr/>
          <p:nvPr/>
        </p:nvGrpSpPr>
        <p:grpSpPr>
          <a:xfrm>
            <a:off x="6033960" y="5526000"/>
            <a:ext cx="2291040" cy="914400"/>
            <a:chOff x="6033960" y="5526000"/>
            <a:chExt cx="2291040" cy="914400"/>
          </a:xfrm>
        </p:grpSpPr>
        <p:sp>
          <p:nvSpPr>
            <p:cNvPr id="300" name="Line 27"/>
            <p:cNvSpPr/>
            <p:nvPr/>
          </p:nvSpPr>
          <p:spPr>
            <a:xfrm flipV="1">
              <a:off x="6067440" y="5526000"/>
              <a:ext cx="0" cy="9144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6033960" y="5527800"/>
              <a:ext cx="229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6165720" y="6021360"/>
              <a:ext cx="17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New Fe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-r results are sen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cen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protocol helps ensure your changes do not interrup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 ele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aly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56800" y="4254480"/>
            <a:ext cx="727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ocument, document,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document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ite published pa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2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Unix-like platforms for developmen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104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Plat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(So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2352600" y="2133720"/>
            <a:ext cx="657360" cy="4505040"/>
          </a:xfrm>
          <a:prstGeom prst="upDownArrow">
            <a:avLst>
              <a:gd name="adj1" fmla="val 50000"/>
              <a:gd name="adj2" fmla="val 13643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09600" y="226044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13120" y="627048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se modern fortran exten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 while ( ... 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79360" y="5440320"/>
            <a:ext cx="2199960" cy="897840"/>
            <a:chOff x="279360" y="5440320"/>
            <a:chExt cx="2199960" cy="897840"/>
          </a:xfrm>
        </p:grpSpPr>
        <p:sp>
          <p:nvSpPr>
            <p:cNvPr id="321" name="Line 5"/>
            <p:cNvSpPr/>
            <p:nvPr/>
          </p:nvSpPr>
          <p:spPr>
            <a:xfrm flipV="1">
              <a:off x="279360" y="5440320"/>
              <a:ext cx="2199960" cy="897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407520" y="5508360"/>
              <a:ext cx="1956600" cy="785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dependenc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67488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p/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/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1/xorg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ml2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s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K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: gcc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: gFortran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ortran builds exhibit small, unexplained numerical differences (~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gcc 3.2 on newer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libf2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Version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s for ESP-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at is versioning control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control is a tool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files and directories tha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old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ationalize conflicting modifications from multiple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0" name="AutoShape 8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03" name="AutoShape 12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05236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AutoShape 15"/>
          <p:cNvCxnSpPr>
            <a:stCxn id="100" idx="2"/>
            <a:endCxn id="10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6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09" name="AutoShape 19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03404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AutoShape 21"/>
          <p:cNvCxnSpPr>
            <a:stCxn id="100" idx="2"/>
            <a:endCxn id="10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22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008080" y="1019160"/>
            <a:ext cx="505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1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24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42480" y="1152360"/>
            <a:ext cx="7234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AutoShape 9"/>
          <p:cNvCxnSpPr>
            <a:stCxn id="130" idx="2"/>
            <a:endCxn id="13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39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5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48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3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AutoShape 15"/>
          <p:cNvCxnSpPr>
            <a:stCxn id="145" idx="2"/>
            <a:endCxn id="153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AutoShape 9"/>
          <p:cNvCxnSpPr>
            <a:endCxn id="166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6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2:20:58Z</dcterms:created>
  <dc:creator>Scott Cairney</dc:creator>
  <dc:description/>
  <dc:language>en-US</dc:language>
  <cp:lastModifiedBy>jon@esru.strath.ac.uk</cp:lastModifiedBy>
  <cp:lastPrinted>2001-11-26T16:15:26Z</cp:lastPrinted>
  <dcterms:modified xsi:type="dcterms:W3CDTF">2019-10-22T09:34:33Z</dcterms:modified>
  <cp:revision>354</cp:revision>
  <dc:subject>PCC Public Site</dc:subject>
  <dc:title>PCC V2 Proposal</dc:title>
</cp:coreProperties>
</file>