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9.png" ContentType="image/png"/>
  <Override PartName="/ppt/media/image6.png" ContentType="image/png"/>
  <Override PartName="/ppt/media/image7.png" ContentType="image/png"/>
  <Override PartName="/ppt/media/image32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9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25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14.png" ContentType="image/png"/>
  <Override PartName="/ppt/media/image16.png" ContentType="image/png"/>
  <Override PartName="/ppt/media/image18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20.wmf" ContentType="image/x-wmf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6828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31600" y="4365720"/>
            <a:ext cx="5135400" cy="4147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6828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E535F-B00F-4EE3-8F3B-538A4111E5F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77688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76799-C7B3-4828-AE5B-FB690A746B39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C045C-7F0E-4840-A924-DFBCDDB56A0A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0129D-45C2-49EF-9340-04427826B00B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2E3A2-4FBE-4534-98CF-0E48F08EABA1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9F837-092D-4C13-ABBB-5BA9D7265F7E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2BC95-999C-4FE0-8F77-5B05C40E9B15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6C829-E243-479D-AAEF-2CA732A6F409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29635-F177-4F15-A907-016C46268299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5B52C-4FDA-47F5-BF08-43CB7E2FE683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3A998-D34B-4BEC-85C0-80283670D382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EB2D4-2D48-4942-84A7-A9DC4816BED3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8D48A-EA90-4038-B68F-6F423A5BC05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696CB-583E-4721-B4E5-C27807FD39D9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B65FF-C6FE-4C10-8E54-2CA75C9E19C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A4C57-3E86-4BF4-980B-4F39527D0307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69C4A-49B3-4A9E-BD59-832EDDC9848F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7B1B8-140B-4940-83A4-7B783728F294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18E31-B011-4C65-89FB-A4EF9F706BF9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57588-3FB2-446B-B1B4-66E720F18BE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35C89-33E2-4D6E-A8F3-228BC249A975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842BA-6796-4C22-9989-5F7E96140CD1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7C306-16D3-4ADC-8ABF-24766EAE1BED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684C3-7BD7-460A-B692-AFE7CA880BA4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B81F8-78D1-48CD-A5AE-CD252A7B22E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4E583-36E6-4A9C-86B5-B1DAD13A1A65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16731-19AC-49DB-AAAE-D7F36430ABD4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8EB77-5D28-4D49-AFF5-44BD11F03A9A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F7CCD-AC4A-430E-860E-C3EE7B7B6861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0CCCF-0076-43F8-B22F-F9850B7014EB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D0DBD-DA9E-4278-9046-4C796DE64132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71F34-BF5F-4B8A-AD20-3E8FC3A85E34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FFA96-B6F8-47D6-8295-D142FE2ABD11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C0571-236F-45DF-8F9E-30B32AC266C8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995E3-3899-4C2E-9DCC-E5D853038B3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42193-13CB-4C5F-B269-711E5DC1CDCE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D818C-7A5B-46BE-BA0F-CDC3F02DF40D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30F3C-C05E-4136-BAD0-883CDD39E1D2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5A416-87D9-4A8A-A867-040E6C14F774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09125-2AA8-4F67-8E49-23CDCFA1AD38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5E8BA-F0AD-4DAE-8B8E-AA34AF99FD31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8D4F5-6BFB-4F4C-9391-E9AC5D7A649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5AE29-66E0-45C3-8414-B8A820C10313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E5EA3-854C-448F-8668-989E087F5E8B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D1ED1-1BDC-4881-9079-19C9451F1613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0B089-6314-4D1D-99BC-FE8AB172FDFA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04A8A-D240-4E6D-B020-373ADAC17985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ACA04-4F1D-4A5C-A2CB-7082047D016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E6E52-0815-497D-83EB-E856B9F5044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B0364-364B-4E32-88D6-884D6AA70BC9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ABE4B-9615-4E3B-9525-45D7FA1FEE74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0E888-19D7-4CA4-98BC-99B3B1E1A779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C6114-CC83-48BC-BF85-D751A773912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553C4-B6AB-4D89-9474-6F329447C98B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A202F-7CB5-4742-AA9F-F55359B37A19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91E48-EB4B-4959-952E-F5379B71EE87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3F4EB-F5F9-46E7-B9F2-B998F4CD1119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 flipH="1">
            <a:off x="436320" y="809640"/>
            <a:ext cx="8327880" cy="144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 flipV="1">
            <a:off x="447840" y="744480"/>
            <a:ext cx="8324640" cy="3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2831760"/>
            <a:ext cx="6792840" cy="160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3192480"/>
            <a:ext cx="6794640" cy="8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n Introduction to ESP-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 HOT3000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073160" y="1047600"/>
            <a:ext cx="7164360" cy="55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 Daylight 1-2-3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820800" y="1063800"/>
            <a:ext cx="7513560" cy="53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Capabiliti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"/>
          <p:cNvSpPr/>
          <p:nvPr/>
        </p:nvSpPr>
        <p:spPr>
          <a:xfrm>
            <a:off x="2149560" y="2850120"/>
            <a:ext cx="1306440" cy="14342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elop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3"/>
          <p:cNvSpPr/>
          <p:nvPr/>
        </p:nvSpPr>
        <p:spPr>
          <a:xfrm>
            <a:off x="4726440" y="3898080"/>
            <a:ext cx="1453320" cy="1395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a-zon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flow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F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4"/>
          <p:cNvSpPr/>
          <p:nvPr/>
        </p:nvSpPr>
        <p:spPr>
          <a:xfrm>
            <a:off x="3746880" y="5097960"/>
            <a:ext cx="1453320" cy="14342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-zon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f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"/>
          <p:cNvSpPr/>
          <p:nvPr/>
        </p:nvSpPr>
        <p:spPr>
          <a:xfrm>
            <a:off x="2327400" y="4342320"/>
            <a:ext cx="1517400" cy="14342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VAC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6"/>
          <p:cNvSpPr/>
          <p:nvPr/>
        </p:nvSpPr>
        <p:spPr>
          <a:xfrm>
            <a:off x="660240" y="3475800"/>
            <a:ext cx="1517760" cy="1395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ic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7"/>
          <p:cNvSpPr/>
          <p:nvPr/>
        </p:nvSpPr>
        <p:spPr>
          <a:xfrm>
            <a:off x="736560" y="1646640"/>
            <a:ext cx="1517760" cy="14342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oustic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455760" y="955800"/>
            <a:ext cx="744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P-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466560" y="1362240"/>
            <a:ext cx="5896080" cy="5276520"/>
          </a:xfrm>
          <a:prstGeom prst="rect">
            <a:avLst/>
          </a:prstGeom>
          <a:noFill/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2612880" y="1456560"/>
            <a:ext cx="1517760" cy="1395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or Air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11"/>
          <p:cNvSpPr/>
          <p:nvPr/>
        </p:nvSpPr>
        <p:spPr>
          <a:xfrm>
            <a:off x="660240" y="5056920"/>
            <a:ext cx="1651320" cy="1395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ewab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12"/>
          <p:cNvSpPr/>
          <p:nvPr/>
        </p:nvSpPr>
        <p:spPr>
          <a:xfrm>
            <a:off x="3584520" y="2723400"/>
            <a:ext cx="1650960" cy="1395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l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13"/>
          <p:cNvSpPr/>
          <p:nvPr/>
        </p:nvSpPr>
        <p:spPr>
          <a:xfrm>
            <a:off x="4504320" y="1440360"/>
            <a:ext cx="1740240" cy="14342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olation &amp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struction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7048440" y="1838160"/>
            <a:ext cx="161928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7010280" y="1352160"/>
            <a:ext cx="1857600" cy="1239480"/>
          </a:xfrm>
          <a:prstGeom prst="rect">
            <a:avLst/>
          </a:prstGeom>
          <a:noFill/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diance (daylighting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6953400" y="2819880"/>
            <a:ext cx="1857240" cy="1540800"/>
          </a:xfrm>
          <a:prstGeom prst="rect">
            <a:avLst/>
          </a:prstGeom>
          <a:noFill/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NSY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del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HVAC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6962760" y="4809600"/>
            <a:ext cx="1857240" cy="1239480"/>
          </a:xfrm>
          <a:prstGeom prst="rect">
            <a:avLst/>
          </a:prstGeom>
          <a:noFill/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tlab (controls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6362640" y="546732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6362640" y="354348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6381720" y="197172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Maturity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"/>
          <p:cNvSpPr/>
          <p:nvPr/>
        </p:nvSpPr>
        <p:spPr>
          <a:xfrm>
            <a:off x="2150280" y="2850120"/>
            <a:ext cx="1306440" cy="143424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elop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727880" y="3898440"/>
            <a:ext cx="1453320" cy="139500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a-zon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flow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F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>
            <a:off x="3747960" y="5097960"/>
            <a:ext cx="1453320" cy="143424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-zon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f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6"/>
          <p:cNvSpPr/>
          <p:nvPr/>
        </p:nvSpPr>
        <p:spPr>
          <a:xfrm>
            <a:off x="2327400" y="4342320"/>
            <a:ext cx="1517400" cy="143424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VAC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"/>
          <p:cNvSpPr/>
          <p:nvPr/>
        </p:nvSpPr>
        <p:spPr>
          <a:xfrm>
            <a:off x="660240" y="3476160"/>
            <a:ext cx="1517760" cy="1395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ic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8"/>
          <p:cNvSpPr/>
          <p:nvPr/>
        </p:nvSpPr>
        <p:spPr>
          <a:xfrm>
            <a:off x="736560" y="1646640"/>
            <a:ext cx="1517760" cy="1434240"/>
          </a:xfrm>
          <a:prstGeom prst="ellipse">
            <a:avLst/>
          </a:prstGeom>
          <a:solidFill>
            <a:srgbClr val="ffcc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oustic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55760" y="955800"/>
            <a:ext cx="744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P-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466560" y="1362240"/>
            <a:ext cx="5896080" cy="5276520"/>
          </a:xfrm>
          <a:prstGeom prst="rect">
            <a:avLst/>
          </a:prstGeom>
          <a:noFill/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2612880" y="1456560"/>
            <a:ext cx="1517760" cy="1395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or Air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660240" y="5057280"/>
            <a:ext cx="1651320" cy="1395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ewab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3584520" y="2723400"/>
            <a:ext cx="1650960" cy="1395000"/>
          </a:xfrm>
          <a:prstGeom prst="ellipse">
            <a:avLst/>
          </a:prstGeom>
          <a:solidFill>
            <a:srgbClr val="ffcc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l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4502520" y="1440360"/>
            <a:ext cx="1740240" cy="143424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olation &amp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struction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7048440" y="1838160"/>
            <a:ext cx="161928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7010280" y="1351800"/>
            <a:ext cx="1857600" cy="1239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diance (daylighting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6953400" y="2820600"/>
            <a:ext cx="1857240" cy="1540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NSY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del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HVAC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6962760" y="4809600"/>
            <a:ext cx="1857240" cy="12394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tlab (controls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6362640" y="546732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6362640" y="354348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6381720" y="197172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Building domai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-r’s heat-balance meth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retize in space by representing building fabric and internal zones with control volumes (CV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m heat balances for each C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ultaneously solve matrix of heat bal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627120" y="3549600"/>
            <a:ext cx="7840440" cy="311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Window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006640" y="1303200"/>
            <a:ext cx="538776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Integrating other domai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80160" y="1371600"/>
            <a:ext cx="29858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t (HV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er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04640" y="928800"/>
            <a:ext cx="5280120" cy="59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Additional capabiliti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lar shad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lar inso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l surface conv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iew factor calc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sual gains control (daylight contro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mperature-dependent material proper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age rende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trols: network air flow, setback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lant injections: radiant-slabs, convective heating, convective-radiative, etc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trol of optical proper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RNSYS coup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Explicit plant model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55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Integraded CFD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4876920" y="1143000"/>
            <a:ext cx="2903400" cy="5257800"/>
          </a:xfrm>
          <a:prstGeom prst="rect">
            <a:avLst/>
          </a:prstGeom>
          <a:ln w="12600">
            <a:solidFill>
              <a:srgbClr val="000066"/>
            </a:solidFill>
            <a:miter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1333440" y="2171880"/>
            <a:ext cx="3257640" cy="33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es ESP-r model building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What is ESP-r capable of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 I model buildings in ESP-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Lighting simulation with Radianc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324480" cy="4173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Structur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304920" y="961920"/>
            <a:ext cx="2438280" cy="533520"/>
          </a:xfrm>
          <a:prstGeom prst="flowChartAlternate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roject management fac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533520" y="2104920"/>
            <a:ext cx="1981080" cy="533520"/>
          </a:xfrm>
          <a:prstGeom prst="flowChartAlternate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imulation eng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380880" y="3247920"/>
            <a:ext cx="2438640" cy="609840"/>
          </a:xfrm>
          <a:prstGeom prst="flowChartAlternate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s recovery &amp; analy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533520" y="4314960"/>
            <a:ext cx="2057400" cy="6094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3rd party graphing &amp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analysis pack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3676680" y="1038240"/>
            <a:ext cx="1523880" cy="3808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3rd party C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3276720" y="2867040"/>
            <a:ext cx="205740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lant component d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3276720" y="3476520"/>
            <a:ext cx="205740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Event profiles d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3276720" y="4162320"/>
            <a:ext cx="205740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Climatic time-series d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0"/>
          <p:cNvSpPr/>
          <p:nvPr/>
        </p:nvSpPr>
        <p:spPr>
          <a:xfrm>
            <a:off x="3276720" y="4772160"/>
            <a:ext cx="205740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Temporal definitions d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11"/>
          <p:cNvSpPr/>
          <p:nvPr/>
        </p:nvSpPr>
        <p:spPr>
          <a:xfrm>
            <a:off x="3276720" y="5457960"/>
            <a:ext cx="205740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hading/insolation d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2"/>
          <p:cNvSpPr/>
          <p:nvPr/>
        </p:nvSpPr>
        <p:spPr>
          <a:xfrm>
            <a:off x="1523880" y="149544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1523880" y="263844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4"/>
          <p:cNvSpPr/>
          <p:nvPr/>
        </p:nvSpPr>
        <p:spPr>
          <a:xfrm>
            <a:off x="1523880" y="385776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5"/>
          <p:cNvSpPr/>
          <p:nvPr/>
        </p:nvSpPr>
        <p:spPr>
          <a:xfrm>
            <a:off x="133200" y="1190520"/>
            <a:ext cx="1717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6"/>
          <p:cNvSpPr/>
          <p:nvPr/>
        </p:nvSpPr>
        <p:spPr>
          <a:xfrm>
            <a:off x="142920" y="1201680"/>
            <a:ext cx="144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152280" y="355284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8"/>
          <p:cNvSpPr/>
          <p:nvPr/>
        </p:nvSpPr>
        <p:spPr>
          <a:xfrm>
            <a:off x="914400" y="149544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3048120" y="561024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0"/>
          <p:cNvSpPr/>
          <p:nvPr/>
        </p:nvSpPr>
        <p:spPr>
          <a:xfrm>
            <a:off x="3048120" y="492444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1"/>
          <p:cNvSpPr/>
          <p:nvPr/>
        </p:nvSpPr>
        <p:spPr>
          <a:xfrm>
            <a:off x="3048120" y="431496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2"/>
          <p:cNvSpPr/>
          <p:nvPr/>
        </p:nvSpPr>
        <p:spPr>
          <a:xfrm>
            <a:off x="3048120" y="362916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>
            <a:off x="3048120" y="301932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24"/>
          <p:cNvSpPr/>
          <p:nvPr/>
        </p:nvSpPr>
        <p:spPr>
          <a:xfrm>
            <a:off x="3048120" y="3019320"/>
            <a:ext cx="144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25"/>
          <p:cNvSpPr/>
          <p:nvPr/>
        </p:nvSpPr>
        <p:spPr>
          <a:xfrm>
            <a:off x="4191120" y="309564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6"/>
          <p:cNvSpPr/>
          <p:nvPr/>
        </p:nvSpPr>
        <p:spPr>
          <a:xfrm>
            <a:off x="4191120" y="37051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7"/>
          <p:cNvSpPr/>
          <p:nvPr/>
        </p:nvSpPr>
        <p:spPr>
          <a:xfrm>
            <a:off x="4191120" y="439092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8"/>
          <p:cNvSpPr/>
          <p:nvPr/>
        </p:nvSpPr>
        <p:spPr>
          <a:xfrm>
            <a:off x="4191120" y="500076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29"/>
          <p:cNvSpPr/>
          <p:nvPr/>
        </p:nvSpPr>
        <p:spPr>
          <a:xfrm>
            <a:off x="5943600" y="2867040"/>
            <a:ext cx="2971800" cy="3049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lant component db mana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30"/>
          <p:cNvSpPr/>
          <p:nvPr/>
        </p:nvSpPr>
        <p:spPr>
          <a:xfrm>
            <a:off x="5943600" y="3476520"/>
            <a:ext cx="2971800" cy="3049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Event profile db mana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31"/>
          <p:cNvSpPr/>
          <p:nvPr/>
        </p:nvSpPr>
        <p:spPr>
          <a:xfrm>
            <a:off x="5943600" y="4086360"/>
            <a:ext cx="2971800" cy="30456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Climate db analysis &amp; mana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32"/>
          <p:cNvSpPr/>
          <p:nvPr/>
        </p:nvSpPr>
        <p:spPr>
          <a:xfrm>
            <a:off x="5943600" y="4695840"/>
            <a:ext cx="2971800" cy="3049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Temporal def’ns db mana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3"/>
          <p:cNvSpPr/>
          <p:nvPr/>
        </p:nvSpPr>
        <p:spPr>
          <a:xfrm>
            <a:off x="5943600" y="5305320"/>
            <a:ext cx="2971800" cy="5335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External shading and intern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insolation predi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34"/>
          <p:cNvSpPr/>
          <p:nvPr/>
        </p:nvSpPr>
        <p:spPr>
          <a:xfrm>
            <a:off x="5943600" y="6143760"/>
            <a:ext cx="2971800" cy="53316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tand-alone mass flow sol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amp; results reco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35"/>
          <p:cNvSpPr/>
          <p:nvPr/>
        </p:nvSpPr>
        <p:spPr>
          <a:xfrm>
            <a:off x="2752560" y="120960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36"/>
          <p:cNvSpPr/>
          <p:nvPr/>
        </p:nvSpPr>
        <p:spPr>
          <a:xfrm>
            <a:off x="6172200" y="317196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7"/>
          <p:cNvSpPr/>
          <p:nvPr/>
        </p:nvSpPr>
        <p:spPr>
          <a:xfrm>
            <a:off x="6172200" y="37814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38"/>
          <p:cNvSpPr/>
          <p:nvPr/>
        </p:nvSpPr>
        <p:spPr>
          <a:xfrm>
            <a:off x="6172200" y="439092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9"/>
          <p:cNvSpPr/>
          <p:nvPr/>
        </p:nvSpPr>
        <p:spPr>
          <a:xfrm>
            <a:off x="6172200" y="500076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0"/>
          <p:cNvSpPr/>
          <p:nvPr/>
        </p:nvSpPr>
        <p:spPr>
          <a:xfrm>
            <a:off x="5334120" y="3019320"/>
            <a:ext cx="6094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41"/>
          <p:cNvSpPr/>
          <p:nvPr/>
        </p:nvSpPr>
        <p:spPr>
          <a:xfrm>
            <a:off x="5334120" y="362916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42"/>
          <p:cNvSpPr/>
          <p:nvPr/>
        </p:nvSpPr>
        <p:spPr>
          <a:xfrm>
            <a:off x="5334120" y="423864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43"/>
          <p:cNvSpPr/>
          <p:nvPr/>
        </p:nvSpPr>
        <p:spPr>
          <a:xfrm>
            <a:off x="5334120" y="492444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44"/>
          <p:cNvSpPr/>
          <p:nvPr/>
        </p:nvSpPr>
        <p:spPr>
          <a:xfrm>
            <a:off x="5334120" y="561024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45"/>
          <p:cNvSpPr/>
          <p:nvPr/>
        </p:nvSpPr>
        <p:spPr>
          <a:xfrm>
            <a:off x="2514600" y="248616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46"/>
          <p:cNvSpPr/>
          <p:nvPr/>
        </p:nvSpPr>
        <p:spPr>
          <a:xfrm>
            <a:off x="2895480" y="2486160"/>
            <a:ext cx="180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47"/>
          <p:cNvSpPr/>
          <p:nvPr/>
        </p:nvSpPr>
        <p:spPr>
          <a:xfrm>
            <a:off x="2895480" y="6296040"/>
            <a:ext cx="3048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48"/>
          <p:cNvSpPr/>
          <p:nvPr/>
        </p:nvSpPr>
        <p:spPr>
          <a:xfrm>
            <a:off x="1619280" y="1581120"/>
            <a:ext cx="10857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robl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9"/>
          <p:cNvSpPr/>
          <p:nvPr/>
        </p:nvSpPr>
        <p:spPr>
          <a:xfrm>
            <a:off x="2133720" y="5686560"/>
            <a:ext cx="9144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Mass fl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0"/>
          <p:cNvSpPr/>
          <p:nvPr/>
        </p:nvSpPr>
        <p:spPr>
          <a:xfrm>
            <a:off x="1600200" y="2695680"/>
            <a:ext cx="8380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s data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1581120" y="3914640"/>
            <a:ext cx="876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Ex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52"/>
          <p:cNvSpPr/>
          <p:nvPr/>
        </p:nvSpPr>
        <p:spPr>
          <a:xfrm>
            <a:off x="2514600" y="240984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53"/>
          <p:cNvSpPr/>
          <p:nvPr/>
        </p:nvSpPr>
        <p:spPr>
          <a:xfrm>
            <a:off x="3048120" y="240984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Availability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nary versions can be downloaded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esru.strath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urce code available through versioning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esru.strath.ac.uk/Programs/ESP-r_central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Resourc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esru.strath.ac.uk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mailing li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esru.strath.ac.uk/Programs/user_club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Demonstration and exercis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ding domain exerci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ng co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ng 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ibuting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ng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ing boundary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sing air flow and internal 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ing plant and controls ide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ng ob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ing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z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onstructions databas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base of construction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uctivity, density, and specific hea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red emissivity and solar absorptivit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s many standard materia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ily mod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base of multilayer constr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yer-by-layer descrip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s materials from elements databa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y thickness of each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973160" y="5286240"/>
            <a:ext cx="4648320" cy="152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paque envelop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2381400" y="2171880"/>
            <a:ext cx="4608360" cy="4103640"/>
            <a:chOff x="2381400" y="2171880"/>
            <a:chExt cx="4608360" cy="4103640"/>
          </a:xfrm>
        </p:grpSpPr>
        <p:sp>
          <p:nvSpPr>
            <p:cNvPr id="254" name="Rectangle 4"/>
            <p:cNvSpPr/>
            <p:nvPr/>
          </p:nvSpPr>
          <p:spPr>
            <a:xfrm>
              <a:off x="2381400" y="2171880"/>
              <a:ext cx="4608360" cy="410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5" name="Picture 5" descr=""/>
            <p:cNvPicPr/>
            <p:nvPr/>
          </p:nvPicPr>
          <p:blipFill>
            <a:blip r:embed="rId1"/>
            <a:stretch/>
          </p:blipFill>
          <p:spPr>
            <a:xfrm>
              <a:off x="3465000" y="2423880"/>
              <a:ext cx="2440800" cy="3598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Defining geometry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icit geometrical model required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-surface radiation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l surface conv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d external conv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ar shading and insolation patte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3429000" cy="3024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5410080" y="3733920"/>
            <a:ext cx="3400560" cy="29239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5"/>
          <p:cNvSpPr/>
          <p:nvPr/>
        </p:nvSpPr>
        <p:spPr>
          <a:xfrm>
            <a:off x="4267080" y="4724280"/>
            <a:ext cx="60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Defining geometry: creating a zo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4193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ordinat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vertex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in vertices to form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urfa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one must be completely enclo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ts of handy tools to assist data in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152960" cy="32860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"/>
          <p:cNvSpPr/>
          <p:nvPr/>
        </p:nvSpPr>
        <p:spPr>
          <a:xfrm>
            <a:off x="1618200" y="5629320"/>
            <a:ext cx="48013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Simpler models are better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Defining geometry: Creating a building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562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ding defined zone-by-z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ones can be moved, copied, deleted, and mer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 the model (make a sketch) before attempting data inp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D input possible, but generally easier to use project mana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void unnecessary complex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5791320" y="1752480"/>
            <a:ext cx="31161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Building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-r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-r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 thermal dom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air flow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Defining Geometry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314360" y="2077920"/>
            <a:ext cx="6505560" cy="39988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2184480" y="2525760"/>
            <a:ext cx="502272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paque envelope: Attribute surfac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rfaces attributed by assigning multilayer constructions from data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2733840" y="3600360"/>
            <a:ext cx="303840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geometrical input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2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ed transparent multilayer constru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d in similar fashion as opaque mlc’s,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cal properties also requir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s fill characterized by a thermal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import optical properties from Wind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wall geometry first, then insert wind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ame: declare separately as opaque MLC or include effect on window U-value and optical properties of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ert window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tribute the window with the layered construction cal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_glz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2033640" y="2244600"/>
            <a:ext cx="510552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windows input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3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pplying boundary condi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3240"/>
                <a:tab algn="l" pos="625320"/>
                <a:tab algn="l" pos="1539720"/>
                <a:tab algn="l" pos="2454120"/>
                <a:tab algn="l" pos="3368520"/>
                <a:tab algn="l" pos="4282920"/>
                <a:tab algn="l" pos="5197320"/>
                <a:tab algn="l" pos="6111720"/>
                <a:tab algn="l" pos="7026120"/>
                <a:tab algn="l" pos="7940520"/>
                <a:tab algn="l" pos="8854920"/>
                <a:tab algn="l" pos="97693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layer constructions have inside and outside su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3240"/>
                <a:tab algn="l" pos="625320"/>
                <a:tab algn="l" pos="1539720"/>
                <a:tab algn="l" pos="2454120"/>
                <a:tab algn="l" pos="3368520"/>
                <a:tab algn="l" pos="4282920"/>
                <a:tab algn="l" pos="5197320"/>
                <a:tab algn="l" pos="6111720"/>
                <a:tab algn="l" pos="7026120"/>
                <a:tab algn="l" pos="7940520"/>
                <a:tab algn="l" pos="8854920"/>
                <a:tab algn="l" pos="97693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2397240" y="2711520"/>
            <a:ext cx="3957480" cy="32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Types of boundary conditions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67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side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es the zone’s air-poi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handled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st define boundary condition for outside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osed to outdoo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es another z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osed to fixed temperature and radiation sour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ed to ground (user-defined monthly temperature prof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osed to same conditions as insi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iabat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SIMP found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approache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anual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ign boundary condition to each surface the same way it is attributed with a multilayer constru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utomatic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topology checker program to automatically match common surfaces between adjoining zones and prompt for other boundary condition typ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pplying boundary conditions: Tool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pplying boundary condi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 windows, walls and ceiling to ex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 floor to BASESIMP, and use configuration 4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What is building simulation?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41360" y="1050480"/>
            <a:ext cx="394524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d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quipment siz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ergy use &amp;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cupant com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ir qu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light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ous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s integrated design and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65120" y="905040"/>
            <a:ext cx="4373640" cy="5257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727920" y="6337440"/>
            <a:ext cx="40514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MHC “Healthy House”, Toron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boundary condition input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4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mposing internal gai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5760" y="1384200"/>
            <a:ext cx="8310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l gains can be set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ccupa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gh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ui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 internal g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s in W or W/ m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diant and convective por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sible and latent por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ains are schedul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 to import fractional profiles from previously created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mposing air flow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methods for handling air f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xplicitl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lculated with a network air-flow model (coming late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mal impact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mpo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lows calcu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filtr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air flow from the outdoors to the z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Ventil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air flow from another zone (or at a set temperatur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647720" y="4562640"/>
            <a:ext cx="543888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mposing air flow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760" y="1384200"/>
            <a:ext cx="8310240" cy="616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 infiltration and ventilation r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zone-by-zone bas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c/h (receiving zon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dul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source zone (or temperature) for venti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w rates can be controlled (3-stage) as a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one tempera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acent zone tempera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door tempera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nd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mposing air flows and internal gai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18352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Object 3"/>
          <p:cNvGraphicFramePr/>
          <p:nvPr/>
        </p:nvGraphicFramePr>
        <p:xfrm>
          <a:off x="1143000" y="2133720"/>
          <a:ext cx="6172200" cy="41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617220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operations input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5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Modelling plant and controls Ideally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methods for plant model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icitly with a component mode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l plant model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behavior of HVAC system modeled, but not compon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ual approach employed by ESP-r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deal control: Sensor and actuato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t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ens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zone tempera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temperature in another z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x of zone temperature and M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door condition: temperature, wind, so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t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ctua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point of current zone (convective he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a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in a layered construction (radiant sl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vective/radiative h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deal control: Control law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fy control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ntrol law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l heat injection/extraction with fixed capaci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e-floa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/off and 3-posi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ant volume, variable tempera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D, fuzzy-logic PI-P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fy set points and heating &amp; cooling capac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pplying ideal control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10720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"/>
          <p:cNvGrpSpPr/>
          <p:nvPr/>
        </p:nvGrpSpPr>
        <p:grpSpPr>
          <a:xfrm>
            <a:off x="1685880" y="2033640"/>
            <a:ext cx="6091200" cy="4064040"/>
            <a:chOff x="1685880" y="2033640"/>
            <a:chExt cx="6091200" cy="4064040"/>
          </a:xfrm>
        </p:grpSpPr>
        <p:graphicFrame>
          <p:nvGraphicFramePr>
            <p:cNvPr id="317" name="Object 4"/>
            <p:cNvGraphicFramePr/>
            <p:nvPr/>
          </p:nvGraphicFramePr>
          <p:xfrm>
            <a:off x="1685880" y="2033640"/>
            <a:ext cx="6091200" cy="406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85880" y="2033640"/>
                      <a:ext cx="6091200" cy="406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Text Box 5"/>
            <p:cNvSpPr/>
            <p:nvPr/>
          </p:nvSpPr>
          <p:spPr>
            <a:xfrm>
              <a:off x="1685880" y="2033640"/>
              <a:ext cx="6091200" cy="40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Rectangle 6"/>
          <p:cNvSpPr/>
          <p:nvPr/>
        </p:nvSpPr>
        <p:spPr>
          <a:xfrm>
            <a:off x="2714400" y="2270160"/>
            <a:ext cx="12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free floating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 rot="16200000">
            <a:off x="3165480" y="21934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477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914400" y="6553080"/>
            <a:ext cx="71229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age: Clarke, J.A. (2001)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nergy Simulation in Building Design, 2</a:t>
            </a:r>
            <a:r>
              <a:rPr b="0" i="1" lang="en-GB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inputs for zone controls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6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Shading and Insola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methods for inso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ed insolation within zone 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ffuse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olation to 1 or 2 su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ding and insolation module: 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ding and insolation mod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obstruction blocks, window reveals, overha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ailed internal insolati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es not account for self sh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ude obstruction geome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dding obstruc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9636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inputs for zone shading and insolation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7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Performing simula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weather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period of sim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oose time st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 togg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y model, surface convection model, solver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ce detailed 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vection coefficients, air flow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 zone temperatures and plant injections as simulation progr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Performing simula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10720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3640" indent="-276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ulate house with constant set-point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640" indent="-276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eat simulation, but use set-back thermost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640" indent="-276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ulate from Jan 9-15, 1 hour time st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640" indent="-276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r /usr/esru/esp-r/climate/ottawa.cwec for the weathe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3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nalyzing Resul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 solution variables against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one, surface, and interstitial temperatu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t injections or extrac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iltration &amp; ventilation load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l loads;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plots of cross-sectional temper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aph frequency distrib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mperatu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t fluxes;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xt output of instantaneous and integrated qua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nalyzing Resul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500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ot zone temperature and heat injection for constant set-point temperature si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05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0500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eat for set-back thermostat si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Levels of resolu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"/>
          <p:cNvSpPr/>
          <p:nvPr/>
        </p:nvSpPr>
        <p:spPr>
          <a:xfrm>
            <a:off x="390600" y="2581200"/>
            <a:ext cx="8172360" cy="1800"/>
          </a:xfrm>
          <a:prstGeom prst="line">
            <a:avLst/>
          </a:prstGeom>
          <a:ln w="101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57560" y="1574640"/>
            <a:ext cx="14454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easibilit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368440" y="1725480"/>
            <a:ext cx="1491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sidenti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547880" y="1725480"/>
            <a:ext cx="1599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042680" y="1725480"/>
            <a:ext cx="12582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search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305720" y="5527800"/>
            <a:ext cx="6559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 DOE Software tools directory:</a:t>
            </a:r>
            <a:br>
              <a:rPr sz="5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ttp://www.eere.energy.gov/buildings/tools_directory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130320" y="2944440"/>
            <a:ext cx="8661240" cy="1787760"/>
            <a:chOff x="-130320" y="2944440"/>
            <a:chExt cx="8661240" cy="1787760"/>
          </a:xfrm>
        </p:grpSpPr>
        <p:grpSp>
          <p:nvGrpSpPr>
            <p:cNvPr id="111" name="Group 9"/>
            <p:cNvGrpSpPr/>
            <p:nvPr/>
          </p:nvGrpSpPr>
          <p:grpSpPr>
            <a:xfrm>
              <a:off x="-130320" y="2944440"/>
              <a:ext cx="8249400" cy="1356840"/>
              <a:chOff x="-130320" y="2944440"/>
              <a:chExt cx="8249400" cy="1356840"/>
            </a:xfrm>
          </p:grpSpPr>
          <p:sp>
            <p:nvSpPr>
              <p:cNvPr id="112" name="Text Box 10"/>
              <p:cNvSpPr/>
              <p:nvPr/>
            </p:nvSpPr>
            <p:spPr>
              <a:xfrm rot="18540000">
                <a:off x="-280440" y="3463560"/>
                <a:ext cx="144396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Arial"/>
                  </a:rPr>
                  <a:t>RETScreen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Text Box 11"/>
              <p:cNvSpPr/>
              <p:nvPr/>
            </p:nvSpPr>
            <p:spPr>
              <a:xfrm rot="18540000">
                <a:off x="1177920" y="3350520"/>
                <a:ext cx="11347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Hot 2000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Text Box 12"/>
              <p:cNvSpPr/>
              <p:nvPr/>
            </p:nvSpPr>
            <p:spPr>
              <a:xfrm rot="18540000">
                <a:off x="2376000" y="3351960"/>
                <a:ext cx="11347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Hot 3000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13"/>
              <p:cNvSpPr/>
              <p:nvPr/>
            </p:nvSpPr>
            <p:spPr>
              <a:xfrm rot="18540000">
                <a:off x="4259160" y="3321720"/>
                <a:ext cx="1256400" cy="60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eQuest</a:t>
                </a:r>
                <a:br>
                  <a:rPr sz="2200"/>
                </a:b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(DOE 2.1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Text Box 14"/>
              <p:cNvSpPr/>
              <p:nvPr/>
            </p:nvSpPr>
            <p:spPr>
              <a:xfrm rot="18540000">
                <a:off x="5401800" y="3458520"/>
                <a:ext cx="143028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EnergyPlus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Text Box 15"/>
              <p:cNvSpPr/>
              <p:nvPr/>
            </p:nvSpPr>
            <p:spPr>
              <a:xfrm rot="18540000">
                <a:off x="6899400" y="3302280"/>
                <a:ext cx="1209240" cy="60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TRNSYS,</a:t>
                </a:r>
                <a:br>
                  <a:rPr sz="2200"/>
                </a:b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ESP-r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Text Box 16"/>
            <p:cNvSpPr/>
            <p:nvPr/>
          </p:nvSpPr>
          <p:spPr>
            <a:xfrm>
              <a:off x="273960" y="4430520"/>
              <a:ext cx="1678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(Easy-to-use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17"/>
            <p:cNvSpPr/>
            <p:nvPr/>
          </p:nvSpPr>
          <p:spPr>
            <a:xfrm>
              <a:off x="6869160" y="4420800"/>
              <a:ext cx="16617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(Hard-to-use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Open source softwar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5546880" y="3467160"/>
            <a:ext cx="3149280" cy="38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5429160" y="1204920"/>
            <a:ext cx="3314880" cy="2143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760" y="1384200"/>
            <a:ext cx="8310240" cy="57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-r is free softw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censed under the G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e-and-share-alik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aroun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ibutions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.Eidenhoven, U.London, NRC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ordia, U. Calgary, Dalhousie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. Toronto, Carleton, Laval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le Polytechnique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Research focused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78501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-r is a research to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ed by graduate students and prof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-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-principles” philoso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se-of-Use is not a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ers are research-foc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resources for general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11 interface circa 19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of surprises (bugs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xpect to be frustra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SP-r: X11 interfac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37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Cairney</dc:creator>
  <dc:description/>
  <dc:language>en-US</dc:language>
  <cp:lastModifiedBy>jon@esru.strath.ac.uk</cp:lastModifiedBy>
  <dcterms:modified xsi:type="dcterms:W3CDTF">2019-10-22T09:24:30Z</dcterms:modified>
  <cp:revision>19</cp:revision>
  <dc:subject/>
  <dc:title>PCC V2 Proposal</dc:title>
</cp:coreProperties>
</file>