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79182-0753-45ED-93A4-A154FC1A55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5E285-AAB5-4E63-B7D4-A7BDA8F471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A131C-AD01-48D0-AFCC-993148A9B6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FDF0F-62CC-46C1-8686-8FA124D01A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A01C0-2CBB-43B7-88EE-645CF5AFC6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E0E3A-9E9E-4DC3-A660-D8D6FE9E35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E565F-F6F0-44C4-8FEB-1EF49667FC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F5C4D-D31D-4AC5-A86B-1C5B81F600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33C36-3B47-4C2D-927E-69BEDD4414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D6B33-7F6B-4FC3-856B-953BE25D1A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2A6F7-8CF4-4EC6-821B-F650CF954E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D1D47-C112-40DD-8282-143FDF8CF4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5535720"/>
            <a:ext cx="9145440" cy="1322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6ba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2280" y="601992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6167-0176-4BF7-886E-7815B3C9B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e6ba1"/>
                </a:solidFill>
                <a:latin typeface="Tahoma"/>
              </a:rPr>
              <a:t>Working with PV and SDHW modules in ESP-r</a:t>
            </a:r>
            <a:endParaRPr b="1" lang="en-US" sz="32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Bart Lomanow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November 23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e6ba1"/>
                </a:solidFill>
                <a:latin typeface="Tahoma"/>
              </a:rPr>
              <a:t>PV</a:t>
            </a:r>
            <a:endParaRPr b="1" lang="en-US" sz="32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171360">
              <a:lnSpc>
                <a:spcPct val="100000"/>
              </a:lnSpc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In ESP-r, a PV module is situated on an existing zone su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3160">
              <a:lnSpc>
                <a:spcPct val="100000"/>
              </a:lnSpc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PV construction is physically linked to the thermal solution domain since it is a surface in a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3160">
              <a:lnSpc>
                <a:spcPct val="100000"/>
              </a:lnSpc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For a PV rack on a flat roof, must build dummy zone to represent the ar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100000"/>
              </a:lnSpc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General Procedure for specifying PV in ESP-r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3160">
              <a:lnSpc>
                <a:spcPct val="100000"/>
              </a:lnSpc>
              <a:spcBef>
                <a:spcPts val="400"/>
              </a:spcBef>
              <a:buClr>
                <a:srgbClr val="0e6ba1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Create transparent construction to represent PV compo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3160">
              <a:lnSpc>
                <a:spcPct val="100000"/>
              </a:lnSpc>
              <a:spcBef>
                <a:spcPts val="400"/>
              </a:spcBef>
              <a:buClr>
                <a:srgbClr val="0e6ba1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Create a special material component to link the TMC zone surface to the PV calculation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3160">
              <a:lnSpc>
                <a:spcPct val="100000"/>
              </a:lnSpc>
              <a:spcBef>
                <a:spcPts val="400"/>
              </a:spcBef>
              <a:buClr>
                <a:srgbClr val="0e6ba1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Create a DC node in an electrical network and connect the PV array to the DC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4773600" cy="363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3809880" y="990720"/>
            <a:ext cx="381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16040" indent="-173160">
              <a:lnSpc>
                <a:spcPct val="100000"/>
              </a:lnSpc>
              <a:spcBef>
                <a:spcPts val="34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See /tester/test_suite/pv_example or /tester/test_suite/bld_P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e6ba1"/>
                </a:solidFill>
                <a:latin typeface="Tahoma"/>
              </a:rPr>
              <a:t>PV transparent construction </a:t>
            </a:r>
            <a:endParaRPr b="1" lang="en-US" sz="32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288612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733920" y="914400"/>
            <a:ext cx="2759040" cy="33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53080" y="1371600"/>
            <a:ext cx="2286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Optical property s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80000"/>
              </a:lnSpc>
              <a:spcBef>
                <a:spcPts val="34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Direct transmission is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80000"/>
              </a:lnSpc>
              <a:spcBef>
                <a:spcPts val="34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Solar absorptivities of Silicium layer drive PV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80000"/>
              </a:lnSpc>
              <a:spcBef>
                <a:spcPts val="34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Thermal domain solver assumes solar absorbed is turned entirely into he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9040" y="1576440"/>
            <a:ext cx="2095560" cy="2048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1676520"/>
            <a:ext cx="12193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209680" y="4495680"/>
            <a:ext cx="3276720" cy="1654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0" y="4876920"/>
            <a:ext cx="228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7120" indent="-1713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000000"/>
                </a:solidFill>
                <a:latin typeface="Calibri"/>
              </a:rPr>
              <a:t>*.tmc</a:t>
            </a: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 file holds PV solar optical properties just like for wind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e6ba1"/>
                </a:solidFill>
                <a:latin typeface="Tahoma"/>
              </a:rPr>
              <a:t>Special materials component </a:t>
            </a:r>
            <a:endParaRPr b="1" lang="en-US" sz="32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5181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171360">
              <a:lnSpc>
                <a:spcPct val="80000"/>
              </a:lnSpc>
              <a:spcBef>
                <a:spcPts val="34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Create PV special materials component in prj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3160">
              <a:lnSpc>
                <a:spcPct val="80000"/>
              </a:lnSpc>
              <a:spcBef>
                <a:spcPts val="34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zone composition menu -&gt; integrated renew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80000"/>
              </a:lnSpc>
              <a:spcBef>
                <a:spcPts val="34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HOT3000 uses WATSUN-PV model (special material type 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80000"/>
              </a:lnSpc>
              <a:spcBef>
                <a:spcPts val="34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Calibri"/>
              </a:rPr>
              <a:t>Refer to [1] or source code for WATSUN-PV model description and input parameter defin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80000"/>
              </a:lnSpc>
              <a:spcBef>
                <a:spcPts val="34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Look for subroutine SPMCMP5 in esrubld/spmatl.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80000"/>
              </a:lnSpc>
              <a:spcBef>
                <a:spcPts val="34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A special materials file is crea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80000"/>
              </a:lnSpc>
              <a:spcBef>
                <a:spcPts val="34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The special materials file tag in the model configuration (cfg) file is </a:t>
            </a:r>
            <a:r>
              <a:rPr b="0" i="1" lang="en-CA" sz="1400" spc="-1" strike="noStrike">
                <a:solidFill>
                  <a:srgbClr val="000000"/>
                </a:solidFill>
                <a:latin typeface="Calibri"/>
              </a:rPr>
              <a:t>*sp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3276720"/>
            <a:ext cx="8077320" cy="224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e6ba1"/>
                </a:solidFill>
                <a:latin typeface="Tahoma"/>
              </a:rPr>
              <a:t>Electrical network </a:t>
            </a:r>
            <a:endParaRPr b="1" lang="en-US" sz="32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8640" y="914400"/>
            <a:ext cx="5181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171360">
              <a:lnSpc>
                <a:spcPct val="100000"/>
              </a:lnSpc>
              <a:spcBef>
                <a:spcPts val="451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Simplest network: 1 DC node and one PV connected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2873520" cy="525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457200" y="3505320"/>
            <a:ext cx="266688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124080" y="2743200"/>
            <a:ext cx="1524240" cy="9144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3886200"/>
            <a:ext cx="266688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4038480"/>
            <a:ext cx="1524240" cy="7621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648320" y="2133720"/>
            <a:ext cx="3305160" cy="139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648320" y="4114800"/>
            <a:ext cx="3971880" cy="139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e6ba1"/>
                </a:solidFill>
                <a:latin typeface="Tahoma"/>
              </a:rPr>
              <a:t>Electrical network – sample file</a:t>
            </a:r>
            <a:endParaRPr b="1" lang="en-US" sz="32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562720" y="1828800"/>
            <a:ext cx="358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171360"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Electrical network file tag in model configuration file is </a:t>
            </a:r>
            <a:r>
              <a:rPr b="0" i="1" lang="en-CA" sz="1600" spc="-1" strike="noStrike">
                <a:solidFill>
                  <a:srgbClr val="000000"/>
                </a:solidFill>
                <a:latin typeface="Arial"/>
              </a:rPr>
              <a:t>*p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5286600" cy="538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e6ba1"/>
                </a:solidFill>
                <a:latin typeface="Tahoma"/>
              </a:rPr>
              <a:t>SDHW </a:t>
            </a:r>
            <a:endParaRPr b="1" lang="en-US" sz="32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581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171360">
              <a:lnSpc>
                <a:spcPct val="90000"/>
              </a:lnSpc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Refer to [2] for a description of the SDHW model and see example: /tester/test_suite/plt_SDH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90000"/>
              </a:lnSpc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Unlike the DHW model, SDHW is modeled as an explicit plant network in ESP-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3160">
              <a:lnSpc>
                <a:spcPct val="90000"/>
              </a:lnSpc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See ESP-r cook-book for a good tutorial on plant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90000"/>
              </a:lnSpc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Plant control functions actuate the pumps in the system based on sensed tank and collector proper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90000"/>
              </a:lnSpc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The DHW draw profile is modeled as a dummy plant component. The draw profile can be changed by editing the plant component.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8320" y="914400"/>
            <a:ext cx="3809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622800" indent="-150480">
              <a:lnSpc>
                <a:spcPct val="100000"/>
              </a:lnSpc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HOT3000 input screen for SDH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13200" y="1460520"/>
            <a:ext cx="5178240" cy="345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e6ba1"/>
                </a:solidFill>
                <a:latin typeface="Tahoma"/>
              </a:rPr>
              <a:t>SDHW - files </a:t>
            </a:r>
            <a:endParaRPr b="1" lang="en-US" sz="32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200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171360">
              <a:lnSpc>
                <a:spcPct val="100000"/>
              </a:lnSpc>
              <a:spcBef>
                <a:spcPts val="451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Model files required for SDHW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3160">
              <a:lnSpc>
                <a:spcPct val="100000"/>
              </a:lnSpc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0000"/>
                </a:solidFill>
                <a:latin typeface="Calibri"/>
              </a:rPr>
              <a:t>*.pln</a:t>
            </a: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 – plant network file holds component description and data, component connections and component containments (if plant components are situated in a thermal zone then the UA heat losses are represented as zone casual gai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3160">
              <a:lnSpc>
                <a:spcPct val="100000"/>
              </a:lnSpc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0000"/>
                </a:solidFill>
                <a:latin typeface="Calibri"/>
              </a:rPr>
              <a:t>*.ctl</a:t>
            </a: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 – contains all control functions for building, plant, et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914400"/>
            <a:ext cx="3200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7120" indent="-171360">
              <a:lnSpc>
                <a:spcPct val="100000"/>
              </a:lnSpc>
              <a:spcBef>
                <a:spcPts val="451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Configuration model </a:t>
            </a:r>
            <a:r>
              <a:rPr b="0" i="1" lang="en-CA" sz="1800" spc="-1" strike="noStrike">
                <a:solidFill>
                  <a:srgbClr val="000000"/>
                </a:solidFill>
                <a:latin typeface="Calibri"/>
              </a:rPr>
              <a:t>(*.cfg</a:t>
            </a: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) cha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505400" cy="261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6629400" y="4343400"/>
            <a:ext cx="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419720" y="4916520"/>
            <a:ext cx="4429080" cy="146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4352760" y="3700440"/>
            <a:ext cx="2667240" cy="1843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1800" y="6051600"/>
            <a:ext cx="3752640" cy="3301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e6ba1"/>
                </a:solidFill>
                <a:latin typeface="Tahoma"/>
              </a:rPr>
              <a:t>References </a:t>
            </a:r>
            <a:endParaRPr b="1" lang="en-US" sz="32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[1] Mottillo, M., Beausoleil-Morrison, I., Couture, L., Poissant, Y., “ A Comparison and Validation of Two Photovoltaic Models”, eSim 20?? presuma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[2] Haddad, K., Purdy, J., Sibbitt, B., “Simulation of Residential Solar DHW Systems in HOT3000 Software”, eSim 20?? presuma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13:41:55Z</dcterms:created>
  <dc:creator>comm branch NRCan User</dc:creator>
  <dc:description/>
  <dc:language>en-US</dc:language>
  <cp:lastModifiedBy>blomanow</cp:lastModifiedBy>
  <dcterms:modified xsi:type="dcterms:W3CDTF">2009-11-26T14:33:15Z</dcterms:modified>
  <cp:revision>28</cp:revision>
  <dc:subject/>
  <dc:title>PowerPoint Presentation</dc:title>
</cp:coreProperties>
</file>