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293FF-98EF-4875-B0D5-1B959E4408C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6691A-6C0A-4AB1-92E1-CC6EED657C3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66445-44B0-4BB3-8E20-5D4F676E3EC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5A5A4-A7E9-41C3-94CB-ACD7D2C9CB3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lectrical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pecial materials (PV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into building fab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emperatur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ance computed like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68280" y="2894040"/>
            <a:ext cx="78613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wer conditioning (DC-DC, AC-DC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050840" y="158760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375240" y="159696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243240" y="1460520"/>
            <a:ext cx="167976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5"/>
          <p:cNvCxnSpPr>
            <a:stCxn id="181" idx="6"/>
            <a:endCxn id="183" idx="1"/>
          </p:cNvCxnSpPr>
          <p:nvPr/>
        </p:nvCxnSpPr>
        <p:spPr>
          <a:xfrm>
            <a:off x="1976040" y="2050560"/>
            <a:ext cx="1267560" cy="10440"/>
          </a:xfrm>
          <a:prstGeom prst="bentConnector3">
            <a:avLst>
              <a:gd name="adj1" fmla="val 49857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6"/>
          <p:cNvCxnSpPr>
            <a:stCxn id="183" idx="3"/>
          </p:cNvCxnSpPr>
          <p:nvPr/>
        </p:nvCxnSpPr>
        <p:spPr>
          <a:xfrm>
            <a:off x="4923000" y="2060280"/>
            <a:ext cx="1452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Text Box 18"/>
          <p:cNvSpPr/>
          <p:nvPr/>
        </p:nvSpPr>
        <p:spPr>
          <a:xfrm>
            <a:off x="3748320" y="1871640"/>
            <a:ext cx="718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0" descr=""/>
          <p:cNvPicPr/>
          <p:nvPr/>
        </p:nvPicPr>
        <p:blipFill>
          <a:blip r:embed="rId1"/>
          <a:stretch/>
        </p:blipFill>
        <p:spPr>
          <a:xfrm>
            <a:off x="893880" y="4710240"/>
            <a:ext cx="7640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 Electrical network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16040" y="1085760"/>
            <a:ext cx="7713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3294000" y="5130720"/>
            <a:ext cx="3808440" cy="1408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al network with PV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92120" y="879480"/>
            <a:ext cx="609480" cy="60948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6"/>
          <p:cNvSpPr/>
          <p:nvPr/>
        </p:nvSpPr>
        <p:spPr>
          <a:xfrm rot="2875200">
            <a:off x="1071360" y="1198440"/>
            <a:ext cx="26964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7"/>
          <p:cNvSpPr/>
          <p:nvPr/>
        </p:nvSpPr>
        <p:spPr>
          <a:xfrm rot="2875200">
            <a:off x="1047600" y="1103040"/>
            <a:ext cx="11736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8"/>
          <p:cNvSpPr/>
          <p:nvPr/>
        </p:nvSpPr>
        <p:spPr>
          <a:xfrm rot="2875200">
            <a:off x="823680" y="1092240"/>
            <a:ext cx="56520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9"/>
          <p:cNvSpPr/>
          <p:nvPr/>
        </p:nvSpPr>
        <p:spPr>
          <a:xfrm rot="2875200">
            <a:off x="883800" y="906120"/>
            <a:ext cx="11736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7"/>
          <p:cNvSpPr/>
          <p:nvPr/>
        </p:nvSpPr>
        <p:spPr>
          <a:xfrm>
            <a:off x="610200" y="3009960"/>
            <a:ext cx="981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8"/>
          <p:cNvSpPr/>
          <p:nvPr/>
        </p:nvSpPr>
        <p:spPr>
          <a:xfrm>
            <a:off x="358560" y="1447200"/>
            <a:ext cx="674280" cy="749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9"/>
          <p:cNvSpPr/>
          <p:nvPr/>
        </p:nvSpPr>
        <p:spPr>
          <a:xfrm flipH="1" flipV="1">
            <a:off x="489960" y="1962000"/>
            <a:ext cx="398160" cy="65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6"/>
          <p:cNvGrpSpPr/>
          <p:nvPr/>
        </p:nvGrpSpPr>
        <p:grpSpPr>
          <a:xfrm>
            <a:off x="768240" y="5632560"/>
            <a:ext cx="405000" cy="404640"/>
            <a:chOff x="768240" y="5632560"/>
            <a:chExt cx="405000" cy="404640"/>
          </a:xfrm>
        </p:grpSpPr>
        <p:sp>
          <p:nvSpPr>
            <p:cNvPr id="202" name="Oval 87"/>
            <p:cNvSpPr/>
            <p:nvPr/>
          </p:nvSpPr>
          <p:spPr>
            <a:xfrm>
              <a:off x="76824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8"/>
            <p:cNvSpPr/>
            <p:nvPr/>
          </p:nvSpPr>
          <p:spPr>
            <a:xfrm rot="16200000">
              <a:off x="74808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90" descr="MCj03969140000[1]"/>
          <p:cNvPicPr/>
          <p:nvPr/>
        </p:nvPicPr>
        <p:blipFill>
          <a:blip r:embed="rId3"/>
          <a:stretch/>
        </p:blipFill>
        <p:spPr>
          <a:xfrm>
            <a:off x="4935600" y="5319720"/>
            <a:ext cx="755640" cy="1031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2" descr="MCj03969400000[1]"/>
          <p:cNvPicPr/>
          <p:nvPr/>
        </p:nvPicPr>
        <p:blipFill>
          <a:blip r:embed="rId4"/>
          <a:stretch/>
        </p:blipFill>
        <p:spPr>
          <a:xfrm>
            <a:off x="5991120" y="533088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3" descr="MCj04325170000[1]"/>
          <p:cNvPicPr/>
          <p:nvPr/>
        </p:nvPicPr>
        <p:blipFill>
          <a:blip r:embed="rId5"/>
          <a:stretch/>
        </p:blipFill>
        <p:spPr>
          <a:xfrm>
            <a:off x="3673440" y="5479920"/>
            <a:ext cx="887400" cy="7099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95"/>
          <p:cNvGrpSpPr/>
          <p:nvPr/>
        </p:nvGrpSpPr>
        <p:grpSpPr>
          <a:xfrm>
            <a:off x="1585800" y="5632560"/>
            <a:ext cx="405000" cy="404640"/>
            <a:chOff x="1585800" y="5632560"/>
            <a:chExt cx="405000" cy="404640"/>
          </a:xfrm>
        </p:grpSpPr>
        <p:sp>
          <p:nvSpPr>
            <p:cNvPr id="208" name="Oval 96"/>
            <p:cNvSpPr/>
            <p:nvPr/>
          </p:nvSpPr>
          <p:spPr>
            <a:xfrm>
              <a:off x="158580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97"/>
            <p:cNvSpPr/>
            <p:nvPr/>
          </p:nvSpPr>
          <p:spPr>
            <a:xfrm rot="16200000">
              <a:off x="156564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8"/>
          <p:cNvGrpSpPr/>
          <p:nvPr/>
        </p:nvGrpSpPr>
        <p:grpSpPr>
          <a:xfrm>
            <a:off x="2428920" y="5632560"/>
            <a:ext cx="404640" cy="404640"/>
            <a:chOff x="2428920" y="5632560"/>
            <a:chExt cx="404640" cy="404640"/>
          </a:xfrm>
        </p:grpSpPr>
        <p:sp>
          <p:nvSpPr>
            <p:cNvPr id="211" name="Oval 99"/>
            <p:cNvSpPr/>
            <p:nvPr/>
          </p:nvSpPr>
          <p:spPr>
            <a:xfrm>
              <a:off x="2428920" y="563256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0"/>
            <p:cNvSpPr/>
            <p:nvPr/>
          </p:nvSpPr>
          <p:spPr>
            <a:xfrm rot="16200000">
              <a:off x="2408400" y="568260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01"/>
          <p:cNvSpPr/>
          <p:nvPr/>
        </p:nvSpPr>
        <p:spPr>
          <a:xfrm>
            <a:off x="695160" y="4710240"/>
            <a:ext cx="755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3"/>
          <p:cNvSpPr/>
          <p:nvPr/>
        </p:nvSpPr>
        <p:spPr>
          <a:xfrm>
            <a:off x="976320" y="47214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4"/>
          <p:cNvSpPr/>
          <p:nvPr/>
        </p:nvSpPr>
        <p:spPr>
          <a:xfrm>
            <a:off x="1798560" y="470052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5"/>
          <p:cNvSpPr/>
          <p:nvPr/>
        </p:nvSpPr>
        <p:spPr>
          <a:xfrm>
            <a:off x="2641680" y="473724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>
            <a:off x="2154240" y="2127240"/>
            <a:ext cx="3537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07"/>
          <p:cNvCxnSpPr>
            <a:stCxn id="196" idx="0"/>
          </p:cNvCxnSpPr>
          <p:nvPr/>
        </p:nvCxnSpPr>
        <p:spPr>
          <a:xfrm>
            <a:off x="1968480" y="1455840"/>
            <a:ext cx="767520" cy="65304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108"/>
          <p:cNvSpPr/>
          <p:nvPr/>
        </p:nvSpPr>
        <p:spPr>
          <a:xfrm>
            <a:off x="3003480" y="3156480"/>
            <a:ext cx="1546200" cy="433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109"/>
          <p:cNvCxnSpPr>
            <a:endCxn id="219" idx="0"/>
          </p:cNvCxnSpPr>
          <p:nvPr/>
        </p:nvCxnSpPr>
        <p:spPr>
          <a:xfrm flipH="1" rot="16200000">
            <a:off x="3258000" y="2634840"/>
            <a:ext cx="10263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110"/>
          <p:cNvCxnSpPr>
            <a:stCxn id="219" idx="2"/>
          </p:cNvCxnSpPr>
          <p:nvPr/>
        </p:nvCxnSpPr>
        <p:spPr>
          <a:xfrm rot="5400000">
            <a:off x="3214800" y="4143960"/>
            <a:ext cx="1111680" cy="118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Line 111"/>
          <p:cNvSpPr/>
          <p:nvPr/>
        </p:nvSpPr>
        <p:spPr>
          <a:xfrm flipH="1">
            <a:off x="5211720" y="4721400"/>
            <a:ext cx="158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2"/>
          <p:cNvSpPr/>
          <p:nvPr/>
        </p:nvSpPr>
        <p:spPr>
          <a:xfrm>
            <a:off x="4611240" y="3193920"/>
            <a:ext cx="172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-AC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1043640" y="6191280"/>
            <a:ext cx="1433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VAC Pu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5241960" y="4811760"/>
            <a:ext cx="2212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-driven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16"/>
          <p:cNvCxnSpPr/>
          <p:nvPr/>
        </p:nvCxnSpPr>
        <p:spPr>
          <a:xfrm flipH="1" rot="16200000">
            <a:off x="7501680" y="4915440"/>
            <a:ext cx="923040" cy="565920"/>
          </a:xfrm>
          <a:prstGeom prst="bentConnector3">
            <a:avLst>
              <a:gd name="adj1" fmla="val 10081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Text Box 117"/>
          <p:cNvSpPr/>
          <p:nvPr/>
        </p:nvSpPr>
        <p:spPr>
          <a:xfrm>
            <a:off x="7684200" y="5754600"/>
            <a:ext cx="1239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8"/>
          <p:cNvSpPr/>
          <p:nvPr/>
        </p:nvSpPr>
        <p:spPr>
          <a:xfrm>
            <a:off x="3318120" y="1782720"/>
            <a:ext cx="240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bus (floating volt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9"/>
          <p:cNvSpPr/>
          <p:nvPr/>
        </p:nvSpPr>
        <p:spPr>
          <a:xfrm>
            <a:off x="6838200" y="4381560"/>
            <a:ext cx="1521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-bus (120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V located on west-roof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432080" y="1768320"/>
            <a:ext cx="6161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electrical network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be coupled to other domai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I model 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al network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&amp; Hybri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 and occupant-driven lo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--- renew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pling pla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ions and result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 network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355920" y="374184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 rot="5400000">
            <a:off x="5179320" y="506808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2"/>
          <p:cNvCxnSpPr>
            <a:stCxn id="99" idx="4"/>
            <a:endCxn id="100" idx="0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AutoShape 13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14"/>
          <p:cNvCxnSpPr>
            <a:stCxn id="98" idx="6"/>
            <a:endCxn id="101" idx="2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15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Rectangle 18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9"/>
          <p:cNvCxnSpPr>
            <a:stCxn id="107" idx="3"/>
            <a:endCxn id="99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Rectangle 20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21"/>
          <p:cNvCxnSpPr>
            <a:stCxn id="99" idx="6"/>
            <a:endCxn id="109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AutoShape 22"/>
          <p:cNvCxnSpPr>
            <a:stCxn id="109" idx="2"/>
            <a:endCxn id="102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Text Box 23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880320" y="621036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044600" y="407844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17800" y="589752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30"/>
          <p:cNvCxnSpPr>
            <a:stCxn id="107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20" name="AutoShape 31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1" name="Text Box 33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35"/>
          <p:cNvCxnSpPr>
            <a:stCxn id="102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4" name="Text Box 36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5760" y="1384200"/>
            <a:ext cx="8308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portions of network with common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2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3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7"/>
          <p:cNvCxnSpPr>
            <a:stCxn id="128" idx="4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38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39"/>
          <p:cNvCxnSpPr>
            <a:stCxn id="127" idx="6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40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Rectangle 41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42"/>
          <p:cNvCxnSpPr>
            <a:stCxn id="134" idx="3"/>
            <a:endCxn id="128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AutoShape 44"/>
          <p:cNvCxnSpPr>
            <a:stCxn id="128" idx="6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AutoShape 45"/>
          <p:cNvCxnSpPr>
            <a:endCxn id="129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46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7566120" y="605808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57"/>
          <p:cNvCxnSpPr>
            <a:stCxn id="129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43" name="Text Box 58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3938040" y="3108240"/>
            <a:ext cx="223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Calcul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comput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coup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1299600" y="5724360"/>
            <a:ext cx="23173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Balanc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4740480" y="5661000"/>
            <a:ext cx="25016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maint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grid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 control volume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(current) and energy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0" y="2486160"/>
            <a:ext cx="8104320" cy="43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319800" y="1852560"/>
            <a:ext cx="2457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467000" y="504504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1467000" y="239400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70040" y="365436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3" idx="4"/>
            <a:endCxn id="154" idx="0"/>
          </p:cNvCxnSpPr>
          <p:nvPr/>
        </p:nvCxnSpPr>
        <p:spPr>
          <a:xfrm flipH="1">
            <a:off x="1929600" y="331956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9"/>
          <p:cNvCxnSpPr/>
          <p:nvPr/>
        </p:nvCxnSpPr>
        <p:spPr>
          <a:xfrm flipH="1">
            <a:off x="1929600" y="471024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onstant, linear impedance betwee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1" descr=""/>
          <p:cNvPicPr/>
          <p:nvPr/>
        </p:nvPicPr>
        <p:blipFill>
          <a:blip r:embed="rId1"/>
          <a:stretch/>
        </p:blipFill>
        <p:spPr>
          <a:xfrm>
            <a:off x="3513240" y="2954160"/>
            <a:ext cx="35622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15"/>
          <p:cNvCxnSpPr>
            <a:stCxn id="162" idx="3"/>
            <a:endCxn id="160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Rectangle 16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17"/>
          <p:cNvCxnSpPr>
            <a:stCxn id="160" idx="6"/>
            <a:endCxn id="164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AutoShape 18"/>
          <p:cNvCxnSpPr>
            <a:stCxn id="164" idx="2"/>
            <a:endCxn id="161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7" name="Text Box 22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26"/>
          <p:cNvCxnSpPr>
            <a:stCxn id="162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70" name="AutoShape 27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1" name="Text Box 28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30"/>
          <p:cNvCxnSpPr>
            <a:stCxn id="161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3743280"/>
            <a:ext cx="684036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 couple network to other domains (plant/building envel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network B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lso stand-in for conductors with non-linear impedanc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60200" y="1676520"/>
            <a:ext cx="861696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32:35Z</dcterms:modified>
  <cp:revision>28</cp:revision>
  <dc:subject/>
  <dc:title>PCC V2 Proposal</dc:title>
</cp:coreProperties>
</file>