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C929-968E-418E-A972-DC3249EC5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F075-2A23-4EA9-B65D-71DE047E7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2EBD-E8AA-4CE9-BA9F-6FFB8FB3B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D6F8-4594-4558-A82C-6658AFDB7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A241-CACE-43DF-A991-5DE115E8D0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B89D-26A1-41A8-A642-C70CE561F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841D-842C-4561-B88C-BC5CD44E1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A6A5-D1CA-464C-A7DF-6DDB09554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CDFE-8C6A-4ED8-BBDD-54D538DF0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C2D7-8555-45AF-B9FC-3D8FAAB54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2BCB-F802-481A-A2EF-60F4DA67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EF65-D794-473C-88A4-7F0A784F7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5535720"/>
            <a:ext cx="9145440" cy="132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6ba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0199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3615-C39A-48A3-83DB-222049F8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Working with PV and SDHW modules in ESP-r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art Loman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vember 2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In ESP-r, a PV module is situated on an existing zon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V construction is physically linked to the thermal solution domain since it is a surface in a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or a PV rack on a flat roof, must build dummy zone to represent th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General Procedure for specifying PV in ESP-r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transparent construction to represent PV 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special material component to link the TMC zone surface to the PV calcula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DC node in an electrical network and connect the PV array to the DC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7360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9880" y="99072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16040" indent="-173160">
              <a:lnSpc>
                <a:spcPct val="10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ee /tester/test_suite/pv_example or /tester/test_suite/bld_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 transparent construction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8861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7590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3080" y="137160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Optical property s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Direct transmission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olar absorptivities of Silicium layer drive PV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rmal domain solver assumes solar absorbed is turned entirely into 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576440"/>
            <a:ext cx="2095560" cy="204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67652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495680"/>
            <a:ext cx="327672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alibri"/>
              </a:rPr>
              <a:t>*.tmc</a:t>
            </a: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 file holds PV solar optical properties just like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pecial materials component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Create PV special materials component in pr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zone composition menu -&gt; integrated 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HOT3000 uses WATSUN-PV model (special material type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alibri"/>
              </a:rPr>
              <a:t>Refer to [1] or source code for WATSUN-PV model description and input paramete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ook for subroutine SPMCMP5 in esrubld/spmatl.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A special materials file is crea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 special materials file tag in the model configuration (cfg) file is </a:t>
            </a: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*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0773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914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implest network: 1 DC node and one PV connec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87352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350532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743200"/>
            <a:ext cx="152424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8620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152424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051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97188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– sample file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ectrical network file tag in model configuration file is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*p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2866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Refer to [2] for a description of the SDHW model and see example: /tester/test_suite/plt_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Unlike the DHW model, SDHW is modeled as an explicit plant network in ESP-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ee ESP-r cook-book for a good tutorial on plant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lant control functions actuate the pumps in the system based on sensed tank and collector proper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The DHW draw profile is modeled as a dummy plant component. The draw profile can be changed by editing the plant component.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1440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2800" indent="-15048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OT3000 input screen for 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13200" y="1460520"/>
            <a:ext cx="517824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- fil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del files required for SDHW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pln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plant network file holds component description and data, component connections and component containments (if plant components are situated in a thermal zone then the UA heat losses are represented as zone casual g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ctl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contains all control functions for building, plant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14400"/>
            <a:ext cx="3200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figuration model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(*.cfg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) cha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54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4916520"/>
            <a:ext cx="4429080" cy="14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352760" y="3700440"/>
            <a:ext cx="2667240" cy="184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1800" y="6051600"/>
            <a:ext cx="3752640" cy="330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Referenc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1] Mottillo, M., Beausoleil-Morrison, I., Couture, L., Poissant, Y., “ A Comparison and Validation of Two Photovoltaic Models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2] Haddad, K., Purdy, J., Sibbitt, B., “Simulation of Residential Solar DHW Systems in HOT3000 Software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41:55Z</dcterms:created>
  <dc:creator>comm branch NRCan User</dc:creator>
  <dc:description/>
  <dc:language>en-US</dc:language>
  <cp:lastModifiedBy>blomanow</cp:lastModifiedBy>
  <dcterms:modified xsi:type="dcterms:W3CDTF">2009-11-26T14:33:15Z</dcterms:modified>
  <cp:revision>28</cp:revision>
  <dc:subject/>
  <dc:title>PowerPoint Presentation</dc:title>
</cp:coreProperties>
</file>