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29.png" ContentType="image/png"/>
  <Override PartName="/ppt/media/image6.png" ContentType="image/png"/>
  <Override PartName="/ppt/media/image7.png" ContentType="image/png"/>
  <Override PartName="/ppt/media/image32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9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25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14.png" ContentType="image/png"/>
  <Override PartName="/ppt/media/image16.png" ContentType="image/png"/>
  <Override PartName="/ppt/media/image18.png" ContentType="image/png"/>
  <Override PartName="/ppt/media/image19.png" ContentType="image/png"/>
  <Override PartName="/ppt/media/image21.png" ContentType="image/png"/>
  <Override PartName="/ppt/media/image17.png" ContentType="image/png"/>
  <Override PartName="/ppt/media/image20.wmf" ContentType="image/x-wmf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005600" cy="922320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3200"/>
              <a:gd name="textAreaBottom" fmla="*/ 9222840 h 9223200"/>
            </a:gdLst>
            <a:ahLst/>
            <a:rect l="textAreaLeft" t="textAreaTop" r="textAreaRight" b="textAreaBottom"/>
            <a:pathLst>
              <a:path w="21600" h="28437">
                <a:moveTo>
                  <a:pt x="4" y="0"/>
                </a:moveTo>
                <a:arcTo wR="4" hR="4" stAng="16200000" swAng="-5400000"/>
                <a:lnTo>
                  <a:pt x="0" y="28433"/>
                </a:lnTo>
                <a:arcTo wR="4" hR="4" stAng="10800000" swAng="-5400000"/>
                <a:lnTo>
                  <a:pt x="21596" y="2843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6828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31600" y="4365720"/>
            <a:ext cx="5135400" cy="4147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6828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8120F-6342-4D8A-8311-731899A446EE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776880" y="4473720"/>
            <a:ext cx="112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8A767-67D0-42A1-93DA-8826918F5B3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52869-A421-4B5A-AEE0-DD5EAC0F1644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2BE93-38AD-43BF-9BC3-A32AD12CA48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F1C6B-00D2-4EBD-BFF3-093BA82FAC2D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20E99-24ED-4F08-B87D-D7C26F72858D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D4ABA-8834-4033-9217-92FE0E42ACF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4F9DC-9C2E-47CE-B86B-30FF352B8542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B0CAD-87A7-4028-8E5D-B04191581AA5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1FD31-4429-4E72-AF0F-95FCFA512D5F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6A94F-8684-42D1-94E7-0FD8E6176ED2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D9CAA-EA1C-4168-9AFA-A7E12852BBBF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1003D-B266-4A92-AABF-D40947D4BDC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9681E-EDB5-46BE-B741-549D9D54294A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4A925-3C73-40D3-B37E-9333E6DBFDF8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9A5FD-7BEE-4F89-87B3-A7BA38C90FE4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ABC96-5F01-43CA-A709-73E3192415B7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9B251-ED24-4E64-ABB4-3578A4BD7D6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D5629-2CED-4DEB-9645-25DDE2610C15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25685-E624-4C7E-B3EC-F21EFA97FC7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2F661-8F65-4597-BEA0-DA9BBEB5C02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90B3C-79B0-44A5-AA4B-B64D29C437E0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4970F-96BC-41C9-81A4-FE33FF47743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E9D80-5C8F-45D8-AF3B-E766E71362AB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3A229-76CA-4B44-8521-F889CC189E92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77AC3-5516-4E42-884D-C862AFF1F37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F5686-14C0-4E6B-BBB8-3A9016B6E270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F9F1F-F533-47FB-93C0-15C87DAB6E43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C7533-0A25-490B-B943-2403EAD69117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9929A-EC14-4D1E-B742-FCE70922465E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FAF5E-8776-4F13-9F44-3AB135DAAD11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870B1-EFA6-43E5-B176-BFC407EAE512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DDECF-1DB2-42FE-979A-124AAB8B9ED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09D37-2F7A-4F37-A5C6-7D40ECABAC9B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608A4-97B7-4179-8F89-F74D2B9624C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C685A-1CF2-440F-AEB0-B7E063338A32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B6B68-894C-4DF1-BE0A-E68D86572F0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C973B-DAE2-4891-A133-03F9A323B6FA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00044-7075-486C-96FE-F8397E4CF895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ED49B-F57A-4D89-9184-6CED0AA82F49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1CF65-D9C6-4AF5-BCB3-A537B4E1203B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50596-0508-47DF-9C45-5CBD80DF0D8F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BE52D-7795-4F40-8DBC-C3E923F7893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1A612-907F-4A1B-8F04-E73286B95223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AC95D-DCBE-4AFB-835B-7F38AB93AEB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29E9D-3E39-4C43-91E8-ADFDF380E17D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131C8-610B-4181-8489-998204DE1991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9C4C9-AA81-4A37-9BBA-92449D7080A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A6487-C93F-410F-B2F0-04DC89500AF5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AE5CE-9392-4DB6-9DFB-E884464FE5FD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2A6BB-23CC-4204-BE80-1FD2EEB2520D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EC2EB-BFCD-4612-B043-5D45A1C56CCA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04172-0E29-412E-B02F-BE15A86FD8BE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80EAF-77BF-41F2-9FCC-6C1B797B211B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3F5EA-D381-4477-8BDE-1F836A47964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0FD50-B077-41E6-B7C6-D99D82217AFA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5B500-8506-4F4F-8D57-1D53A5681D15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 flipH="1">
            <a:off x="436320" y="809640"/>
            <a:ext cx="8327880" cy="1440"/>
          </a:xfrm>
          <a:prstGeom prst="line">
            <a:avLst/>
          </a:prstGeom>
          <a:ln w="19080">
            <a:solidFill>
              <a:srgbClr val="b399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"/>
          <p:cNvSpPr/>
          <p:nvPr/>
        </p:nvSpPr>
        <p:spPr>
          <a:xfrm flipV="1">
            <a:off x="447840" y="744480"/>
            <a:ext cx="8324640" cy="3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1060560"/>
            <a:ext cx="9145440" cy="5797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971800" cy="38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4"/>
          <a:stretch/>
        </p:blipFill>
        <p:spPr>
          <a:xfrm>
            <a:off x="6400800" y="4929120"/>
            <a:ext cx="2176560" cy="170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2831760"/>
            <a:ext cx="6792840" cy="160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5"/>
          <a:stretch/>
        </p:blipFill>
        <p:spPr>
          <a:xfrm>
            <a:off x="938160" y="6126120"/>
            <a:ext cx="1398600" cy="345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3192480"/>
            <a:ext cx="6794640" cy="86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n Introduction to ESP-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 HOT3000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073160" y="1047600"/>
            <a:ext cx="7164360" cy="55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 Daylight 1-2-3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820800" y="1063800"/>
            <a:ext cx="7513560" cy="53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Capabiliti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"/>
          <p:cNvSpPr/>
          <p:nvPr/>
        </p:nvSpPr>
        <p:spPr>
          <a:xfrm>
            <a:off x="2149560" y="2850120"/>
            <a:ext cx="1306440" cy="14342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elop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3"/>
          <p:cNvSpPr/>
          <p:nvPr/>
        </p:nvSpPr>
        <p:spPr>
          <a:xfrm>
            <a:off x="4726440" y="3898080"/>
            <a:ext cx="1453320" cy="13950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a-zon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flow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F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4"/>
          <p:cNvSpPr/>
          <p:nvPr/>
        </p:nvSpPr>
        <p:spPr>
          <a:xfrm>
            <a:off x="3746880" y="5097960"/>
            <a:ext cx="1453320" cy="14342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-zon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flow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5"/>
          <p:cNvSpPr/>
          <p:nvPr/>
        </p:nvSpPr>
        <p:spPr>
          <a:xfrm>
            <a:off x="2327400" y="4342320"/>
            <a:ext cx="1517400" cy="14342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VAC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6"/>
          <p:cNvSpPr/>
          <p:nvPr/>
        </p:nvSpPr>
        <p:spPr>
          <a:xfrm>
            <a:off x="660240" y="3475800"/>
            <a:ext cx="1517760" cy="13950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ic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7"/>
          <p:cNvSpPr/>
          <p:nvPr/>
        </p:nvSpPr>
        <p:spPr>
          <a:xfrm>
            <a:off x="736560" y="1646640"/>
            <a:ext cx="1517760" cy="14342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oustic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455760" y="955800"/>
            <a:ext cx="744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P-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466560" y="1362240"/>
            <a:ext cx="5896080" cy="5276520"/>
          </a:xfrm>
          <a:prstGeom prst="rect">
            <a:avLst/>
          </a:prstGeom>
          <a:noFill/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2612880" y="1456560"/>
            <a:ext cx="1517760" cy="13950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oor Air 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11"/>
          <p:cNvSpPr/>
          <p:nvPr/>
        </p:nvSpPr>
        <p:spPr>
          <a:xfrm>
            <a:off x="660240" y="5056920"/>
            <a:ext cx="1651320" cy="13950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ewabl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12"/>
          <p:cNvSpPr/>
          <p:nvPr/>
        </p:nvSpPr>
        <p:spPr>
          <a:xfrm>
            <a:off x="3584520" y="2723400"/>
            <a:ext cx="1650960" cy="13950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l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13"/>
          <p:cNvSpPr/>
          <p:nvPr/>
        </p:nvSpPr>
        <p:spPr>
          <a:xfrm>
            <a:off x="4504320" y="1440360"/>
            <a:ext cx="1740240" cy="14342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olation &amp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struction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7048440" y="1838160"/>
            <a:ext cx="161928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7010280" y="1352160"/>
            <a:ext cx="1857600" cy="1239480"/>
          </a:xfrm>
          <a:prstGeom prst="rect">
            <a:avLst/>
          </a:prstGeom>
          <a:noFill/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diance (daylighting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6953400" y="2819880"/>
            <a:ext cx="1857240" cy="1540800"/>
          </a:xfrm>
          <a:prstGeom prst="rect">
            <a:avLst/>
          </a:prstGeom>
          <a:noFill/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RNSY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del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HVAC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6962760" y="4809600"/>
            <a:ext cx="1857240" cy="1239480"/>
          </a:xfrm>
          <a:prstGeom prst="rect">
            <a:avLst/>
          </a:prstGeom>
          <a:noFill/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tlab (controls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6362640" y="5467320"/>
            <a:ext cx="619200" cy="14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6362640" y="3543480"/>
            <a:ext cx="619200" cy="14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6381720" y="1971720"/>
            <a:ext cx="619200" cy="14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Maturity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"/>
          <p:cNvSpPr/>
          <p:nvPr/>
        </p:nvSpPr>
        <p:spPr>
          <a:xfrm>
            <a:off x="2150280" y="2850120"/>
            <a:ext cx="1306440" cy="143424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elop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727880" y="3898440"/>
            <a:ext cx="1453320" cy="139500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a-zon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flow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F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>
            <a:off x="3747960" y="5097960"/>
            <a:ext cx="1453320" cy="143424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-zon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flow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6"/>
          <p:cNvSpPr/>
          <p:nvPr/>
        </p:nvSpPr>
        <p:spPr>
          <a:xfrm>
            <a:off x="2327400" y="4342320"/>
            <a:ext cx="1517400" cy="143424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VAC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7"/>
          <p:cNvSpPr/>
          <p:nvPr/>
        </p:nvSpPr>
        <p:spPr>
          <a:xfrm>
            <a:off x="660240" y="3476160"/>
            <a:ext cx="1517760" cy="1395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ic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8"/>
          <p:cNvSpPr/>
          <p:nvPr/>
        </p:nvSpPr>
        <p:spPr>
          <a:xfrm>
            <a:off x="736560" y="1646640"/>
            <a:ext cx="1517760" cy="1434240"/>
          </a:xfrm>
          <a:prstGeom prst="ellipse">
            <a:avLst/>
          </a:prstGeom>
          <a:solidFill>
            <a:srgbClr val="ffcc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oustic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55760" y="955800"/>
            <a:ext cx="744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P-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466560" y="1362240"/>
            <a:ext cx="5896080" cy="5276520"/>
          </a:xfrm>
          <a:prstGeom prst="rect">
            <a:avLst/>
          </a:prstGeom>
          <a:noFill/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2612880" y="1456560"/>
            <a:ext cx="1517760" cy="1395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oor Air 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660240" y="5057280"/>
            <a:ext cx="1651320" cy="1395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ewabl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3584520" y="2723400"/>
            <a:ext cx="1650960" cy="1395000"/>
          </a:xfrm>
          <a:prstGeom prst="ellipse">
            <a:avLst/>
          </a:prstGeom>
          <a:solidFill>
            <a:srgbClr val="ffcc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l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4502520" y="1440360"/>
            <a:ext cx="1740240" cy="143424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olation &amp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struction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7048440" y="1838160"/>
            <a:ext cx="161928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7010280" y="1351800"/>
            <a:ext cx="1857600" cy="1239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diance (daylighting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6953400" y="2820600"/>
            <a:ext cx="1857240" cy="1540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RNSY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del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HVAC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6962760" y="4809600"/>
            <a:ext cx="1857240" cy="123948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tlab (controls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6362640" y="5467320"/>
            <a:ext cx="619200" cy="14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6362640" y="3543480"/>
            <a:ext cx="619200" cy="14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6381720" y="1971720"/>
            <a:ext cx="619200" cy="14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Building domai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-r’s heat-balance meth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retize in space by representing building fabric and internal zones with control volumes (CV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m heat balances for each C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ultaneously solve matrix of heat bal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627120" y="3549600"/>
            <a:ext cx="7840440" cy="311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Window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006640" y="1303200"/>
            <a:ext cx="5387760" cy="50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Integrating other domai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80160" y="1371600"/>
            <a:ext cx="29858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t (HV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 F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wer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404640" y="928800"/>
            <a:ext cx="5280120" cy="59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Additional capabiliti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lar shad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lar inso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l surface conv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iew factor calc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sual gains control (daylight contro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mperature-dependent material proper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mage rende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trols: network air flow, setback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lant injections: radiant-slabs, convective heating, convective-radiative, etc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trol of optical proper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RNSYS coup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Explicit plant model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55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Integraded CFD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4876920" y="1143000"/>
            <a:ext cx="2903400" cy="5257800"/>
          </a:xfrm>
          <a:prstGeom prst="rect">
            <a:avLst/>
          </a:prstGeom>
          <a:ln w="12600">
            <a:solidFill>
              <a:srgbClr val="000066"/>
            </a:solidFill>
            <a:miter/>
          </a:ln>
        </p:spPr>
      </p:pic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1333440" y="2171880"/>
            <a:ext cx="3257640" cy="33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es ESP-r model building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What is ESP-r capable of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 I model buildings in ESP-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Lighting simulation with Radianc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324480" cy="4173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Structur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304920" y="961920"/>
            <a:ext cx="2438280" cy="533520"/>
          </a:xfrm>
          <a:prstGeom prst="flowChartAlternate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roject management fac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533520" y="2104920"/>
            <a:ext cx="1981080" cy="533520"/>
          </a:xfrm>
          <a:prstGeom prst="flowChartAlternate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imulation eng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380880" y="3247920"/>
            <a:ext cx="2438640" cy="609840"/>
          </a:xfrm>
          <a:prstGeom prst="flowChartAlternate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s recovery &amp; analy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533520" y="4314960"/>
            <a:ext cx="2057400" cy="6094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3rd party graphing &amp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analysis pack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3676680" y="1038240"/>
            <a:ext cx="1523880" cy="3808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3rd party C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3276720" y="2867040"/>
            <a:ext cx="2057400" cy="2286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lant component d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3276720" y="3476520"/>
            <a:ext cx="2057400" cy="2286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Event profiles d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3276720" y="4162320"/>
            <a:ext cx="2057400" cy="2286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Climatic time-series d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0"/>
          <p:cNvSpPr/>
          <p:nvPr/>
        </p:nvSpPr>
        <p:spPr>
          <a:xfrm>
            <a:off x="3276720" y="4772160"/>
            <a:ext cx="2057400" cy="2286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Temporal definitions d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11"/>
          <p:cNvSpPr/>
          <p:nvPr/>
        </p:nvSpPr>
        <p:spPr>
          <a:xfrm>
            <a:off x="3276720" y="5457960"/>
            <a:ext cx="2057400" cy="2286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hading/insolation d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2"/>
          <p:cNvSpPr/>
          <p:nvPr/>
        </p:nvSpPr>
        <p:spPr>
          <a:xfrm>
            <a:off x="1523880" y="1495440"/>
            <a:ext cx="1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1523880" y="2638440"/>
            <a:ext cx="1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4"/>
          <p:cNvSpPr/>
          <p:nvPr/>
        </p:nvSpPr>
        <p:spPr>
          <a:xfrm>
            <a:off x="1523880" y="385776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5"/>
          <p:cNvSpPr/>
          <p:nvPr/>
        </p:nvSpPr>
        <p:spPr>
          <a:xfrm>
            <a:off x="133200" y="1190520"/>
            <a:ext cx="1717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6"/>
          <p:cNvSpPr/>
          <p:nvPr/>
        </p:nvSpPr>
        <p:spPr>
          <a:xfrm>
            <a:off x="142920" y="1201680"/>
            <a:ext cx="1440" cy="236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152280" y="355284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8"/>
          <p:cNvSpPr/>
          <p:nvPr/>
        </p:nvSpPr>
        <p:spPr>
          <a:xfrm>
            <a:off x="914400" y="149544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3048120" y="561024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0"/>
          <p:cNvSpPr/>
          <p:nvPr/>
        </p:nvSpPr>
        <p:spPr>
          <a:xfrm>
            <a:off x="3048120" y="492444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1"/>
          <p:cNvSpPr/>
          <p:nvPr/>
        </p:nvSpPr>
        <p:spPr>
          <a:xfrm>
            <a:off x="3048120" y="431496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2"/>
          <p:cNvSpPr/>
          <p:nvPr/>
        </p:nvSpPr>
        <p:spPr>
          <a:xfrm>
            <a:off x="3048120" y="362916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23"/>
          <p:cNvSpPr/>
          <p:nvPr/>
        </p:nvSpPr>
        <p:spPr>
          <a:xfrm>
            <a:off x="3048120" y="301932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24"/>
          <p:cNvSpPr/>
          <p:nvPr/>
        </p:nvSpPr>
        <p:spPr>
          <a:xfrm>
            <a:off x="3048120" y="3019320"/>
            <a:ext cx="144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25"/>
          <p:cNvSpPr/>
          <p:nvPr/>
        </p:nvSpPr>
        <p:spPr>
          <a:xfrm>
            <a:off x="4191120" y="309564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26"/>
          <p:cNvSpPr/>
          <p:nvPr/>
        </p:nvSpPr>
        <p:spPr>
          <a:xfrm>
            <a:off x="4191120" y="37051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27"/>
          <p:cNvSpPr/>
          <p:nvPr/>
        </p:nvSpPr>
        <p:spPr>
          <a:xfrm>
            <a:off x="4191120" y="439092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8"/>
          <p:cNvSpPr/>
          <p:nvPr/>
        </p:nvSpPr>
        <p:spPr>
          <a:xfrm>
            <a:off x="4191120" y="500076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29"/>
          <p:cNvSpPr/>
          <p:nvPr/>
        </p:nvSpPr>
        <p:spPr>
          <a:xfrm>
            <a:off x="5943600" y="2867040"/>
            <a:ext cx="2971800" cy="3049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lant component db mana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30"/>
          <p:cNvSpPr/>
          <p:nvPr/>
        </p:nvSpPr>
        <p:spPr>
          <a:xfrm>
            <a:off x="5943600" y="3476520"/>
            <a:ext cx="2971800" cy="3049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Event profile db mana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31"/>
          <p:cNvSpPr/>
          <p:nvPr/>
        </p:nvSpPr>
        <p:spPr>
          <a:xfrm>
            <a:off x="5943600" y="4086360"/>
            <a:ext cx="2971800" cy="30456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Climate db analysis &amp; mana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32"/>
          <p:cNvSpPr/>
          <p:nvPr/>
        </p:nvSpPr>
        <p:spPr>
          <a:xfrm>
            <a:off x="5943600" y="4695840"/>
            <a:ext cx="2971800" cy="3049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Temporal def’ns db mana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3"/>
          <p:cNvSpPr/>
          <p:nvPr/>
        </p:nvSpPr>
        <p:spPr>
          <a:xfrm>
            <a:off x="5943600" y="5305320"/>
            <a:ext cx="2971800" cy="5335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External shading and interna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insolation predi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34"/>
          <p:cNvSpPr/>
          <p:nvPr/>
        </p:nvSpPr>
        <p:spPr>
          <a:xfrm>
            <a:off x="5943600" y="6143760"/>
            <a:ext cx="2971800" cy="53316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tand-alone mass flow sol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amp; results reco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35"/>
          <p:cNvSpPr/>
          <p:nvPr/>
        </p:nvSpPr>
        <p:spPr>
          <a:xfrm>
            <a:off x="2752560" y="120960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36"/>
          <p:cNvSpPr/>
          <p:nvPr/>
        </p:nvSpPr>
        <p:spPr>
          <a:xfrm>
            <a:off x="6172200" y="317196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37"/>
          <p:cNvSpPr/>
          <p:nvPr/>
        </p:nvSpPr>
        <p:spPr>
          <a:xfrm>
            <a:off x="6172200" y="37814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38"/>
          <p:cNvSpPr/>
          <p:nvPr/>
        </p:nvSpPr>
        <p:spPr>
          <a:xfrm>
            <a:off x="6172200" y="439092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39"/>
          <p:cNvSpPr/>
          <p:nvPr/>
        </p:nvSpPr>
        <p:spPr>
          <a:xfrm>
            <a:off x="6172200" y="500076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40"/>
          <p:cNvSpPr/>
          <p:nvPr/>
        </p:nvSpPr>
        <p:spPr>
          <a:xfrm>
            <a:off x="5334120" y="3019320"/>
            <a:ext cx="6094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41"/>
          <p:cNvSpPr/>
          <p:nvPr/>
        </p:nvSpPr>
        <p:spPr>
          <a:xfrm>
            <a:off x="5334120" y="362916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42"/>
          <p:cNvSpPr/>
          <p:nvPr/>
        </p:nvSpPr>
        <p:spPr>
          <a:xfrm>
            <a:off x="5334120" y="423864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43"/>
          <p:cNvSpPr/>
          <p:nvPr/>
        </p:nvSpPr>
        <p:spPr>
          <a:xfrm>
            <a:off x="5334120" y="492444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44"/>
          <p:cNvSpPr/>
          <p:nvPr/>
        </p:nvSpPr>
        <p:spPr>
          <a:xfrm>
            <a:off x="5334120" y="561024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45"/>
          <p:cNvSpPr/>
          <p:nvPr/>
        </p:nvSpPr>
        <p:spPr>
          <a:xfrm>
            <a:off x="2514600" y="248616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46"/>
          <p:cNvSpPr/>
          <p:nvPr/>
        </p:nvSpPr>
        <p:spPr>
          <a:xfrm>
            <a:off x="2895480" y="2486160"/>
            <a:ext cx="180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47"/>
          <p:cNvSpPr/>
          <p:nvPr/>
        </p:nvSpPr>
        <p:spPr>
          <a:xfrm>
            <a:off x="2895480" y="6296040"/>
            <a:ext cx="3048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48"/>
          <p:cNvSpPr/>
          <p:nvPr/>
        </p:nvSpPr>
        <p:spPr>
          <a:xfrm>
            <a:off x="1619280" y="1581120"/>
            <a:ext cx="10857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robl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9"/>
          <p:cNvSpPr/>
          <p:nvPr/>
        </p:nvSpPr>
        <p:spPr>
          <a:xfrm>
            <a:off x="2133720" y="5686560"/>
            <a:ext cx="9144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Mass flo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50"/>
          <p:cNvSpPr/>
          <p:nvPr/>
        </p:nvSpPr>
        <p:spPr>
          <a:xfrm>
            <a:off x="1600200" y="2695680"/>
            <a:ext cx="8380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s data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1581120" y="3914640"/>
            <a:ext cx="876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Ex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52"/>
          <p:cNvSpPr/>
          <p:nvPr/>
        </p:nvSpPr>
        <p:spPr>
          <a:xfrm>
            <a:off x="2514600" y="240984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53"/>
          <p:cNvSpPr/>
          <p:nvPr/>
        </p:nvSpPr>
        <p:spPr>
          <a:xfrm>
            <a:off x="3048120" y="240984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Availability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nary versions can be downloaded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esru.strath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urce code available through versioning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esru.strath.ac.uk/Programs/ESP-r_central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Resourc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esru.strath.ac.uk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 mailing li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esru.strath.ac.uk/Programs/user_club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Demonstration and exercis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ilding domain exerci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ng co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ng 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ributing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ng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ing boundary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sing air flow and internal g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ling plant and controls ide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ng ob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orming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z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onstructions databas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base of construction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uctivity, density, and specific hea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red emissivity and solar absorptivit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s many standard materia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sily mod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base of multilayer constru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yer-by-layer descrip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s materials from elements databa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y thickness of each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973160" y="5286240"/>
            <a:ext cx="4648320" cy="152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paque envelop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2381400" y="2171880"/>
            <a:ext cx="4608360" cy="4103640"/>
            <a:chOff x="2381400" y="2171880"/>
            <a:chExt cx="4608360" cy="4103640"/>
          </a:xfrm>
        </p:grpSpPr>
        <p:sp>
          <p:nvSpPr>
            <p:cNvPr id="254" name="Rectangle 4"/>
            <p:cNvSpPr/>
            <p:nvPr/>
          </p:nvSpPr>
          <p:spPr>
            <a:xfrm>
              <a:off x="2381400" y="2171880"/>
              <a:ext cx="4608360" cy="410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5" name="Picture 5" descr=""/>
            <p:cNvPicPr/>
            <p:nvPr/>
          </p:nvPicPr>
          <p:blipFill>
            <a:blip r:embed="rId1"/>
            <a:stretch/>
          </p:blipFill>
          <p:spPr>
            <a:xfrm>
              <a:off x="3465000" y="2423880"/>
              <a:ext cx="2440800" cy="3598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Defining geometry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icit geometrical model required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-surface radiation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l surface conv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d external conv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ar shading and insolation patte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3429000" cy="3024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5410080" y="3733920"/>
            <a:ext cx="3400560" cy="29239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5"/>
          <p:cNvSpPr/>
          <p:nvPr/>
        </p:nvSpPr>
        <p:spPr>
          <a:xfrm>
            <a:off x="4267080" y="4724280"/>
            <a:ext cx="60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Defining geometry: creating a zon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41936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ordinat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vertex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in vertices to form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urfac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one must be completely enclo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ts of handy tools to assist data in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152960" cy="32860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4"/>
          <p:cNvSpPr/>
          <p:nvPr/>
        </p:nvSpPr>
        <p:spPr>
          <a:xfrm>
            <a:off x="1618200" y="5629320"/>
            <a:ext cx="48013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Simpler models are better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Defining geometry: Creating a building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562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ilding defined zone-by-z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ones can be moved, copied, deleted, and mer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 the model (make a sketch) before attempting data inp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D input possible, but generally easier to use project mana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void unnecessary complex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5791320" y="1752480"/>
            <a:ext cx="31161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Building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P-r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P-r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hands-on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 thermal dom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air flow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Defining Geometry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314360" y="2077920"/>
            <a:ext cx="6505560" cy="39988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2184480" y="2525760"/>
            <a:ext cx="502272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paque envelope: Attribute surfac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rfaces attributed by assigning multilayer constructions from data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2733840" y="3600360"/>
            <a:ext cx="303840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atch-u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did not complete the geometrical input, then do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t ESP-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 “skipto intro2” in your 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ed transparent multilayer constru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d in similar fashion as opaque mlc’s,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cal properties also requir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s fill characterized by a thermal res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import optical properties from Wind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wall geometry first, then insert wind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ame: declare separately as opaque MLC or include effect on window U-value and optical properties of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ert window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tribute the window with the layered construction call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_glz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2033640" y="2244600"/>
            <a:ext cx="510552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atch-u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did not complete the windows input, then do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t ESP-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 “skipto intro3” in your 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pplying boundary condi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3240"/>
                <a:tab algn="l" pos="625320"/>
                <a:tab algn="l" pos="1539720"/>
                <a:tab algn="l" pos="2454120"/>
                <a:tab algn="l" pos="3368520"/>
                <a:tab algn="l" pos="4282920"/>
                <a:tab algn="l" pos="5197320"/>
                <a:tab algn="l" pos="6111720"/>
                <a:tab algn="l" pos="7026120"/>
                <a:tab algn="l" pos="7940520"/>
                <a:tab algn="l" pos="8854920"/>
                <a:tab algn="l" pos="97693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layer constructions have inside and outside su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3240"/>
                <a:tab algn="l" pos="625320"/>
                <a:tab algn="l" pos="1539720"/>
                <a:tab algn="l" pos="2454120"/>
                <a:tab algn="l" pos="3368520"/>
                <a:tab algn="l" pos="4282920"/>
                <a:tab algn="l" pos="5197320"/>
                <a:tab algn="l" pos="6111720"/>
                <a:tab algn="l" pos="7026120"/>
                <a:tab algn="l" pos="7940520"/>
                <a:tab algn="l" pos="8854920"/>
                <a:tab algn="l" pos="976932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2397240" y="2711520"/>
            <a:ext cx="3957480" cy="32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Types of boundary conditions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67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side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es the zone’s air-poi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handled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st define boundary condition for outside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osed to outdoo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es another z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osed to fixed temperature and radiation sour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ed to ground (user-defined monthly temperature prof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osed to same conditions as insi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iabat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SIMP found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approache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anual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ign boundary condition to each surface the same way it is attributed with a multilayer constru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utomatic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topology checker program to automatically match common surfaces between adjoining zones and prompt for other boundary condition typ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pplying boundary conditions: Tool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pplying boundary condi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 windows, walls and ceiling to ex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 floor to BASESIMP, and use configuration 4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What is building simulation?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41360" y="1050480"/>
            <a:ext cx="394524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ild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quipment siz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ergy use &amp;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cupant com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ir qu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ylight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ous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s integrated design and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65120" y="905040"/>
            <a:ext cx="4373640" cy="5257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727920" y="6337440"/>
            <a:ext cx="40514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MHC “Healthy House”, Toron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atch-u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did not complete the boundary condition input, then do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t ESP-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 “skipto intro4” in your 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mposing internal gai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5760" y="1384200"/>
            <a:ext cx="8310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l gains can be set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ccupa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gh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qui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ting internal g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s in W or W/ m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diant and convective por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sible and latent por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ains are schedul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 to import fractional profiles from previously created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mposing air flow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methods for handling air f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xplicitl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lculated with a network air-flow model (coming late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mal impact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mpo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lows calcu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filtr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air flow from the outdoors to the z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Ventil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air flow from another zone (or at a set temperatur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647720" y="4562640"/>
            <a:ext cx="543888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mposing air flow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760" y="1384200"/>
            <a:ext cx="8310240" cy="616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ting infiltration and ventilation r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zone-by-zone bas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c/h (receiving zon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edul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source zone (or temperature) for venti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w rates can be controlled (3-stage) as a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one tempera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acent zone tempera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door tempera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nd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mposing air flows and internal gai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18352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Object 3"/>
          <p:cNvGraphicFramePr/>
          <p:nvPr/>
        </p:nvGraphicFramePr>
        <p:xfrm>
          <a:off x="1143000" y="2133720"/>
          <a:ext cx="6172200" cy="41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617220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atch-u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did not complete the operations input, then do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t ESP-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 “skipto intro5” in your 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Modelling plant and controls Ideally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methods for plant model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icitly with a component mode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al plant model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 behavior of HVAC system modeled, but not compon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ual approach employed by ESP-r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deal control: Sensor and actuato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t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ens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zone tempera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temperature in another z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x of zone temperature and M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door condition: temperature, wind, so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t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ctua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point of current zone (convective he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a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in a layered construction (radiant sl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vective/radiative h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deal control: Control law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fy control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ntrol law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al heat injection/extraction with fixed capaci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e-floa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/off and 3-posi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ant volume, variable tempera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D, fuzzy-logic PI-P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fy set points and heating &amp; cooling capac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pplying ideal control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10720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3"/>
          <p:cNvGrpSpPr/>
          <p:nvPr/>
        </p:nvGrpSpPr>
        <p:grpSpPr>
          <a:xfrm>
            <a:off x="1685880" y="2033640"/>
            <a:ext cx="6091200" cy="4064040"/>
            <a:chOff x="1685880" y="2033640"/>
            <a:chExt cx="6091200" cy="4064040"/>
          </a:xfrm>
        </p:grpSpPr>
        <p:graphicFrame>
          <p:nvGraphicFramePr>
            <p:cNvPr id="317" name="Object 4"/>
            <p:cNvGraphicFramePr/>
            <p:nvPr/>
          </p:nvGraphicFramePr>
          <p:xfrm>
            <a:off x="1685880" y="2033640"/>
            <a:ext cx="6091200" cy="406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8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85880" y="2033640"/>
                      <a:ext cx="6091200" cy="406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Text Box 5"/>
            <p:cNvSpPr/>
            <p:nvPr/>
          </p:nvSpPr>
          <p:spPr>
            <a:xfrm>
              <a:off x="1685880" y="2033640"/>
              <a:ext cx="6091200" cy="40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Rectangle 6"/>
          <p:cNvSpPr/>
          <p:nvPr/>
        </p:nvSpPr>
        <p:spPr>
          <a:xfrm>
            <a:off x="2714400" y="2270160"/>
            <a:ext cx="12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free floating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 rot="16200000">
            <a:off x="3165480" y="21934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477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914400" y="6553080"/>
            <a:ext cx="71229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age: Clarke, J.A. (2001)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nergy Simulation in Building Design, 2</a:t>
            </a:r>
            <a:r>
              <a:rPr b="0" i="1" lang="en-GB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atch-u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did not complete the inputs for zone controls, then do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t ESP-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 “skipto intro6” in your 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Shading and Insola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methods for inso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ied insolation within zone 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ffuse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olation to 1 or 2 su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ding and insolation module: 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ding and insolation mod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 obstruction blocks, window reveals, overha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ailed internal insolatio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es not account for self sh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ude obstruction geome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dding obstruc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596360" cy="56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atch-u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did not complete the inputs for zone shading and insolation, then do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t ESP-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 “skipto intro7” in your 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Performing simula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weather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period of sim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oose time st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 togg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y model, surface convection model, solver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ce detailed 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vection coefficients, air flow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itor zone temperatures and plant injections as simulation progr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Performing simula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10720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3640" indent="-2764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ulate house with constant set-point temp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640" indent="-2764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eat simulation, but use set-back thermost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640" indent="-2764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ulate from Jan 9-15, 1 hour time st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640" indent="-2764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r /usr/esru/esp-r/climate/ottawa.cwec for the weathe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36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nalyzing Resul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 solution variables against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one, surface, and interstitial temperatu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t injections or extrac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iltration &amp; ventilation load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l loads;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plots of cross-sectional temper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aph frequency distrib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mperatu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t fluxes;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xt output of instantaneous and integrated qua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nalyzing Resul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6808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500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6808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ot zone temperature and heat injection for constant set-point temperature sim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05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0500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6808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eat for set-back thermostat sim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Levels of resolu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"/>
          <p:cNvSpPr/>
          <p:nvPr/>
        </p:nvSpPr>
        <p:spPr>
          <a:xfrm>
            <a:off x="390600" y="2581200"/>
            <a:ext cx="8172360" cy="1800"/>
          </a:xfrm>
          <a:prstGeom prst="line">
            <a:avLst/>
          </a:prstGeom>
          <a:ln w="101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457560" y="1574640"/>
            <a:ext cx="14454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easibilit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368440" y="1725480"/>
            <a:ext cx="1491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esidenti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547880" y="1725480"/>
            <a:ext cx="1599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042680" y="1725480"/>
            <a:ext cx="12582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esearch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305720" y="5527800"/>
            <a:ext cx="6559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 DOE Software tools directory:</a:t>
            </a:r>
            <a:br>
              <a:rPr sz="5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ttp://www.eere.energy.gov/buildings/tools_directory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130320" y="2944440"/>
            <a:ext cx="8661240" cy="1787760"/>
            <a:chOff x="-130320" y="2944440"/>
            <a:chExt cx="8661240" cy="1787760"/>
          </a:xfrm>
        </p:grpSpPr>
        <p:grpSp>
          <p:nvGrpSpPr>
            <p:cNvPr id="111" name="Group 9"/>
            <p:cNvGrpSpPr/>
            <p:nvPr/>
          </p:nvGrpSpPr>
          <p:grpSpPr>
            <a:xfrm>
              <a:off x="-130320" y="2944440"/>
              <a:ext cx="8249400" cy="1356840"/>
              <a:chOff x="-130320" y="2944440"/>
              <a:chExt cx="8249400" cy="1356840"/>
            </a:xfrm>
          </p:grpSpPr>
          <p:sp>
            <p:nvSpPr>
              <p:cNvPr id="112" name="Text Box 10"/>
              <p:cNvSpPr/>
              <p:nvPr/>
            </p:nvSpPr>
            <p:spPr>
              <a:xfrm rot="18540000">
                <a:off x="-280440" y="3463560"/>
                <a:ext cx="144396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Arial"/>
                  </a:rPr>
                  <a:t>RETScreen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Text Box 11"/>
              <p:cNvSpPr/>
              <p:nvPr/>
            </p:nvSpPr>
            <p:spPr>
              <a:xfrm rot="18540000">
                <a:off x="1177920" y="3350520"/>
                <a:ext cx="11347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Hot 2000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Text Box 12"/>
              <p:cNvSpPr/>
              <p:nvPr/>
            </p:nvSpPr>
            <p:spPr>
              <a:xfrm rot="18540000">
                <a:off x="2376000" y="3351960"/>
                <a:ext cx="11347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Hot 3000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13"/>
              <p:cNvSpPr/>
              <p:nvPr/>
            </p:nvSpPr>
            <p:spPr>
              <a:xfrm rot="18540000">
                <a:off x="4259160" y="3321720"/>
                <a:ext cx="1256400" cy="60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eQuest</a:t>
                </a:r>
                <a:br>
                  <a:rPr sz="2200"/>
                </a:b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(DOE 2.1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Text Box 14"/>
              <p:cNvSpPr/>
              <p:nvPr/>
            </p:nvSpPr>
            <p:spPr>
              <a:xfrm rot="18540000">
                <a:off x="5401800" y="3458520"/>
                <a:ext cx="143028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EnergyPlus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Text Box 15"/>
              <p:cNvSpPr/>
              <p:nvPr/>
            </p:nvSpPr>
            <p:spPr>
              <a:xfrm rot="18540000">
                <a:off x="6899400" y="3302280"/>
                <a:ext cx="1209240" cy="60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TRNSYS,</a:t>
                </a:r>
                <a:br>
                  <a:rPr sz="2200"/>
                </a:b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ESP-r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Text Box 16"/>
            <p:cNvSpPr/>
            <p:nvPr/>
          </p:nvSpPr>
          <p:spPr>
            <a:xfrm>
              <a:off x="273960" y="4430520"/>
              <a:ext cx="1678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(Easy-to-use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17"/>
            <p:cNvSpPr/>
            <p:nvPr/>
          </p:nvSpPr>
          <p:spPr>
            <a:xfrm>
              <a:off x="6869160" y="4420800"/>
              <a:ext cx="16617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(Hard-to-use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Open source softwar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5546880" y="3467160"/>
            <a:ext cx="3149280" cy="38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5429160" y="1204920"/>
            <a:ext cx="3314880" cy="2143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760" y="1384200"/>
            <a:ext cx="8310240" cy="57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-r is free softw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censed under the G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e-and-share-alik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d aroun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ibutions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.Eidenhoven, U.London, NRC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ordia, U. Calgary, Dalhousie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. Toronto, Carleton, Laval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ole Polytechnique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Research focused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78501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-r is a research to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ed by graduate students and prof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-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-principles” philoso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se-of-Use is not a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ers are research-foc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resources for general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11 interface circa 19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of surprises (bugs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xpect to be frustra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ESP-r: X11 interfac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37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Cairney</dc:creator>
  <dc:description/>
  <dc:language>en-US</dc:language>
  <cp:lastModifiedBy>jon@esru.strath.ac.uk</cp:lastModifiedBy>
  <dcterms:modified xsi:type="dcterms:W3CDTF">2019-10-22T09:24:30Z</dcterms:modified>
  <cp:revision>19</cp:revision>
  <dc:subject/>
  <dc:title>PCC V2 Proposal</dc:title>
</cp:coreProperties>
</file>