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828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5200" y="692280"/>
            <a:ext cx="46098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3960" cy="4146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3E4DF-5679-4737-A03B-1AA36678837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84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5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84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5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85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484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35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484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35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85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434880" y="809640"/>
            <a:ext cx="833112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47840" y="742680"/>
            <a:ext cx="83246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1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720" y="2832120"/>
            <a:ext cx="8226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upling TRNSYS Components to ESP-r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12760" y="3610080"/>
            <a:ext cx="656244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ex Ferguson &amp; Weimin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3,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SP-r Plant Compon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10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ATA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omponent total mass (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   300.00        Range (Min Max):     1.0000        100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DATA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iring signal (on/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additional output parameters: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itional outpu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urner output (W)              Type :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 TRNSYS Wrapper in Plant DB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831060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ur approach is to establish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dummy ESP-r component in the database file for TRNSYS wra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elds of node scheme description, miscellaneous data, ADATA, CDATA, and additional outputs have dummy values in the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tual, meaningful values are provided in a text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052640"/>
            <a:ext cx="8310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wrapper aims to be generi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odes, connections, and parameters cannot be fixed beforehan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fun to work with the plant databas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 TRNSYS Wrapper in Plant DB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84280"/>
            <a:ext cx="8310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ant component no 8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and have a loo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Warning: out of prj control 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SP-r Coefficients Matr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2205000"/>
            <a:ext cx="1440000" cy="2303640"/>
          </a:xfrm>
          <a:prstGeom prst="ellipse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060640"/>
            <a:ext cx="1081080" cy="1008000"/>
          </a:xfrm>
          <a:prstGeom prst="ellipse">
            <a:avLst/>
          </a:pr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2205000"/>
            <a:ext cx="865080" cy="2160720"/>
          </a:xfrm>
          <a:prstGeom prst="ellipse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35280" y="2349360"/>
            <a:ext cx="5184720" cy="2592360"/>
            <a:chOff x="1835280" y="2349360"/>
            <a:chExt cx="5184720" cy="2592360"/>
          </a:xfrm>
        </p:grpSpPr>
        <p:sp>
          <p:nvSpPr>
            <p:cNvPr id="124" name=""/>
            <p:cNvSpPr/>
            <p:nvPr/>
          </p:nvSpPr>
          <p:spPr>
            <a:xfrm>
              <a:off x="1835280" y="2421000"/>
              <a:ext cx="72720" cy="1512720"/>
            </a:xfrm>
            <a:custGeom>
              <a:avLst/>
              <a:gdLst>
                <a:gd name="textAreaLeft" fmla="*/ 21240 w 72720"/>
                <a:gd name="textAreaRight" fmla="*/ 73080 w 72720"/>
                <a:gd name="textAreaTop" fmla="*/ 63000 h 1512720"/>
                <a:gd name="textAreaBottom" fmla="*/ 1449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1640" y="2421000"/>
              <a:ext cx="71280" cy="1511280"/>
            </a:xfrm>
            <a:custGeom>
              <a:avLst/>
              <a:gdLst>
                <a:gd name="textAreaLeft" fmla="*/ 0 w 71280"/>
                <a:gd name="textAreaRight" fmla="*/ 50040 w 71280"/>
                <a:gd name="textAreaTop" fmla="*/ 62640 h 1511280"/>
                <a:gd name="textAreaBottom" fmla="*/ 1448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836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836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328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3640" y="2349360"/>
              <a:ext cx="0" cy="1584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4800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2436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6720" y="2349360"/>
              <a:ext cx="71640" cy="2592360"/>
            </a:xfrm>
            <a:custGeom>
              <a:avLst/>
              <a:gdLst>
                <a:gd name="textAreaLeft" fmla="*/ 20880 w 71640"/>
                <a:gd name="textAreaRight" fmla="*/ 72000 w 71640"/>
                <a:gd name="textAreaTop" fmla="*/ 108000 h 2592360"/>
                <a:gd name="textAreaBottom" fmla="*/ 24843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08720" y="2349360"/>
              <a:ext cx="71280" cy="2592360"/>
            </a:xfrm>
            <a:custGeom>
              <a:avLst/>
              <a:gdLst>
                <a:gd name="textAreaLeft" fmla="*/ 0 w 71280"/>
                <a:gd name="textAreaRight" fmla="*/ 50040 w 71280"/>
                <a:gd name="textAreaTop" fmla="*/ 108000 h 2592360"/>
                <a:gd name="textAreaBottom" fmla="*/ 24843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1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1964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1964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19640" y="414972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9640" y="465300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16720" y="2349360"/>
              <a:ext cx="71280" cy="16560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68760 h 1656000"/>
                <a:gd name="textAreaBottom" fmla="*/ 158724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48360" y="2349360"/>
              <a:ext cx="71640" cy="1656000"/>
            </a:xfrm>
            <a:custGeom>
              <a:avLst/>
              <a:gdLst>
                <a:gd name="textAreaLeft" fmla="*/ 0 w 71640"/>
                <a:gd name="textAreaRight" fmla="*/ 50400 w 71640"/>
                <a:gd name="textAreaTop" fmla="*/ 68760 h 1656000"/>
                <a:gd name="textAreaBottom" fmla="*/ 158724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5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5964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0720" y="2997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280" y="29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1928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elf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ros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H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88000" y="5229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efficient Generator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coefficient generator aims at producing the following 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s C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utputs PCA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erent Modelling Approach of TRNS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10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Modell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puts, a TRNSYS components will produce the outputs for state vari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RNSYS Wrapper’s Coefficients Matrix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7080" y="2205000"/>
            <a:ext cx="865440" cy="2016000"/>
          </a:xfrm>
          <a:prstGeom prst="ellipse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421000"/>
            <a:ext cx="72720" cy="1512720"/>
          </a:xfrm>
          <a:custGeom>
            <a:avLst/>
            <a:gdLst>
              <a:gd name="textAreaLeft" fmla="*/ 21240 w 72720"/>
              <a:gd name="textAreaRight" fmla="*/ 73080 w 72720"/>
              <a:gd name="textAreaTop" fmla="*/ 63000 h 1512720"/>
              <a:gd name="textAreaBottom" fmla="*/ 14497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421000"/>
            <a:ext cx="71280" cy="1511280"/>
          </a:xfrm>
          <a:custGeom>
            <a:avLst/>
            <a:gdLst>
              <a:gd name="textAreaLeft" fmla="*/ 0 w 71280"/>
              <a:gd name="textAreaRight" fmla="*/ 50040 w 71280"/>
              <a:gd name="textAreaTop" fmla="*/ 62640 h 1511280"/>
              <a:gd name="textAreaBottom" fmla="*/ 1448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2349360"/>
            <a:ext cx="71280" cy="1656000"/>
          </a:xfrm>
          <a:custGeom>
            <a:avLst/>
            <a:gdLst>
              <a:gd name="textAreaLeft" fmla="*/ 20880 w 71280"/>
              <a:gd name="textAreaRight" fmla="*/ 716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349360"/>
            <a:ext cx="73080" cy="1656000"/>
          </a:xfrm>
          <a:custGeom>
            <a:avLst/>
            <a:gdLst>
              <a:gd name="textAreaLeft" fmla="*/ 0 w 73080"/>
              <a:gd name="textAreaRight" fmla="*/ 51480 w 730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2492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306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1800" y="2349360"/>
            <a:ext cx="71280" cy="1656000"/>
          </a:xfrm>
          <a:custGeom>
            <a:avLst/>
            <a:gdLst>
              <a:gd name="textAreaLeft" fmla="*/ 20880 w 71280"/>
              <a:gd name="textAreaRight" fmla="*/ 716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3440" y="2349360"/>
            <a:ext cx="71280" cy="1656000"/>
          </a:xfrm>
          <a:custGeom>
            <a:avLst/>
            <a:gdLst>
              <a:gd name="textAreaLeft" fmla="*/ 0 w 71280"/>
              <a:gd name="textAreaRight" fmla="*/ 500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492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306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44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elf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H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1341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205000"/>
            <a:ext cx="1584360" cy="2087640"/>
          </a:xfrm>
          <a:prstGeom prst="ellipse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8310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coefficients are entity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ross coefficients exist even if the component has external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S coefficients are TRNSY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efficient Generator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10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can se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s (COUT) will be known once the TRNSYS component generates it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ESP-r outputs (PCAOUT) will be selected from the TRNSY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3860640"/>
            <a:ext cx="8310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31800" indent="-277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wrapper’s task includ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epare the input for the coupled TRNSYS compon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all this TRNSYS subrout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ap TRNSYS outputs to COUT and PCA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Typ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84200"/>
            <a:ext cx="87138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87000"/>
              </a:lnSpc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YPEn(TIME,XIN,OUT,T,DTDT,PAR,INFO,ICNTRL,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TD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N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e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Inpu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are those parameters that might change with simulation time. Potential inpu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variables (temperature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ase flow rate) associated with the connected inflow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utputs of other pla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84836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120000"/>
              </a:lnSpc>
              <a:spcBef>
                <a:spcPts val="13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the use of a wrapper to couple TRNSYS components to ESP-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Parameter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do not change with simulation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mal physical properties (e.g., density and specific heat) that vary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environm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Outpu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rmally many outputs for a TRNSYS components. What we are interested most is to map these TRNSYS outputs to ESP-r’s coefficient generator out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T, states variables for leav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ed additional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it Issu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106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units may be employed by ESP-r and TRNSYS in their inputs and outputs. For example, flow rate has the uni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g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ESP-r while it is usu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g/h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RNS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42920" y="3645000"/>
            <a:ext cx="7058160" cy="2520720"/>
            <a:chOff x="1042920" y="3645000"/>
            <a:chExt cx="7058160" cy="2520720"/>
          </a:xfrm>
        </p:grpSpPr>
        <p:sp>
          <p:nvSpPr>
            <p:cNvPr id="193" name=""/>
            <p:cNvSpPr/>
            <p:nvPr/>
          </p:nvSpPr>
          <p:spPr>
            <a:xfrm>
              <a:off x="1042920" y="4221000"/>
              <a:ext cx="3168720" cy="1368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ESP-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32360" y="4221000"/>
              <a:ext cx="3168720" cy="1368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TRNSY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43280" y="5589720"/>
              <a:ext cx="3673440" cy="576000"/>
            </a:xfrm>
            <a:custGeom>
              <a:avLst/>
              <a:gdLst>
                <a:gd name="textAreaLeft" fmla="*/ 642600 w 3673440"/>
                <a:gd name="textAreaRight" fmla="*/ 2663280 w 3673440"/>
                <a:gd name="textAreaTop" fmla="*/ 77040 h 576000"/>
                <a:gd name="textAreaBottom" fmla="*/ 4989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800000">
              <a:off x="2842920" y="3645000"/>
              <a:ext cx="3600360" cy="576000"/>
            </a:xfrm>
            <a:custGeom>
              <a:avLst/>
              <a:gdLst>
                <a:gd name="textAreaLeft" fmla="*/ 630000 w 3600360"/>
                <a:gd name="textAreaRight" fmla="*/ 2610360 w 3600360"/>
                <a:gd name="textAreaTop" fmla="*/ 77040 h 576000"/>
                <a:gd name="textAreaBottom" fmla="*/ 4989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it Conversion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1060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pproac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bjectiveUnit = sourceUnit *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multiplica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ddi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573360"/>
            <a:ext cx="8310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pproach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c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3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File: Gener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ext file is named as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rnsysInput?.tx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dicates the serial number of that TRNSYS component in the plant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ext file must be located at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../trns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 has the same formats as other ESP-r input text f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s are case se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major sections including component configuration, parameters, inputs, derivatives and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mponent Configur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NSYS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onent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s-Numb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-Conn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?[I],?[I],...,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des-Numbe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iable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,?[I],...,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des-Numbe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ode Connec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1413000"/>
            <a:ext cx="755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 : expected number of  receiving conn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=0 : no entering or leaving external connections a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: only leaving connections a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3213000"/>
            <a:ext cx="468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1: water in heat exchan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de connection  =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2: outlet water for supp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de connection =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99640" y="3357720"/>
            <a:ext cx="2088000" cy="2519280"/>
            <a:chOff x="899640" y="3357720"/>
            <a:chExt cx="2088000" cy="2519280"/>
          </a:xfrm>
        </p:grpSpPr>
        <p:sp>
          <p:nvSpPr>
            <p:cNvPr id="208" name=""/>
            <p:cNvSpPr/>
            <p:nvPr/>
          </p:nvSpPr>
          <p:spPr>
            <a:xfrm>
              <a:off x="1619280" y="4076640"/>
              <a:ext cx="865080" cy="14414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378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763640" y="4724280"/>
              <a:ext cx="216000" cy="577800"/>
              <a:chOff x="1763640" y="4724280"/>
              <a:chExt cx="216000" cy="577800"/>
            </a:xfrm>
          </p:grpSpPr>
          <p:sp>
            <p:nvSpPr>
              <p:cNvPr id="211" name=""/>
              <p:cNvSpPr/>
              <p:nvPr/>
            </p:nvSpPr>
            <p:spPr>
              <a:xfrm>
                <a:off x="1763640" y="4724280"/>
                <a:ext cx="2160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763640" y="479592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63640" y="4869000"/>
                <a:ext cx="21600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763640" y="494028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3640" y="5013360"/>
                <a:ext cx="21600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763640" y="508464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3640" y="5157720"/>
                <a:ext cx="2160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763640" y="5229360"/>
                <a:ext cx="21600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763640" y="3789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3640" y="530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99640" y="587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268360" y="5445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268360" y="37159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0920" y="3357720"/>
              <a:ext cx="9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7000"/>
                </a:lnSpc>
                <a:spcBef>
                  <a:spcPts val="1049"/>
                </a:spcBef>
                <a:tabLst>
                  <a:tab algn="l" pos="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987640" y="5273640"/>
            <a:ext cx="56167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ther schemes are workable but may be not reasonable 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riable Typ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197000"/>
            <a:ext cx="8496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SV value that defines nodal fluid type &amp; coefficient generator model capabiliti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0,10,20 node represents wa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1,11,21 node represents dry air + water vap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9,19,29 node represents some solid material on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ISV&lt;10  model suitable for energy balance on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&lt;=ISV&lt;20  model suitable for energy + single phase mass bal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&lt;=ISV&lt;30  model suitable for energy + two phase mass bal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ameters,   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type(=Y or N), type-dependent-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3068640"/>
            <a:ext cx="590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D, description,  Y,  ?[R]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2, tank volume, Y, 0.3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7640" y="5516640"/>
            <a:ext cx="648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0, fluid density, N, -2, 6, DN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484280"/>
            <a:ext cx="64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description, N, ?[I], ?[I], ?[C*3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2565360"/>
            <a:ext cx="3960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0: 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0: properties that change due to the receiving temp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0: properties that change not due to the receiving temp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2492280"/>
            <a:ext cx="453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: specific heat of dry ai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: specific heat of water    vap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: specific heat of wa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: density of dry ai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: density of water vap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 : density of wa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: 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8232600">
            <a:off x="2836800" y="2003040"/>
            <a:ext cx="935280" cy="355680"/>
          </a:xfrm>
          <a:prstGeom prst="rightArrow">
            <a:avLst>
              <a:gd name="adj1" fmla="val 50000"/>
              <a:gd name="adj2" fmla="val 6573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815200">
            <a:off x="4615920" y="1969560"/>
            <a:ext cx="936720" cy="355680"/>
          </a:xfrm>
          <a:prstGeom prst="rightArrow">
            <a:avLst>
              <a:gd name="adj1" fmla="val 50000"/>
              <a:gd name="adj2" fmla="val 6584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hen and Why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087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for a required component does not exist in the base program (ESP-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ing model is not adequate for a specific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ave time and financial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s,   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type, type-dependent-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2708280"/>
            <a:ext cx="8785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upporting Typ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3 :outdoor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3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 :control vari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2, 2, DM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 :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1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:user fixed val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 0, 35.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1484280"/>
            <a:ext cx="878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upporting Typ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:temperature of a receiving connec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1, 2, 1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3500280"/>
            <a:ext cx="878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:first phase mass flow rate of a receiving conne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2, 2, 1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:second phase mass flow rate of a receiving conne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3, 2, 1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:additional output of a plant compon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4, 3, 2, EN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64000" y="2924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ed no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2924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pl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8139600">
            <a:off x="4787640" y="2565360"/>
            <a:ext cx="492120" cy="355680"/>
          </a:xfrm>
          <a:prstGeom prst="rightArrow">
            <a:avLst>
              <a:gd name="adj1" fmla="val 50000"/>
              <a:gd name="adj2" fmla="val 3459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266400">
            <a:off x="5656320" y="2560320"/>
            <a:ext cx="492120" cy="355680"/>
          </a:xfrm>
          <a:prstGeom prst="rightArrow">
            <a:avLst>
              <a:gd name="adj1" fmla="val 50000"/>
              <a:gd name="adj2" fmla="val 3459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rivative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7840" y="1557000"/>
            <a:ext cx="62643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atives, ?[I],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3645000"/>
            <a:ext cx="511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 ?[R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0560" y="2349360"/>
            <a:ext cx="20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umber of derivativ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2349360"/>
            <a:ext cx="3743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itialization metho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0 : set by ESP-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 : set by us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4508640"/>
            <a:ext cx="856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 the current stage, the derivatives are assumed to represent temperature in oC on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8139600">
            <a:off x="2266200" y="1915920"/>
            <a:ext cx="492120" cy="355320"/>
          </a:xfrm>
          <a:prstGeom prst="rightArrow">
            <a:avLst>
              <a:gd name="adj1" fmla="val 50000"/>
              <a:gd name="adj2" fmla="val 346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3266400">
            <a:off x="3638160" y="1913040"/>
            <a:ext cx="492120" cy="355320"/>
          </a:xfrm>
          <a:prstGeom prst="rightArrow">
            <a:avLst>
              <a:gd name="adj1" fmla="val 50000"/>
              <a:gd name="adj2" fmla="val 346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ut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,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?[I], ?[C*3],  ?[I], ?[C*3], ?[I], C*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8920" y="3357720"/>
            <a:ext cx="8785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ege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&gt; 0, map to TRNSYS outpu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&lt; 0, map to TRNSYS inpu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0, map to zer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270828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70828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s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phase ma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36000" y="2708280"/>
            <a:ext cx="151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marL="217080" indent="-21708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n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phase ma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5084640"/>
            <a:ext cx="820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0000"/>
                </a:solidFill>
                <a:latin typeface="Courier New"/>
              </a:rPr>
              <a:t>2, 2nd node, 5, TE1,  -10, MF1,  0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3474720" y="2006280"/>
            <a:ext cx="358920" cy="1044720"/>
          </a:xfrm>
          <a:prstGeom prst="rightArrowCallout">
            <a:avLst>
              <a:gd name="adj1" fmla="val 72775"/>
              <a:gd name="adj2" fmla="val 72768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5706720" y="2006280"/>
            <a:ext cx="358920" cy="1044720"/>
          </a:xfrm>
          <a:prstGeom prst="rightArrowCallout">
            <a:avLst>
              <a:gd name="adj1" fmla="val 72775"/>
              <a:gd name="adj2" fmla="val 72768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7722720" y="2006640"/>
            <a:ext cx="358920" cy="1044360"/>
          </a:xfrm>
          <a:prstGeom prst="rightArrowCallout">
            <a:avLst>
              <a:gd name="adj1" fmla="val 72750"/>
              <a:gd name="adj2" fmla="val 72743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ut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itional-Outputs,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    description,    ?[I],    ?[C*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16360" y="292428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RNSYS output posi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3573360"/>
            <a:ext cx="82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2,  2nd additional output description,  15,  PW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065840" y="2423160"/>
            <a:ext cx="503280" cy="355320"/>
          </a:xfrm>
          <a:prstGeom prst="rightArrow">
            <a:avLst>
              <a:gd name="adj1" fmla="val 50000"/>
              <a:gd name="adj2" fmla="val 3541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lated Source Files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1294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srucom/readTrnsys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etc/trnsys_wrapper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etc/trnsys_lib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sruplt/trstyp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nclude/trnsys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CA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129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 through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cessary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4000" y="2421000"/>
            <a:ext cx="1944720" cy="244800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908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55600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0872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249228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,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0000" y="436572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,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16720" y="2492280"/>
            <a:ext cx="165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,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88000" y="436572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,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ank Parameter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: 32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ght: 1.8 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: cylindr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loss factor:  0.1 W/m2/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capacitance of fluid: 4200 J/kg/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conductivity of fluid: 0.58 W/m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thermal conductivity: 0 W/m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 of fluid: 1000 kg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 temperature: 5 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iven Condi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tank temperature: 3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36 L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,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5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,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upling Strategi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163160"/>
            <a:ext cx="835164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and executable simulation programs co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mmunicate with each other at ru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stributed simulation in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mulation program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gram contains component models from other simul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589720"/>
            <a:ext cx="835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7280" indent="-287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Reuse at different level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ossible Bug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atible 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pported features such as modules and array operation as a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pport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rippl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lobal variables   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en-CA" sz="2400" spc="-1" strike="noStrike">
                <a:solidFill>
                  <a:srgbClr val="3333cc"/>
                </a:solidFill>
                <a:latin typeface="Arial"/>
              </a:rPr>
              <a:t>trnsys.h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tility functions   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en-CA" sz="2400" spc="-1" strike="noStrike">
                <a:solidFill>
                  <a:srgbClr val="3333cc"/>
                </a:solidFill>
                <a:latin typeface="Arial"/>
              </a:rPr>
              <a:t>trnsys_lib.F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brout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327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gfortran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atien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400" spc="-1" strike="noStrike">
                <a:solidFill>
                  <a:srgbClr val="000000"/>
                </a:solidFill>
                <a:latin typeface="Arial"/>
              </a:rPr>
              <a:t>TRNSYS Simul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00720" cy="45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400" spc="-1" strike="noStrike">
                <a:solidFill>
                  <a:srgbClr val="000000"/>
                </a:solidFill>
                <a:latin typeface="Arial"/>
              </a:rPr>
              <a:t>Results Comparis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2873" t="4454" r="2045" b="3344"/>
          <a:stretch/>
        </p:blipFill>
        <p:spPr>
          <a:xfrm>
            <a:off x="324000" y="1197000"/>
            <a:ext cx="856908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CA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ents  &amp;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Your Help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test the wra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correct the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the scope from plant to electric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 case without copyrigh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5300640"/>
            <a:ext cx="67672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1360" indent="-44136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weiwang@nrcan.gc.c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Internal Coup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component model to be coupled into a subroutine of the host simulation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needs to b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rapper is designed to ease the coupl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you still have to work on the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hy TRNSYS ?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0788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, mod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available for end-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many components commonly found in thermal and electrical ener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in modelling solar ener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Review of ESP-r Plant Model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modelling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matrix structure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rix structure for each plan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nections among pla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matrix structure is known prior to simulation for a well-defined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un time, the simulation fills the matrix with coefficients and solve the stat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Review of ESP-r Plant Model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a new plant component requi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try in the plant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a type in TRNSYS libr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routine to check the validity of its definition in the plant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Initialization call and TIME=TIME0 manipu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routine to generate the required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Every time step manipu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SP-r Plant Component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10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nen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 type     : gas-fired water tank with 2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ption      : 3-node tank for charging by residential fuel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ion date   : 19 Oct 01 11: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e: Single component                    Component code :    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odal Schem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nodes  :   3      No of nonzero matrix elements :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rix positions :   1,   5,   8,  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 connections :   2,   0,  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type    :  20,  21,  2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scellaneou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ta items   :  14    Bdata items   :   0    Cdata items   :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helpdsk</cp:lastModifiedBy>
  <dcterms:modified xsi:type="dcterms:W3CDTF">2007-11-20T15:56:34Z</dcterms:modified>
  <cp:revision>37</cp:revision>
  <dc:subject/>
  <dc:title>PCC V2 Proposal</dc:title>
</cp:coreProperties>
</file>