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png" ContentType="image/png"/>
  <Override PartName="/ppt/media/image8.wmf" ContentType="image/x-wmf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70056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70056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AutoShape 1"/>
          <p:cNvSpPr/>
          <p:nvPr/>
        </p:nvSpPr>
        <p:spPr>
          <a:xfrm>
            <a:off x="0" y="0"/>
            <a:ext cx="7005600" cy="9223200"/>
          </a:xfrm>
          <a:custGeom>
            <a:avLst/>
            <a:gdLst>
              <a:gd name="textAreaLeft" fmla="*/ 360 w 7005600"/>
              <a:gd name="textAreaRight" fmla="*/ 7005240 w 7005600"/>
              <a:gd name="textAreaTop" fmla="*/ 360 h 9223200"/>
              <a:gd name="textAreaBottom" fmla="*/ 9222840 h 9223200"/>
            </a:gdLst>
            <a:ahLst/>
            <a:rect l="textAreaLeft" t="textAreaTop" r="textAreaRight" b="textAreaBottom"/>
            <a:pathLst>
              <a:path w="21600" h="28437">
                <a:moveTo>
                  <a:pt x="4" y="0"/>
                </a:moveTo>
                <a:arcTo wR="4" hR="4" stAng="16200000" swAng="-5400000"/>
                <a:lnTo>
                  <a:pt x="0" y="28433"/>
                </a:lnTo>
                <a:arcTo wR="4" hR="4" stAng="10800000" swAng="-5400000"/>
                <a:lnTo>
                  <a:pt x="21596" y="28437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33720" cy="4604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1"/>
          </p:nvPr>
        </p:nvSpPr>
        <p:spPr>
          <a:xfrm>
            <a:off x="3968280" y="-360"/>
            <a:ext cx="3033720" cy="4604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1600" cy="345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831600" y="4365720"/>
            <a:ext cx="5135400" cy="41479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2"/>
          </p:nvPr>
        </p:nvSpPr>
        <p:spPr>
          <a:xfrm>
            <a:off x="-360" y="8763120"/>
            <a:ext cx="3033720" cy="4586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3"/>
          </p:nvPr>
        </p:nvSpPr>
        <p:spPr>
          <a:xfrm>
            <a:off x="3968280" y="8763120"/>
            <a:ext cx="3033720" cy="4586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FFBBFD-E679-410E-A4D3-E68BF7F06878}" type="slidenum">
              <a:rPr b="0" lang="en-GB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8"/>
          <p:cNvSpPr/>
          <p:nvPr/>
        </p:nvSpPr>
        <p:spPr>
          <a:xfrm>
            <a:off x="776880" y="4473720"/>
            <a:ext cx="1123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1" marL="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7"/>
          <p:cNvSpPr/>
          <p:nvPr/>
        </p:nvSpPr>
        <p:spPr>
          <a:xfrm>
            <a:off x="3968640" y="8763120"/>
            <a:ext cx="3033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F93C6E-F35E-492E-AC6E-3ED032853D8F}" type="slidenum">
              <a:rPr b="0" lang="en-GB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831960" y="4365360"/>
            <a:ext cx="5137200" cy="41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7"/>
          <p:cNvSpPr/>
          <p:nvPr/>
        </p:nvSpPr>
        <p:spPr>
          <a:xfrm>
            <a:off x="3968640" y="8763120"/>
            <a:ext cx="3033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38AC65-C803-4FA1-BC5B-23D8C35E4512}" type="slidenum">
              <a:rPr b="0" lang="en-GB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831960" y="4365360"/>
            <a:ext cx="5137200" cy="41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7"/>
          <p:cNvSpPr/>
          <p:nvPr/>
        </p:nvSpPr>
        <p:spPr>
          <a:xfrm>
            <a:off x="3968640" y="8763120"/>
            <a:ext cx="3033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133AB3-BF12-4517-8B61-96E5E19AC11C}" type="slidenum">
              <a:rPr b="0" lang="en-GB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831960" y="4365360"/>
            <a:ext cx="5137200" cy="41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7"/>
          <p:cNvSpPr/>
          <p:nvPr/>
        </p:nvSpPr>
        <p:spPr>
          <a:xfrm>
            <a:off x="3968640" y="8763120"/>
            <a:ext cx="3033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AD6312-8AE3-4D11-A9C3-377C32601E56}" type="slidenum">
              <a:rPr b="0" lang="en-GB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831960" y="4365360"/>
            <a:ext cx="5137200" cy="41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7"/>
          <p:cNvSpPr/>
          <p:nvPr/>
        </p:nvSpPr>
        <p:spPr>
          <a:xfrm>
            <a:off x="3968640" y="8763120"/>
            <a:ext cx="3033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0166F0-2F0D-4326-B682-7CEA80E0B9A1}" type="slidenum">
              <a:rPr b="0" lang="en-GB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831960" y="4365360"/>
            <a:ext cx="5137200" cy="41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830880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5760" y="4121280"/>
            <a:ext cx="830880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405468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13480" y="1383840"/>
            <a:ext cx="405468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5760" y="4121280"/>
            <a:ext cx="405468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13480" y="4121280"/>
            <a:ext cx="405468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267516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5200" y="1383840"/>
            <a:ext cx="267516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4280" y="1383840"/>
            <a:ext cx="267516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5760" y="4121280"/>
            <a:ext cx="267516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5200" y="4121280"/>
            <a:ext cx="267516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4280" y="4121280"/>
            <a:ext cx="267516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5760" y="1383840"/>
            <a:ext cx="8308800" cy="524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8308800" cy="524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4054680" cy="524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13480" y="1383840"/>
            <a:ext cx="4054680" cy="524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6840" y="428760"/>
            <a:ext cx="83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0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405468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13480" y="1383840"/>
            <a:ext cx="4054680" cy="524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5760" y="4121280"/>
            <a:ext cx="405468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5760" y="1383840"/>
            <a:ext cx="8308800" cy="524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4054680" cy="524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13480" y="1383840"/>
            <a:ext cx="405468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13480" y="4121280"/>
            <a:ext cx="405468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405468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13480" y="1383840"/>
            <a:ext cx="405468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5760" y="4121280"/>
            <a:ext cx="830880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830880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5760" y="4121280"/>
            <a:ext cx="830880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405468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3480" y="1383840"/>
            <a:ext cx="405468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4121280"/>
            <a:ext cx="405468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13480" y="4121280"/>
            <a:ext cx="405468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267516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65200" y="1383840"/>
            <a:ext cx="267516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74280" y="1383840"/>
            <a:ext cx="267516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5760" y="4121280"/>
            <a:ext cx="267516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65200" y="4121280"/>
            <a:ext cx="267516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74280" y="4121280"/>
            <a:ext cx="267516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8308800" cy="524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4054680" cy="524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13480" y="1383840"/>
            <a:ext cx="4054680" cy="524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428760"/>
            <a:ext cx="83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0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405468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13480" y="1383840"/>
            <a:ext cx="4054680" cy="524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5760" y="4121280"/>
            <a:ext cx="405468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4054680" cy="524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3480" y="1383840"/>
            <a:ext cx="405468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13480" y="4121280"/>
            <a:ext cx="405468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405468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3480" y="1383840"/>
            <a:ext cx="405468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5760" y="4121280"/>
            <a:ext cx="830880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1"/>
          <p:cNvSpPr/>
          <p:nvPr/>
        </p:nvSpPr>
        <p:spPr>
          <a:xfrm flipH="1">
            <a:off x="436320" y="809640"/>
            <a:ext cx="8327880" cy="1440"/>
          </a:xfrm>
          <a:prstGeom prst="line">
            <a:avLst/>
          </a:prstGeom>
          <a:ln w="19080">
            <a:solidFill>
              <a:srgbClr val="b399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3"/>
          <p:cNvSpPr/>
          <p:nvPr/>
        </p:nvSpPr>
        <p:spPr>
          <a:xfrm>
            <a:off x="0" y="6172200"/>
            <a:ext cx="91440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5760" y="1383840"/>
            <a:ext cx="8308800" cy="524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89080" indent="-289080">
              <a:lnSpc>
                <a:spcPct val="93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289080" indent="-289080">
              <a:lnSpc>
                <a:spcPct val="93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289080" indent="-289080">
              <a:lnSpc>
                <a:spcPct val="93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89080" indent="-289080">
              <a:lnSpc>
                <a:spcPct val="93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89080" indent="-289080">
              <a:lnSpc>
                <a:spcPct val="93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89080" indent="-289080">
              <a:lnSpc>
                <a:spcPct val="93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Line 5"/>
          <p:cNvSpPr/>
          <p:nvPr/>
        </p:nvSpPr>
        <p:spPr>
          <a:xfrm flipV="1">
            <a:off x="447840" y="744480"/>
            <a:ext cx="8324640" cy="31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0" y="1060560"/>
            <a:ext cx="9145440" cy="57974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"/>
          <p:cNvPicPr/>
          <p:nvPr/>
        </p:nvPicPr>
        <p:blipFill>
          <a:blip r:embed="rId3"/>
          <a:stretch/>
        </p:blipFill>
        <p:spPr>
          <a:xfrm>
            <a:off x="304920" y="304920"/>
            <a:ext cx="2971800" cy="3823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3" descr=""/>
          <p:cNvPicPr/>
          <p:nvPr/>
        </p:nvPicPr>
        <p:blipFill>
          <a:blip r:embed="rId4"/>
          <a:stretch/>
        </p:blipFill>
        <p:spPr>
          <a:xfrm>
            <a:off x="6400800" y="4929120"/>
            <a:ext cx="2176560" cy="17002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828440" y="2831760"/>
            <a:ext cx="6792840" cy="16081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5" descr=""/>
          <p:cNvPicPr/>
          <p:nvPr/>
        </p:nvPicPr>
        <p:blipFill>
          <a:blip r:embed="rId5"/>
          <a:stretch/>
        </p:blipFill>
        <p:spPr>
          <a:xfrm>
            <a:off x="938160" y="6126120"/>
            <a:ext cx="1398600" cy="34596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89080" indent="-289080">
              <a:lnSpc>
                <a:spcPct val="93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289080" indent="-289080">
              <a:lnSpc>
                <a:spcPct val="93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289080" indent="-289080">
              <a:lnSpc>
                <a:spcPct val="93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89080" indent="-289080">
              <a:lnSpc>
                <a:spcPct val="93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89080" indent="-289080">
              <a:lnSpc>
                <a:spcPct val="93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89080" indent="-289080">
              <a:lnSpc>
                <a:spcPct val="93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320" y="3192480"/>
            <a:ext cx="7556760" cy="8683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300" spc="-1" strike="noStrike">
                <a:solidFill>
                  <a:srgbClr val="000000"/>
                </a:solidFill>
                <a:latin typeface="Arial"/>
              </a:rPr>
              <a:t>Modelling inter-zone airflow in ESP-r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Inter-zone air flow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8308800" cy="524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-289080">
              <a:lnSpc>
                <a:spcPct val="93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low modelling is used extensively in ESP-r fo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93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atural ventilation in off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93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lar ventilation pre-he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93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ixed mode venti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93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splacement ventilation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>
              <a:lnSpc>
                <a:spcPct val="93000"/>
              </a:lnSpc>
              <a:spcBef>
                <a:spcPts val="3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93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xamples can be seen in the realistic models section of the exempl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9080" indent="0" algn="ctr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cheduled airflow is ignored when an air flow network is defined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Picture 4" descr="office_af"/>
          <p:cNvPicPr/>
          <p:nvPr/>
        </p:nvPicPr>
        <p:blipFill>
          <a:blip r:embed="rId1"/>
          <a:stretch/>
        </p:blipFill>
        <p:spPr>
          <a:xfrm>
            <a:off x="3352680" y="990720"/>
            <a:ext cx="5464440" cy="5638680"/>
          </a:xfrm>
          <a:prstGeom prst="rect">
            <a:avLst/>
          </a:prstGeom>
          <a:ln w="0">
            <a:noFill/>
          </a:ln>
        </p:spPr>
      </p:pic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Air flow network constituents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3582720" cy="524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-289080">
              <a:lnSpc>
                <a:spcPct val="93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93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necting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93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-nodal conn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Nodes (1)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5400" y="1383840"/>
            <a:ext cx="3811320" cy="524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-289080">
              <a:lnSpc>
                <a:spcPct val="93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oints in the network where the pressure is calculated or kn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93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ode pressures are network state vari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8" name="Group 4"/>
          <p:cNvGrpSpPr/>
          <p:nvPr/>
        </p:nvGrpSpPr>
        <p:grpSpPr>
          <a:xfrm>
            <a:off x="4780080" y="1447920"/>
            <a:ext cx="4058280" cy="4571640"/>
            <a:chOff x="4780080" y="1447920"/>
            <a:chExt cx="4058280" cy="4571640"/>
          </a:xfrm>
        </p:grpSpPr>
        <p:sp>
          <p:nvSpPr>
            <p:cNvPr id="349" name="Rectangle 5"/>
            <p:cNvSpPr/>
            <p:nvPr/>
          </p:nvSpPr>
          <p:spPr>
            <a:xfrm>
              <a:off x="4780080" y="1447920"/>
              <a:ext cx="3899880" cy="45716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50" name="Group 6"/>
            <p:cNvGrpSpPr/>
            <p:nvPr/>
          </p:nvGrpSpPr>
          <p:grpSpPr>
            <a:xfrm>
              <a:off x="4780080" y="1946520"/>
              <a:ext cx="4058280" cy="3783960"/>
              <a:chOff x="4780080" y="1946520"/>
              <a:chExt cx="4058280" cy="3783960"/>
            </a:xfrm>
          </p:grpSpPr>
          <p:sp>
            <p:nvSpPr>
              <p:cNvPr id="351" name="Rectangle 7"/>
              <p:cNvSpPr/>
              <p:nvPr/>
            </p:nvSpPr>
            <p:spPr>
              <a:xfrm>
                <a:off x="5973480" y="1946520"/>
                <a:ext cx="1989360" cy="324144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" name="Line 8"/>
              <p:cNvSpPr/>
              <p:nvPr/>
            </p:nvSpPr>
            <p:spPr>
              <a:xfrm>
                <a:off x="5973480" y="3193200"/>
                <a:ext cx="1989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" name="Line 9"/>
              <p:cNvSpPr/>
              <p:nvPr/>
            </p:nvSpPr>
            <p:spPr>
              <a:xfrm>
                <a:off x="7167240" y="3193200"/>
                <a:ext cx="0" cy="199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" name="Line 10"/>
              <p:cNvSpPr/>
              <p:nvPr/>
            </p:nvSpPr>
            <p:spPr>
              <a:xfrm>
                <a:off x="7167240" y="4107960"/>
                <a:ext cx="795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" name="Oval 11"/>
              <p:cNvSpPr/>
              <p:nvPr/>
            </p:nvSpPr>
            <p:spPr>
              <a:xfrm>
                <a:off x="6928560" y="2445120"/>
                <a:ext cx="158760" cy="16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" name="Oval 12"/>
              <p:cNvSpPr/>
              <p:nvPr/>
            </p:nvSpPr>
            <p:spPr>
              <a:xfrm>
                <a:off x="6530760" y="4107960"/>
                <a:ext cx="158760" cy="16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" name="Oval 13"/>
              <p:cNvSpPr/>
              <p:nvPr/>
            </p:nvSpPr>
            <p:spPr>
              <a:xfrm>
                <a:off x="7485840" y="3525840"/>
                <a:ext cx="158760" cy="16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" name="Oval 14"/>
              <p:cNvSpPr/>
              <p:nvPr/>
            </p:nvSpPr>
            <p:spPr>
              <a:xfrm>
                <a:off x="7485840" y="4523400"/>
                <a:ext cx="158760" cy="16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" name="Rectangle 15"/>
              <p:cNvSpPr/>
              <p:nvPr/>
            </p:nvSpPr>
            <p:spPr>
              <a:xfrm>
                <a:off x="5943960" y="3858480"/>
                <a:ext cx="79200" cy="5814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" name="Line 16"/>
              <p:cNvSpPr/>
              <p:nvPr/>
            </p:nvSpPr>
            <p:spPr>
              <a:xfrm flipH="1">
                <a:off x="7087320" y="3525840"/>
                <a:ext cx="79560" cy="33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" name="Line 17"/>
              <p:cNvSpPr/>
              <p:nvPr/>
            </p:nvSpPr>
            <p:spPr>
              <a:xfrm flipH="1">
                <a:off x="7087320" y="4439880"/>
                <a:ext cx="79560" cy="33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" name="Line 18"/>
              <p:cNvSpPr/>
              <p:nvPr/>
            </p:nvSpPr>
            <p:spPr>
              <a:xfrm>
                <a:off x="6689880" y="3110400"/>
                <a:ext cx="318240" cy="82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" name="Freeform 19"/>
              <p:cNvSpPr/>
              <p:nvPr/>
            </p:nvSpPr>
            <p:spPr>
              <a:xfrm>
                <a:off x="6490800" y="2611440"/>
                <a:ext cx="543600" cy="1412640"/>
              </a:xfrm>
              <a:custGeom>
                <a:avLst/>
                <a:gdLst/>
                <a:ahLst/>
                <a:rect l="l" t="t" r="r" b="b"/>
                <a:pathLst>
                  <a:path w="328" h="816">
                    <a:moveTo>
                      <a:pt x="72" y="816"/>
                    </a:moveTo>
                    <a:cubicBezTo>
                      <a:pt x="36" y="704"/>
                      <a:pt x="0" y="592"/>
                      <a:pt x="24" y="528"/>
                    </a:cubicBezTo>
                    <a:cubicBezTo>
                      <a:pt x="48" y="464"/>
                      <a:pt x="184" y="464"/>
                      <a:pt x="216" y="432"/>
                    </a:cubicBezTo>
                    <a:cubicBezTo>
                      <a:pt x="248" y="400"/>
                      <a:pt x="224" y="376"/>
                      <a:pt x="216" y="336"/>
                    </a:cubicBezTo>
                    <a:cubicBezTo>
                      <a:pt x="208" y="296"/>
                      <a:pt x="152" y="224"/>
                      <a:pt x="168" y="192"/>
                    </a:cubicBezTo>
                    <a:cubicBezTo>
                      <a:pt x="184" y="160"/>
                      <a:pt x="296" y="168"/>
                      <a:pt x="312" y="144"/>
                    </a:cubicBezTo>
                    <a:cubicBezTo>
                      <a:pt x="328" y="120"/>
                      <a:pt x="264" y="72"/>
                      <a:pt x="264" y="48"/>
                    </a:cubicBezTo>
                    <a:cubicBezTo>
                      <a:pt x="264" y="24"/>
                      <a:pt x="288" y="12"/>
                      <a:pt x="312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" name="Freeform 20"/>
              <p:cNvSpPr/>
              <p:nvPr/>
            </p:nvSpPr>
            <p:spPr>
              <a:xfrm>
                <a:off x="6689880" y="4273920"/>
                <a:ext cx="795600" cy="512280"/>
              </a:xfrm>
              <a:custGeom>
                <a:avLst/>
                <a:gdLst/>
                <a:ahLst/>
                <a:rect l="l" t="t" r="r" b="b"/>
                <a:pathLst>
                  <a:path w="480" h="296">
                    <a:moveTo>
                      <a:pt x="0" y="0"/>
                    </a:moveTo>
                    <a:cubicBezTo>
                      <a:pt x="28" y="68"/>
                      <a:pt x="56" y="136"/>
                      <a:pt x="96" y="144"/>
                    </a:cubicBezTo>
                    <a:cubicBezTo>
                      <a:pt x="136" y="152"/>
                      <a:pt x="208" y="40"/>
                      <a:pt x="240" y="48"/>
                    </a:cubicBezTo>
                    <a:cubicBezTo>
                      <a:pt x="272" y="56"/>
                      <a:pt x="280" y="152"/>
                      <a:pt x="288" y="192"/>
                    </a:cubicBezTo>
                    <a:cubicBezTo>
                      <a:pt x="296" y="232"/>
                      <a:pt x="264" y="280"/>
                      <a:pt x="288" y="288"/>
                    </a:cubicBezTo>
                    <a:cubicBezTo>
                      <a:pt x="312" y="296"/>
                      <a:pt x="400" y="256"/>
                      <a:pt x="432" y="240"/>
                    </a:cubicBezTo>
                    <a:cubicBezTo>
                      <a:pt x="464" y="224"/>
                      <a:pt x="472" y="208"/>
                      <a:pt x="480" y="192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" name="Freeform 21"/>
              <p:cNvSpPr/>
              <p:nvPr/>
            </p:nvSpPr>
            <p:spPr>
              <a:xfrm>
                <a:off x="6689880" y="3678120"/>
                <a:ext cx="795600" cy="512280"/>
              </a:xfrm>
              <a:custGeom>
                <a:avLst/>
                <a:gdLst/>
                <a:ahLst/>
                <a:rect l="l" t="t" r="r" b="b"/>
                <a:pathLst>
                  <a:path w="480" h="296">
                    <a:moveTo>
                      <a:pt x="0" y="296"/>
                    </a:moveTo>
                    <a:cubicBezTo>
                      <a:pt x="20" y="288"/>
                      <a:pt x="40" y="280"/>
                      <a:pt x="48" y="248"/>
                    </a:cubicBezTo>
                    <a:cubicBezTo>
                      <a:pt x="56" y="216"/>
                      <a:pt x="24" y="120"/>
                      <a:pt x="48" y="104"/>
                    </a:cubicBezTo>
                    <a:cubicBezTo>
                      <a:pt x="72" y="88"/>
                      <a:pt x="160" y="152"/>
                      <a:pt x="192" y="152"/>
                    </a:cubicBezTo>
                    <a:cubicBezTo>
                      <a:pt x="224" y="152"/>
                      <a:pt x="224" y="128"/>
                      <a:pt x="240" y="104"/>
                    </a:cubicBezTo>
                    <a:cubicBezTo>
                      <a:pt x="256" y="80"/>
                      <a:pt x="256" y="16"/>
                      <a:pt x="288" y="8"/>
                    </a:cubicBezTo>
                    <a:cubicBezTo>
                      <a:pt x="320" y="0"/>
                      <a:pt x="400" y="56"/>
                      <a:pt x="432" y="56"/>
                    </a:cubicBezTo>
                    <a:cubicBezTo>
                      <a:pt x="464" y="56"/>
                      <a:pt x="472" y="16"/>
                      <a:pt x="480" y="8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" name="Oval 22"/>
              <p:cNvSpPr/>
              <p:nvPr/>
            </p:nvSpPr>
            <p:spPr>
              <a:xfrm>
                <a:off x="5814720" y="4107960"/>
                <a:ext cx="158760" cy="16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" name="Oval 23"/>
              <p:cNvSpPr/>
              <p:nvPr/>
            </p:nvSpPr>
            <p:spPr>
              <a:xfrm>
                <a:off x="7963200" y="2445120"/>
                <a:ext cx="158760" cy="16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" name="Freeform 24"/>
              <p:cNvSpPr/>
              <p:nvPr/>
            </p:nvSpPr>
            <p:spPr>
              <a:xfrm>
                <a:off x="7087680" y="2431440"/>
                <a:ext cx="954720" cy="207720"/>
              </a:xfrm>
              <a:custGeom>
                <a:avLst/>
                <a:gdLst/>
                <a:ahLst/>
                <a:rect l="l" t="t" r="r" b="b"/>
                <a:pathLst>
                  <a:path w="576" h="120">
                    <a:moveTo>
                      <a:pt x="0" y="56"/>
                    </a:moveTo>
                    <a:cubicBezTo>
                      <a:pt x="8" y="80"/>
                      <a:pt x="16" y="104"/>
                      <a:pt x="48" y="104"/>
                    </a:cubicBezTo>
                    <a:cubicBezTo>
                      <a:pt x="80" y="104"/>
                      <a:pt x="160" y="72"/>
                      <a:pt x="192" y="56"/>
                    </a:cubicBezTo>
                    <a:cubicBezTo>
                      <a:pt x="224" y="40"/>
                      <a:pt x="208" y="0"/>
                      <a:pt x="240" y="8"/>
                    </a:cubicBezTo>
                    <a:cubicBezTo>
                      <a:pt x="272" y="16"/>
                      <a:pt x="352" y="88"/>
                      <a:pt x="384" y="104"/>
                    </a:cubicBezTo>
                    <a:cubicBezTo>
                      <a:pt x="416" y="120"/>
                      <a:pt x="400" y="112"/>
                      <a:pt x="432" y="104"/>
                    </a:cubicBezTo>
                    <a:cubicBezTo>
                      <a:pt x="464" y="96"/>
                      <a:pt x="520" y="76"/>
                      <a:pt x="576" y="56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" name="Freeform 25"/>
              <p:cNvSpPr/>
              <p:nvPr/>
            </p:nvSpPr>
            <p:spPr>
              <a:xfrm>
                <a:off x="5973480" y="4176720"/>
                <a:ext cx="556920" cy="96840"/>
              </a:xfrm>
              <a:custGeom>
                <a:avLst/>
                <a:gdLst/>
                <a:ahLst/>
                <a:rect l="l" t="t" r="r" b="b"/>
                <a:pathLst>
                  <a:path w="336" h="56">
                    <a:moveTo>
                      <a:pt x="336" y="8"/>
                    </a:moveTo>
                    <a:cubicBezTo>
                      <a:pt x="284" y="32"/>
                      <a:pt x="232" y="56"/>
                      <a:pt x="192" y="56"/>
                    </a:cubicBezTo>
                    <a:cubicBezTo>
                      <a:pt x="152" y="56"/>
                      <a:pt x="128" y="16"/>
                      <a:pt x="96" y="8"/>
                    </a:cubicBezTo>
                    <a:cubicBezTo>
                      <a:pt x="64" y="0"/>
                      <a:pt x="32" y="4"/>
                      <a:pt x="0" y="8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" name="Line 26"/>
              <p:cNvSpPr/>
              <p:nvPr/>
            </p:nvSpPr>
            <p:spPr>
              <a:xfrm>
                <a:off x="5416560" y="3691800"/>
                <a:ext cx="318240" cy="415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" name="Line 27"/>
              <p:cNvSpPr/>
              <p:nvPr/>
            </p:nvSpPr>
            <p:spPr>
              <a:xfrm>
                <a:off x="5496120" y="3525840"/>
                <a:ext cx="318240" cy="415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" name="Line 28"/>
              <p:cNvSpPr/>
              <p:nvPr/>
            </p:nvSpPr>
            <p:spPr>
              <a:xfrm>
                <a:off x="5416560" y="3941280"/>
                <a:ext cx="318240" cy="415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73" name="Group 29"/>
              <p:cNvGrpSpPr/>
              <p:nvPr/>
            </p:nvGrpSpPr>
            <p:grpSpPr>
              <a:xfrm>
                <a:off x="7247520" y="2445120"/>
                <a:ext cx="400680" cy="250920"/>
                <a:chOff x="7247520" y="2445120"/>
                <a:chExt cx="400680" cy="250920"/>
              </a:xfrm>
            </p:grpSpPr>
            <p:sp>
              <p:nvSpPr>
                <p:cNvPr id="374" name="Oval 30"/>
                <p:cNvSpPr/>
                <p:nvPr/>
              </p:nvSpPr>
              <p:spPr>
                <a:xfrm flipH="1">
                  <a:off x="7409880" y="2446920"/>
                  <a:ext cx="238320" cy="2491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5" name="Freeform 31"/>
                <p:cNvSpPr/>
                <p:nvPr/>
              </p:nvSpPr>
              <p:spPr>
                <a:xfrm flipH="1">
                  <a:off x="7247160" y="2445120"/>
                  <a:ext cx="317880" cy="83160"/>
                </a:xfrm>
                <a:custGeom>
                  <a:avLst/>
                  <a:gdLst/>
                  <a:ahLst/>
                  <a:rect l="l" t="t" r="r" b="b"/>
                  <a:pathLst>
                    <a:path w="192" h="48">
                      <a:moveTo>
                        <a:pt x="0" y="0"/>
                      </a:moveTo>
                      <a:lnTo>
                        <a:pt x="192" y="0"/>
                      </a:lnTo>
                      <a:lnTo>
                        <a:pt x="192" y="48"/>
                      </a:lnTo>
                      <a:lnTo>
                        <a:pt x="96" y="48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360" bIns="3636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76" name="Text Box 32"/>
              <p:cNvSpPr/>
              <p:nvPr/>
            </p:nvSpPr>
            <p:spPr>
              <a:xfrm>
                <a:off x="4780080" y="4357080"/>
                <a:ext cx="12733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Times New Roman"/>
                  </a:rPr>
                  <a:t>wind-induced pressure</a:t>
                </a:r>
                <a:endParaRPr b="1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" name="Text Box 33"/>
              <p:cNvSpPr/>
              <p:nvPr/>
            </p:nvSpPr>
            <p:spPr>
              <a:xfrm>
                <a:off x="6053400" y="2029680"/>
                <a:ext cx="12729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Times New Roman"/>
                  </a:rPr>
                  <a:t>internal fixed pressure</a:t>
                </a:r>
                <a:endParaRPr b="1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" name="Line 34"/>
              <p:cNvSpPr/>
              <p:nvPr/>
            </p:nvSpPr>
            <p:spPr>
              <a:xfrm>
                <a:off x="6689880" y="2278800"/>
                <a:ext cx="238680" cy="16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" name="Line 35"/>
              <p:cNvSpPr/>
              <p:nvPr/>
            </p:nvSpPr>
            <p:spPr>
              <a:xfrm flipV="1">
                <a:off x="5814720" y="4356720"/>
                <a:ext cx="79200" cy="16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" name="Text Box 36"/>
              <p:cNvSpPr/>
              <p:nvPr/>
            </p:nvSpPr>
            <p:spPr>
              <a:xfrm>
                <a:off x="7247160" y="5271480"/>
                <a:ext cx="15912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Times New Roman"/>
                  </a:rPr>
                  <a:t>internal unknown pressure</a:t>
                </a:r>
                <a:endParaRPr b="1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" name="Line 37"/>
              <p:cNvSpPr/>
              <p:nvPr/>
            </p:nvSpPr>
            <p:spPr>
              <a:xfrm flipH="1" flipV="1">
                <a:off x="7564680" y="4772520"/>
                <a:ext cx="79560" cy="581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Nodes (2)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5400" y="1383840"/>
            <a:ext cx="3811320" cy="524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-289080">
              <a:lnSpc>
                <a:spcPct val="93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ternal, or boundary no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93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essure may be fixed, wind-induced, or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unknown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4" name="Group 4"/>
          <p:cNvGrpSpPr/>
          <p:nvPr/>
        </p:nvGrpSpPr>
        <p:grpSpPr>
          <a:xfrm>
            <a:off x="4780080" y="1447920"/>
            <a:ext cx="4058280" cy="4571640"/>
            <a:chOff x="4780080" y="1447920"/>
            <a:chExt cx="4058280" cy="4571640"/>
          </a:xfrm>
        </p:grpSpPr>
        <p:sp>
          <p:nvSpPr>
            <p:cNvPr id="385" name="Rectangle 5"/>
            <p:cNvSpPr/>
            <p:nvPr/>
          </p:nvSpPr>
          <p:spPr>
            <a:xfrm>
              <a:off x="4780080" y="1447920"/>
              <a:ext cx="3899880" cy="45716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86" name="Group 6"/>
            <p:cNvGrpSpPr/>
            <p:nvPr/>
          </p:nvGrpSpPr>
          <p:grpSpPr>
            <a:xfrm>
              <a:off x="4780080" y="1946520"/>
              <a:ext cx="4058280" cy="3783960"/>
              <a:chOff x="4780080" y="1946520"/>
              <a:chExt cx="4058280" cy="3783960"/>
            </a:xfrm>
          </p:grpSpPr>
          <p:sp>
            <p:nvSpPr>
              <p:cNvPr id="387" name="Rectangle 7"/>
              <p:cNvSpPr/>
              <p:nvPr/>
            </p:nvSpPr>
            <p:spPr>
              <a:xfrm>
                <a:off x="5973480" y="1946520"/>
                <a:ext cx="1989360" cy="324144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" name="Line 8"/>
              <p:cNvSpPr/>
              <p:nvPr/>
            </p:nvSpPr>
            <p:spPr>
              <a:xfrm>
                <a:off x="5973480" y="3193200"/>
                <a:ext cx="1989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" name="Line 9"/>
              <p:cNvSpPr/>
              <p:nvPr/>
            </p:nvSpPr>
            <p:spPr>
              <a:xfrm>
                <a:off x="7167240" y="3193200"/>
                <a:ext cx="0" cy="199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Line 10"/>
              <p:cNvSpPr/>
              <p:nvPr/>
            </p:nvSpPr>
            <p:spPr>
              <a:xfrm>
                <a:off x="7167240" y="4107960"/>
                <a:ext cx="795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" name="Oval 11"/>
              <p:cNvSpPr/>
              <p:nvPr/>
            </p:nvSpPr>
            <p:spPr>
              <a:xfrm>
                <a:off x="6928560" y="2445120"/>
                <a:ext cx="158760" cy="16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" name="Oval 12"/>
              <p:cNvSpPr/>
              <p:nvPr/>
            </p:nvSpPr>
            <p:spPr>
              <a:xfrm>
                <a:off x="6530760" y="4107960"/>
                <a:ext cx="158760" cy="16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" name="Oval 13"/>
              <p:cNvSpPr/>
              <p:nvPr/>
            </p:nvSpPr>
            <p:spPr>
              <a:xfrm>
                <a:off x="7485840" y="3525840"/>
                <a:ext cx="158760" cy="16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" name="Oval 14"/>
              <p:cNvSpPr/>
              <p:nvPr/>
            </p:nvSpPr>
            <p:spPr>
              <a:xfrm>
                <a:off x="7485840" y="4523400"/>
                <a:ext cx="158760" cy="16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" name="Rectangle 15"/>
              <p:cNvSpPr/>
              <p:nvPr/>
            </p:nvSpPr>
            <p:spPr>
              <a:xfrm>
                <a:off x="5943960" y="3858480"/>
                <a:ext cx="79200" cy="5814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" name="Line 16"/>
              <p:cNvSpPr/>
              <p:nvPr/>
            </p:nvSpPr>
            <p:spPr>
              <a:xfrm flipH="1">
                <a:off x="7087320" y="3525840"/>
                <a:ext cx="79560" cy="33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" name="Line 17"/>
              <p:cNvSpPr/>
              <p:nvPr/>
            </p:nvSpPr>
            <p:spPr>
              <a:xfrm flipH="1">
                <a:off x="7087320" y="4439880"/>
                <a:ext cx="79560" cy="33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" name="Line 18"/>
              <p:cNvSpPr/>
              <p:nvPr/>
            </p:nvSpPr>
            <p:spPr>
              <a:xfrm>
                <a:off x="6689880" y="3110400"/>
                <a:ext cx="318240" cy="82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" name="Freeform 19"/>
              <p:cNvSpPr/>
              <p:nvPr/>
            </p:nvSpPr>
            <p:spPr>
              <a:xfrm>
                <a:off x="6490800" y="2611440"/>
                <a:ext cx="543600" cy="1412640"/>
              </a:xfrm>
              <a:custGeom>
                <a:avLst/>
                <a:gdLst/>
                <a:ahLst/>
                <a:rect l="l" t="t" r="r" b="b"/>
                <a:pathLst>
                  <a:path w="328" h="816">
                    <a:moveTo>
                      <a:pt x="72" y="816"/>
                    </a:moveTo>
                    <a:cubicBezTo>
                      <a:pt x="36" y="704"/>
                      <a:pt x="0" y="592"/>
                      <a:pt x="24" y="528"/>
                    </a:cubicBezTo>
                    <a:cubicBezTo>
                      <a:pt x="48" y="464"/>
                      <a:pt x="184" y="464"/>
                      <a:pt x="216" y="432"/>
                    </a:cubicBezTo>
                    <a:cubicBezTo>
                      <a:pt x="248" y="400"/>
                      <a:pt x="224" y="376"/>
                      <a:pt x="216" y="336"/>
                    </a:cubicBezTo>
                    <a:cubicBezTo>
                      <a:pt x="208" y="296"/>
                      <a:pt x="152" y="224"/>
                      <a:pt x="168" y="192"/>
                    </a:cubicBezTo>
                    <a:cubicBezTo>
                      <a:pt x="184" y="160"/>
                      <a:pt x="296" y="168"/>
                      <a:pt x="312" y="144"/>
                    </a:cubicBezTo>
                    <a:cubicBezTo>
                      <a:pt x="328" y="120"/>
                      <a:pt x="264" y="72"/>
                      <a:pt x="264" y="48"/>
                    </a:cubicBezTo>
                    <a:cubicBezTo>
                      <a:pt x="264" y="24"/>
                      <a:pt x="288" y="12"/>
                      <a:pt x="312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" name="Freeform 20"/>
              <p:cNvSpPr/>
              <p:nvPr/>
            </p:nvSpPr>
            <p:spPr>
              <a:xfrm>
                <a:off x="6689880" y="4273920"/>
                <a:ext cx="795600" cy="512280"/>
              </a:xfrm>
              <a:custGeom>
                <a:avLst/>
                <a:gdLst/>
                <a:ahLst/>
                <a:rect l="l" t="t" r="r" b="b"/>
                <a:pathLst>
                  <a:path w="480" h="296">
                    <a:moveTo>
                      <a:pt x="0" y="0"/>
                    </a:moveTo>
                    <a:cubicBezTo>
                      <a:pt x="28" y="68"/>
                      <a:pt x="56" y="136"/>
                      <a:pt x="96" y="144"/>
                    </a:cubicBezTo>
                    <a:cubicBezTo>
                      <a:pt x="136" y="152"/>
                      <a:pt x="208" y="40"/>
                      <a:pt x="240" y="48"/>
                    </a:cubicBezTo>
                    <a:cubicBezTo>
                      <a:pt x="272" y="56"/>
                      <a:pt x="280" y="152"/>
                      <a:pt x="288" y="192"/>
                    </a:cubicBezTo>
                    <a:cubicBezTo>
                      <a:pt x="296" y="232"/>
                      <a:pt x="264" y="280"/>
                      <a:pt x="288" y="288"/>
                    </a:cubicBezTo>
                    <a:cubicBezTo>
                      <a:pt x="312" y="296"/>
                      <a:pt x="400" y="256"/>
                      <a:pt x="432" y="240"/>
                    </a:cubicBezTo>
                    <a:cubicBezTo>
                      <a:pt x="464" y="224"/>
                      <a:pt x="472" y="208"/>
                      <a:pt x="480" y="192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" name="Freeform 21"/>
              <p:cNvSpPr/>
              <p:nvPr/>
            </p:nvSpPr>
            <p:spPr>
              <a:xfrm>
                <a:off x="6689880" y="3678120"/>
                <a:ext cx="795600" cy="512280"/>
              </a:xfrm>
              <a:custGeom>
                <a:avLst/>
                <a:gdLst/>
                <a:ahLst/>
                <a:rect l="l" t="t" r="r" b="b"/>
                <a:pathLst>
                  <a:path w="480" h="296">
                    <a:moveTo>
                      <a:pt x="0" y="296"/>
                    </a:moveTo>
                    <a:cubicBezTo>
                      <a:pt x="20" y="288"/>
                      <a:pt x="40" y="280"/>
                      <a:pt x="48" y="248"/>
                    </a:cubicBezTo>
                    <a:cubicBezTo>
                      <a:pt x="56" y="216"/>
                      <a:pt x="24" y="120"/>
                      <a:pt x="48" y="104"/>
                    </a:cubicBezTo>
                    <a:cubicBezTo>
                      <a:pt x="72" y="88"/>
                      <a:pt x="160" y="152"/>
                      <a:pt x="192" y="152"/>
                    </a:cubicBezTo>
                    <a:cubicBezTo>
                      <a:pt x="224" y="152"/>
                      <a:pt x="224" y="128"/>
                      <a:pt x="240" y="104"/>
                    </a:cubicBezTo>
                    <a:cubicBezTo>
                      <a:pt x="256" y="80"/>
                      <a:pt x="256" y="16"/>
                      <a:pt x="288" y="8"/>
                    </a:cubicBezTo>
                    <a:cubicBezTo>
                      <a:pt x="320" y="0"/>
                      <a:pt x="400" y="56"/>
                      <a:pt x="432" y="56"/>
                    </a:cubicBezTo>
                    <a:cubicBezTo>
                      <a:pt x="464" y="56"/>
                      <a:pt x="472" y="16"/>
                      <a:pt x="480" y="8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" name="Oval 22"/>
              <p:cNvSpPr/>
              <p:nvPr/>
            </p:nvSpPr>
            <p:spPr>
              <a:xfrm>
                <a:off x="5814720" y="4107960"/>
                <a:ext cx="158760" cy="16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" name="Oval 23"/>
              <p:cNvSpPr/>
              <p:nvPr/>
            </p:nvSpPr>
            <p:spPr>
              <a:xfrm>
                <a:off x="7963200" y="2445120"/>
                <a:ext cx="158760" cy="16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" name="Freeform 24"/>
              <p:cNvSpPr/>
              <p:nvPr/>
            </p:nvSpPr>
            <p:spPr>
              <a:xfrm>
                <a:off x="7087680" y="2431440"/>
                <a:ext cx="954720" cy="207720"/>
              </a:xfrm>
              <a:custGeom>
                <a:avLst/>
                <a:gdLst/>
                <a:ahLst/>
                <a:rect l="l" t="t" r="r" b="b"/>
                <a:pathLst>
                  <a:path w="576" h="120">
                    <a:moveTo>
                      <a:pt x="0" y="56"/>
                    </a:moveTo>
                    <a:cubicBezTo>
                      <a:pt x="8" y="80"/>
                      <a:pt x="16" y="104"/>
                      <a:pt x="48" y="104"/>
                    </a:cubicBezTo>
                    <a:cubicBezTo>
                      <a:pt x="80" y="104"/>
                      <a:pt x="160" y="72"/>
                      <a:pt x="192" y="56"/>
                    </a:cubicBezTo>
                    <a:cubicBezTo>
                      <a:pt x="224" y="40"/>
                      <a:pt x="208" y="0"/>
                      <a:pt x="240" y="8"/>
                    </a:cubicBezTo>
                    <a:cubicBezTo>
                      <a:pt x="272" y="16"/>
                      <a:pt x="352" y="88"/>
                      <a:pt x="384" y="104"/>
                    </a:cubicBezTo>
                    <a:cubicBezTo>
                      <a:pt x="416" y="120"/>
                      <a:pt x="400" y="112"/>
                      <a:pt x="432" y="104"/>
                    </a:cubicBezTo>
                    <a:cubicBezTo>
                      <a:pt x="464" y="96"/>
                      <a:pt x="520" y="76"/>
                      <a:pt x="576" y="56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5" name="Freeform 25"/>
              <p:cNvSpPr/>
              <p:nvPr/>
            </p:nvSpPr>
            <p:spPr>
              <a:xfrm>
                <a:off x="5973480" y="4176720"/>
                <a:ext cx="556920" cy="96840"/>
              </a:xfrm>
              <a:custGeom>
                <a:avLst/>
                <a:gdLst/>
                <a:ahLst/>
                <a:rect l="l" t="t" r="r" b="b"/>
                <a:pathLst>
                  <a:path w="336" h="56">
                    <a:moveTo>
                      <a:pt x="336" y="8"/>
                    </a:moveTo>
                    <a:cubicBezTo>
                      <a:pt x="284" y="32"/>
                      <a:pt x="232" y="56"/>
                      <a:pt x="192" y="56"/>
                    </a:cubicBezTo>
                    <a:cubicBezTo>
                      <a:pt x="152" y="56"/>
                      <a:pt x="128" y="16"/>
                      <a:pt x="96" y="8"/>
                    </a:cubicBezTo>
                    <a:cubicBezTo>
                      <a:pt x="64" y="0"/>
                      <a:pt x="32" y="4"/>
                      <a:pt x="0" y="8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" name="Line 26"/>
              <p:cNvSpPr/>
              <p:nvPr/>
            </p:nvSpPr>
            <p:spPr>
              <a:xfrm>
                <a:off x="5416560" y="3691800"/>
                <a:ext cx="318240" cy="415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" name="Line 27"/>
              <p:cNvSpPr/>
              <p:nvPr/>
            </p:nvSpPr>
            <p:spPr>
              <a:xfrm>
                <a:off x="5496120" y="3525840"/>
                <a:ext cx="318240" cy="415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8" name="Line 28"/>
              <p:cNvSpPr/>
              <p:nvPr/>
            </p:nvSpPr>
            <p:spPr>
              <a:xfrm>
                <a:off x="5416560" y="3941280"/>
                <a:ext cx="318240" cy="415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09" name="Group 29"/>
              <p:cNvGrpSpPr/>
              <p:nvPr/>
            </p:nvGrpSpPr>
            <p:grpSpPr>
              <a:xfrm>
                <a:off x="7247520" y="2445120"/>
                <a:ext cx="400680" cy="250920"/>
                <a:chOff x="7247520" y="2445120"/>
                <a:chExt cx="400680" cy="250920"/>
              </a:xfrm>
            </p:grpSpPr>
            <p:sp>
              <p:nvSpPr>
                <p:cNvPr id="410" name="Oval 30"/>
                <p:cNvSpPr/>
                <p:nvPr/>
              </p:nvSpPr>
              <p:spPr>
                <a:xfrm flipH="1">
                  <a:off x="7409880" y="2446920"/>
                  <a:ext cx="238320" cy="2491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1" name="Freeform 31"/>
                <p:cNvSpPr/>
                <p:nvPr/>
              </p:nvSpPr>
              <p:spPr>
                <a:xfrm flipH="1">
                  <a:off x="7247160" y="2445120"/>
                  <a:ext cx="317880" cy="83160"/>
                </a:xfrm>
                <a:custGeom>
                  <a:avLst/>
                  <a:gdLst/>
                  <a:ahLst/>
                  <a:rect l="l" t="t" r="r" b="b"/>
                  <a:pathLst>
                    <a:path w="192" h="48">
                      <a:moveTo>
                        <a:pt x="0" y="0"/>
                      </a:moveTo>
                      <a:lnTo>
                        <a:pt x="192" y="0"/>
                      </a:lnTo>
                      <a:lnTo>
                        <a:pt x="192" y="48"/>
                      </a:lnTo>
                      <a:lnTo>
                        <a:pt x="96" y="48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360" bIns="3636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2" name="Text Box 32"/>
              <p:cNvSpPr/>
              <p:nvPr/>
            </p:nvSpPr>
            <p:spPr>
              <a:xfrm>
                <a:off x="4780080" y="4357080"/>
                <a:ext cx="12733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Times New Roman"/>
                  </a:rPr>
                  <a:t>wind-induced pressure</a:t>
                </a:r>
                <a:endParaRPr b="1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3" name="Text Box 33"/>
              <p:cNvSpPr/>
              <p:nvPr/>
            </p:nvSpPr>
            <p:spPr>
              <a:xfrm>
                <a:off x="6053400" y="2029680"/>
                <a:ext cx="12729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Times New Roman"/>
                  </a:rPr>
                  <a:t>internal fixed pressure</a:t>
                </a:r>
                <a:endParaRPr b="1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4" name="Line 34"/>
              <p:cNvSpPr/>
              <p:nvPr/>
            </p:nvSpPr>
            <p:spPr>
              <a:xfrm>
                <a:off x="6689880" y="2278800"/>
                <a:ext cx="238680" cy="16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5" name="Line 35"/>
              <p:cNvSpPr/>
              <p:nvPr/>
            </p:nvSpPr>
            <p:spPr>
              <a:xfrm flipV="1">
                <a:off x="5814720" y="4356720"/>
                <a:ext cx="79200" cy="16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6" name="Text Box 36"/>
              <p:cNvSpPr/>
              <p:nvPr/>
            </p:nvSpPr>
            <p:spPr>
              <a:xfrm>
                <a:off x="7247160" y="5271480"/>
                <a:ext cx="15912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Times New Roman"/>
                  </a:rPr>
                  <a:t>internal unknown pressure</a:t>
                </a:r>
                <a:endParaRPr b="1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7" name="Line 37"/>
              <p:cNvSpPr/>
              <p:nvPr/>
            </p:nvSpPr>
            <p:spPr>
              <a:xfrm flipH="1" flipV="1">
                <a:off x="7564680" y="4772520"/>
                <a:ext cx="79560" cy="581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Components and connections (1)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8308800" cy="524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93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scribe the flow characteristics of the nodal conn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n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93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lows through connections are usually a non-linear function of the pressure dif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0" name="Group 4"/>
          <p:cNvGrpSpPr/>
          <p:nvPr/>
        </p:nvGrpSpPr>
        <p:grpSpPr>
          <a:xfrm>
            <a:off x="2209680" y="3873600"/>
            <a:ext cx="4495680" cy="2679120"/>
            <a:chOff x="2209680" y="3873600"/>
            <a:chExt cx="4495680" cy="2679120"/>
          </a:xfrm>
        </p:grpSpPr>
        <p:sp>
          <p:nvSpPr>
            <p:cNvPr id="421" name="Rectangle 5"/>
            <p:cNvSpPr/>
            <p:nvPr/>
          </p:nvSpPr>
          <p:spPr>
            <a:xfrm>
              <a:off x="2209680" y="3873600"/>
              <a:ext cx="4495680" cy="2679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Oval 6"/>
            <p:cNvSpPr/>
            <p:nvPr/>
          </p:nvSpPr>
          <p:spPr>
            <a:xfrm>
              <a:off x="3074040" y="5461560"/>
              <a:ext cx="259200" cy="259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Oval 7"/>
            <p:cNvSpPr/>
            <p:nvPr/>
          </p:nvSpPr>
          <p:spPr>
            <a:xfrm>
              <a:off x="5841000" y="5461560"/>
              <a:ext cx="259200" cy="259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Rectangle 8"/>
            <p:cNvSpPr/>
            <p:nvPr/>
          </p:nvSpPr>
          <p:spPr>
            <a:xfrm>
              <a:off x="3938760" y="5256360"/>
              <a:ext cx="1037520" cy="691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Line 9"/>
            <p:cNvSpPr/>
            <p:nvPr/>
          </p:nvSpPr>
          <p:spPr>
            <a:xfrm>
              <a:off x="3333240" y="5601960"/>
              <a:ext cx="605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Line 10"/>
            <p:cNvSpPr/>
            <p:nvPr/>
          </p:nvSpPr>
          <p:spPr>
            <a:xfrm>
              <a:off x="4976280" y="5601960"/>
              <a:ext cx="1037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27" name="Object 11"/>
                <p:cNvSpPr txBox="1"/>
                <p:nvPr/>
              </p:nvSpPr>
              <p:spPr>
                <a:xfrm>
                  <a:off x="3592800" y="4305600"/>
                  <a:ext cx="1729440" cy="511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˙"/>
                        </m:accPr>
                        <m:e>
                          <m:r>
                            <m:t xml:space="preserve">m</m:t>
                          </m:r>
                        </m:e>
                      </m:acc>
                      <m:r>
                        <m:t xml:space="preserve">=</m:t>
                      </m:r>
                      <m:r>
                        <m:t xml:space="preserve">f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ΔP</m:t>
                          </m:r>
                        </m:e>
                        <m:sub>
                          <m:r>
                            <m:t xml:space="preserve">i</m:t>
                          </m:r>
                          <m:r>
                            <m:t xml:space="preserve">,</m:t>
                          </m:r>
                          <m:r>
                            <m:t xml:space="preserve">j</m:t>
                          </m:r>
                        </m:sub>
                      </m:sSub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28" name="Line 12"/>
            <p:cNvSpPr/>
            <p:nvPr/>
          </p:nvSpPr>
          <p:spPr>
            <a:xfrm>
              <a:off x="4111560" y="4824000"/>
              <a:ext cx="345960" cy="691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Text Box 13"/>
            <p:cNvSpPr/>
            <p:nvPr/>
          </p:nvSpPr>
          <p:spPr>
            <a:xfrm>
              <a:off x="2641680" y="4824000"/>
              <a:ext cx="777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GB" sz="24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Text Box 14"/>
            <p:cNvSpPr/>
            <p:nvPr/>
          </p:nvSpPr>
          <p:spPr>
            <a:xfrm>
              <a:off x="5235840" y="4824000"/>
              <a:ext cx="777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GB" sz="2400" spc="-1" strike="noStrike" baseline="-25000">
                  <a:solidFill>
                    <a:srgbClr val="000000"/>
                  </a:solidFill>
                  <a:latin typeface="Times New Roman"/>
                </a:rPr>
                <a:t>j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Components and connections (2)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8308800" cy="524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low connections may or may not be represented in the therm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77560">
              <a:lnSpc>
                <a:spcPct val="93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 example: two zones may be connected by a door in the air flow model, but that door may be omitted in the building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height of the connection inlet and outlet is required to compute stack effec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ultiple connections can use the same 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Stack effect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8308800" cy="524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pressure difference across the connection may not equal the pressure difference between the two nod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5" name="Group 4"/>
          <p:cNvGrpSpPr/>
          <p:nvPr/>
        </p:nvGrpSpPr>
        <p:grpSpPr>
          <a:xfrm>
            <a:off x="380880" y="2971800"/>
            <a:ext cx="8381880" cy="3592080"/>
            <a:chOff x="380880" y="2971800"/>
            <a:chExt cx="8381880" cy="3592080"/>
          </a:xfrm>
        </p:grpSpPr>
        <p:sp>
          <p:nvSpPr>
            <p:cNvPr id="436" name="Rectangle 5"/>
            <p:cNvSpPr/>
            <p:nvPr/>
          </p:nvSpPr>
          <p:spPr>
            <a:xfrm>
              <a:off x="380880" y="2971800"/>
              <a:ext cx="8381880" cy="3592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37" name="Group 6"/>
            <p:cNvGrpSpPr/>
            <p:nvPr/>
          </p:nvGrpSpPr>
          <p:grpSpPr>
            <a:xfrm>
              <a:off x="979560" y="3228120"/>
              <a:ext cx="7184160" cy="2993040"/>
              <a:chOff x="979560" y="3228120"/>
              <a:chExt cx="7184160" cy="2993040"/>
            </a:xfrm>
          </p:grpSpPr>
          <p:sp>
            <p:nvSpPr>
              <p:cNvPr id="438" name="Rectangle 7"/>
              <p:cNvSpPr/>
              <p:nvPr/>
            </p:nvSpPr>
            <p:spPr>
              <a:xfrm>
                <a:off x="2090880" y="3655440"/>
                <a:ext cx="2480400" cy="2565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9" name="Rectangle 8"/>
              <p:cNvSpPr/>
              <p:nvPr/>
            </p:nvSpPr>
            <p:spPr>
              <a:xfrm>
                <a:off x="4571640" y="3655440"/>
                <a:ext cx="1796040" cy="1539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0" name="Rectangle 9"/>
              <p:cNvSpPr/>
              <p:nvPr/>
            </p:nvSpPr>
            <p:spPr>
              <a:xfrm>
                <a:off x="4571640" y="5194800"/>
                <a:ext cx="1796040" cy="102600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1" name="Oval 10"/>
              <p:cNvSpPr/>
              <p:nvPr/>
            </p:nvSpPr>
            <p:spPr>
              <a:xfrm>
                <a:off x="5426640" y="4339800"/>
                <a:ext cx="85320" cy="84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680" bIns="136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2" name="Oval 11"/>
              <p:cNvSpPr/>
              <p:nvPr/>
            </p:nvSpPr>
            <p:spPr>
              <a:xfrm>
                <a:off x="3117240" y="4853160"/>
                <a:ext cx="85320" cy="84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680" bIns="136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3" name="Rectangle 12"/>
              <p:cNvSpPr/>
              <p:nvPr/>
            </p:nvSpPr>
            <p:spPr>
              <a:xfrm rot="20433000">
                <a:off x="4314600" y="3997440"/>
                <a:ext cx="513000" cy="2563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4" name="Oval 13"/>
              <p:cNvSpPr/>
              <p:nvPr/>
            </p:nvSpPr>
            <p:spPr>
              <a:xfrm>
                <a:off x="4774320" y="3987360"/>
                <a:ext cx="85320" cy="84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680" bIns="136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5" name="Oval 14"/>
              <p:cNvSpPr/>
              <p:nvPr/>
            </p:nvSpPr>
            <p:spPr>
              <a:xfrm>
                <a:off x="4293720" y="4158000"/>
                <a:ext cx="84960" cy="85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6" name="Text Box 15"/>
              <p:cNvSpPr/>
              <p:nvPr/>
            </p:nvSpPr>
            <p:spPr>
              <a:xfrm>
                <a:off x="5426640" y="4083480"/>
                <a:ext cx="342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" name="Text Box 16"/>
              <p:cNvSpPr/>
              <p:nvPr/>
            </p:nvSpPr>
            <p:spPr>
              <a:xfrm>
                <a:off x="3117240" y="4596480"/>
                <a:ext cx="342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m</a:t>
                </a: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" name="Text Box 17"/>
              <p:cNvSpPr/>
              <p:nvPr/>
            </p:nvSpPr>
            <p:spPr>
              <a:xfrm>
                <a:off x="3887280" y="3997800"/>
                <a:ext cx="342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9" name="Text Box 18"/>
              <p:cNvSpPr/>
              <p:nvPr/>
            </p:nvSpPr>
            <p:spPr>
              <a:xfrm>
                <a:off x="4913640" y="3655440"/>
                <a:ext cx="342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0" name="Line 19"/>
              <p:cNvSpPr/>
              <p:nvPr/>
            </p:nvSpPr>
            <p:spPr>
              <a:xfrm>
                <a:off x="5747400" y="3997800"/>
                <a:ext cx="2073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1" name="Line 20"/>
              <p:cNvSpPr/>
              <p:nvPr/>
            </p:nvSpPr>
            <p:spPr>
              <a:xfrm>
                <a:off x="5736960" y="4425120"/>
                <a:ext cx="1111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2" name="Line 21"/>
              <p:cNvSpPr/>
              <p:nvPr/>
            </p:nvSpPr>
            <p:spPr>
              <a:xfrm>
                <a:off x="1920240" y="4906440"/>
                <a:ext cx="1111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3" name="Line 22"/>
              <p:cNvSpPr/>
              <p:nvPr/>
            </p:nvSpPr>
            <p:spPr>
              <a:xfrm>
                <a:off x="1150200" y="4168440"/>
                <a:ext cx="1881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4" name="Line 23"/>
              <p:cNvSpPr/>
              <p:nvPr/>
            </p:nvSpPr>
            <p:spPr>
              <a:xfrm>
                <a:off x="979560" y="6221160"/>
                <a:ext cx="7098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5" name="Line 24"/>
              <p:cNvSpPr/>
              <p:nvPr/>
            </p:nvSpPr>
            <p:spPr>
              <a:xfrm flipV="1">
                <a:off x="1235880" y="4168080"/>
                <a:ext cx="0" cy="2052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6" name="Line 25"/>
              <p:cNvSpPr/>
              <p:nvPr/>
            </p:nvSpPr>
            <p:spPr>
              <a:xfrm flipV="1">
                <a:off x="2005560" y="4938120"/>
                <a:ext cx="0" cy="1282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7" name="Line 26"/>
              <p:cNvSpPr/>
              <p:nvPr/>
            </p:nvSpPr>
            <p:spPr>
              <a:xfrm flipV="1">
                <a:off x="6624360" y="4424760"/>
                <a:ext cx="0" cy="1796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" name="Line 27"/>
              <p:cNvSpPr/>
              <p:nvPr/>
            </p:nvSpPr>
            <p:spPr>
              <a:xfrm flipV="1">
                <a:off x="7308360" y="3997800"/>
                <a:ext cx="0" cy="2223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" name="Text Box 28"/>
              <p:cNvSpPr/>
              <p:nvPr/>
            </p:nvSpPr>
            <p:spPr>
              <a:xfrm>
                <a:off x="7650720" y="4596480"/>
                <a:ext cx="5130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i="1" lang="en-GB" sz="14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r>
                  <a:rPr b="0" i="1" lang="en-GB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1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" name="Text Box 29"/>
              <p:cNvSpPr/>
              <p:nvPr/>
            </p:nvSpPr>
            <p:spPr>
              <a:xfrm>
                <a:off x="6709680" y="5024160"/>
                <a:ext cx="5130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i="1" lang="en-GB" sz="14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r>
                  <a:rPr b="0" i="1" lang="en-GB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1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" name="Text Box 30"/>
              <p:cNvSpPr/>
              <p:nvPr/>
            </p:nvSpPr>
            <p:spPr>
              <a:xfrm>
                <a:off x="2176560" y="5366160"/>
                <a:ext cx="5130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i="1" lang="en-GB" sz="14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r>
                  <a:rPr b="0" i="1" lang="en-GB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m</a:t>
                </a:r>
                <a:endParaRPr b="1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" name="Text Box 31"/>
              <p:cNvSpPr/>
              <p:nvPr/>
            </p:nvSpPr>
            <p:spPr>
              <a:xfrm>
                <a:off x="1321200" y="4510800"/>
                <a:ext cx="5130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i="1" lang="en-GB" sz="14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r>
                  <a:rPr b="0" i="1" lang="en-GB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1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" name="Text Box 32"/>
              <p:cNvSpPr/>
              <p:nvPr/>
            </p:nvSpPr>
            <p:spPr>
              <a:xfrm>
                <a:off x="3716280" y="3228120"/>
                <a:ext cx="1710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Times New Roman"/>
                  </a:rPr>
                  <a:t>connection</a:t>
                </a:r>
                <a:endParaRPr b="1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" name="Line 33"/>
              <p:cNvSpPr/>
              <p:nvPr/>
            </p:nvSpPr>
            <p:spPr>
              <a:xfrm>
                <a:off x="4058280" y="3570120"/>
                <a:ext cx="341640" cy="427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8308800" cy="524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-289080">
              <a:lnSpc>
                <a:spcPct val="93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flows are a function of nodal pressures and the component characteris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93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ervation of mass for each n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>
              <a:lnSpc>
                <a:spcPct val="93000"/>
              </a:lnSpc>
              <a:spcBef>
                <a:spcPts val="3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93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ll the internal nodes are directly or indirectly linked to at least one boundary n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93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essure and mass flow computed for each n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93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teration may be requi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Defining airflow networks in ESP-r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8308800" cy="524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 algn="ctr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monstration and exerci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9080" indent="0" algn="ctr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93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93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93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n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9" name="Picture 4" descr=""/>
          <p:cNvPicPr/>
          <p:nvPr/>
        </p:nvPicPr>
        <p:blipFill>
          <a:blip r:embed="rId1"/>
          <a:stretch/>
        </p:blipFill>
        <p:spPr>
          <a:xfrm>
            <a:off x="3352680" y="2282760"/>
            <a:ext cx="6096240" cy="44229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Unventilated performance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1" name="Picture 5" descr=""/>
          <p:cNvPicPr/>
          <p:nvPr/>
        </p:nvPicPr>
        <p:blipFill>
          <a:blip r:embed="rId1"/>
          <a:stretch/>
        </p:blipFill>
        <p:spPr>
          <a:xfrm>
            <a:off x="457200" y="990720"/>
            <a:ext cx="8077320" cy="56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3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8310240" cy="52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 algn="ctr">
              <a:lnSpc>
                <a:spcPct val="100000"/>
              </a:lnSpc>
              <a:spcBef>
                <a:spcPts val="1276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289080" indent="0" algn="ctr">
              <a:lnSpc>
                <a:spcPct val="100000"/>
              </a:lnSpc>
              <a:spcBef>
                <a:spcPts val="1276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Arial"/>
              </a:rPr>
              <a:t>What is inter-zone air flow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289080" indent="0" algn="ctr">
              <a:lnSpc>
                <a:spcPct val="100000"/>
              </a:lnSpc>
              <a:spcBef>
                <a:spcPts val="1276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289080" indent="0" algn="ctr">
              <a:lnSpc>
                <a:spcPct val="100000"/>
              </a:lnSpc>
              <a:spcBef>
                <a:spcPts val="1276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Arial"/>
              </a:rPr>
              <a:t>What modelling methodologies </a:t>
            </a:r>
            <a:br>
              <a:rPr sz="3400"/>
            </a:br>
            <a:r>
              <a:rPr b="0" lang="en-GB" sz="3400" spc="-1" strike="noStrike">
                <a:solidFill>
                  <a:srgbClr val="000000"/>
                </a:solidFill>
                <a:latin typeface="Arial"/>
              </a:rPr>
              <a:t>does ESP-r use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289080" indent="0" algn="ctr">
              <a:lnSpc>
                <a:spcPct val="100000"/>
              </a:lnSpc>
              <a:spcBef>
                <a:spcPts val="1276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289080" indent="0" algn="ctr">
              <a:lnSpc>
                <a:spcPct val="100000"/>
              </a:lnSpc>
              <a:spcBef>
                <a:spcPts val="1276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Arial"/>
              </a:rPr>
              <a:t>How do I model inter-zone airflow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289080" indent="0" algn="ctr">
              <a:lnSpc>
                <a:spcPct val="100000"/>
              </a:lnSpc>
              <a:spcBef>
                <a:spcPts val="1276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289080" indent="0" algn="ctr">
              <a:lnSpc>
                <a:spcPct val="100000"/>
              </a:lnSpc>
              <a:spcBef>
                <a:spcPts val="1276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Arial"/>
              </a:rPr>
              <a:t>How do I impose control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100000"/>
              </a:lnSpc>
              <a:spcBef>
                <a:spcPts val="1276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Imposing control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8308800" cy="524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s manipulate network characteristics in response to climate and building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4" name="Group 4"/>
          <p:cNvGrpSpPr/>
          <p:nvPr/>
        </p:nvGrpSpPr>
        <p:grpSpPr>
          <a:xfrm>
            <a:off x="838080" y="2523960"/>
            <a:ext cx="7543080" cy="3897000"/>
            <a:chOff x="838080" y="2523960"/>
            <a:chExt cx="7543080" cy="3897000"/>
          </a:xfrm>
        </p:grpSpPr>
        <p:sp>
          <p:nvSpPr>
            <p:cNvPr id="475" name="Rectangle 5"/>
            <p:cNvSpPr/>
            <p:nvPr/>
          </p:nvSpPr>
          <p:spPr>
            <a:xfrm>
              <a:off x="838080" y="2523960"/>
              <a:ext cx="7166160" cy="3897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Rectangle 6"/>
            <p:cNvSpPr/>
            <p:nvPr/>
          </p:nvSpPr>
          <p:spPr>
            <a:xfrm>
              <a:off x="2094840" y="3152880"/>
              <a:ext cx="3143160" cy="25138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Rectangle 7"/>
            <p:cNvSpPr/>
            <p:nvPr/>
          </p:nvSpPr>
          <p:spPr>
            <a:xfrm rot="18712200">
              <a:off x="5489280" y="3277800"/>
              <a:ext cx="250920" cy="12567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Rectangle 8"/>
            <p:cNvSpPr/>
            <p:nvPr/>
          </p:nvSpPr>
          <p:spPr>
            <a:xfrm>
              <a:off x="5112360" y="3529800"/>
              <a:ext cx="251640" cy="12564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9" name="Oval 9"/>
            <p:cNvSpPr/>
            <p:nvPr/>
          </p:nvSpPr>
          <p:spPr>
            <a:xfrm>
              <a:off x="3478320" y="4158000"/>
              <a:ext cx="250920" cy="250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0" name="Oval 10"/>
            <p:cNvSpPr/>
            <p:nvPr/>
          </p:nvSpPr>
          <p:spPr>
            <a:xfrm>
              <a:off x="6620760" y="4158000"/>
              <a:ext cx="251640" cy="250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1" name="Freeform 11"/>
            <p:cNvSpPr/>
            <p:nvPr/>
          </p:nvSpPr>
          <p:spPr>
            <a:xfrm>
              <a:off x="3729240" y="4032360"/>
              <a:ext cx="3017160" cy="670320"/>
            </a:xfrm>
            <a:custGeom>
              <a:avLst/>
              <a:gdLst/>
              <a:ahLst/>
              <a:rect l="l" t="t" r="r" b="b"/>
              <a:pathLst>
                <a:path w="1152" h="256">
                  <a:moveTo>
                    <a:pt x="0" y="112"/>
                  </a:moveTo>
                  <a:cubicBezTo>
                    <a:pt x="0" y="120"/>
                    <a:pt x="0" y="128"/>
                    <a:pt x="48" y="112"/>
                  </a:cubicBezTo>
                  <a:cubicBezTo>
                    <a:pt x="96" y="96"/>
                    <a:pt x="200" y="0"/>
                    <a:pt x="288" y="16"/>
                  </a:cubicBezTo>
                  <a:cubicBezTo>
                    <a:pt x="376" y="32"/>
                    <a:pt x="520" y="192"/>
                    <a:pt x="576" y="208"/>
                  </a:cubicBezTo>
                  <a:cubicBezTo>
                    <a:pt x="632" y="224"/>
                    <a:pt x="608" y="128"/>
                    <a:pt x="624" y="112"/>
                  </a:cubicBezTo>
                  <a:cubicBezTo>
                    <a:pt x="640" y="96"/>
                    <a:pt x="632" y="88"/>
                    <a:pt x="672" y="112"/>
                  </a:cubicBezTo>
                  <a:cubicBezTo>
                    <a:pt x="712" y="136"/>
                    <a:pt x="784" y="256"/>
                    <a:pt x="864" y="256"/>
                  </a:cubicBezTo>
                  <a:cubicBezTo>
                    <a:pt x="944" y="256"/>
                    <a:pt x="1048" y="184"/>
                    <a:pt x="1152" y="112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82" name="Group 12"/>
            <p:cNvGrpSpPr/>
            <p:nvPr/>
          </p:nvGrpSpPr>
          <p:grpSpPr>
            <a:xfrm>
              <a:off x="6118560" y="2775600"/>
              <a:ext cx="754200" cy="628200"/>
              <a:chOff x="6118560" y="2775600"/>
              <a:chExt cx="754200" cy="628200"/>
            </a:xfrm>
          </p:grpSpPr>
          <p:sp>
            <p:nvSpPr>
              <p:cNvPr id="483" name="Rectangle 13"/>
              <p:cNvSpPr/>
              <p:nvPr/>
            </p:nvSpPr>
            <p:spPr>
              <a:xfrm>
                <a:off x="6118560" y="2775600"/>
                <a:ext cx="754200" cy="628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" name="Line 14"/>
              <p:cNvSpPr/>
              <p:nvPr/>
            </p:nvSpPr>
            <p:spPr>
              <a:xfrm flipH="1" flipV="1">
                <a:off x="6306480" y="3003840"/>
                <a:ext cx="188280" cy="285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" name="Line 15"/>
              <p:cNvSpPr/>
              <p:nvPr/>
            </p:nvSpPr>
            <p:spPr>
              <a:xfrm>
                <a:off x="6495480" y="2832480"/>
                <a:ext cx="0" cy="113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" name="Line 16"/>
              <p:cNvSpPr/>
              <p:nvPr/>
            </p:nvSpPr>
            <p:spPr>
              <a:xfrm flipH="1">
                <a:off x="6684120" y="2889720"/>
                <a:ext cx="62640" cy="56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" name="Line 17"/>
              <p:cNvSpPr/>
              <p:nvPr/>
            </p:nvSpPr>
            <p:spPr>
              <a:xfrm>
                <a:off x="6244200" y="2889720"/>
                <a:ext cx="62640" cy="56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88" name="Text Box 18"/>
            <p:cNvSpPr/>
            <p:nvPr/>
          </p:nvSpPr>
          <p:spPr>
            <a:xfrm>
              <a:off x="6872760" y="3781080"/>
              <a:ext cx="62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9" name="Freeform 19"/>
            <p:cNvSpPr/>
            <p:nvPr/>
          </p:nvSpPr>
          <p:spPr>
            <a:xfrm>
              <a:off x="5238000" y="3026880"/>
              <a:ext cx="880200" cy="628200"/>
            </a:xfrm>
            <a:custGeom>
              <a:avLst/>
              <a:gdLst/>
              <a:ahLst/>
              <a:rect l="l" t="t" r="r" b="b"/>
              <a:pathLst>
                <a:path w="336" h="240">
                  <a:moveTo>
                    <a:pt x="336" y="0"/>
                  </a:moveTo>
                  <a:lnTo>
                    <a:pt x="240" y="0"/>
                  </a:lnTo>
                  <a:lnTo>
                    <a:pt x="240" y="240"/>
                  </a:lnTo>
                  <a:lnTo>
                    <a:pt x="0" y="24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0" name="Freeform 20"/>
            <p:cNvSpPr/>
            <p:nvPr/>
          </p:nvSpPr>
          <p:spPr>
            <a:xfrm>
              <a:off x="6872760" y="3026880"/>
              <a:ext cx="250920" cy="879840"/>
            </a:xfrm>
            <a:custGeom>
              <a:avLst/>
              <a:gdLst/>
              <a:ahLst/>
              <a:rect l="l" t="t" r="r" b="b"/>
              <a:pathLst>
                <a:path w="96" h="336">
                  <a:moveTo>
                    <a:pt x="96" y="336"/>
                  </a:moveTo>
                  <a:lnTo>
                    <a:pt x="96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1" name="Text Box 21"/>
            <p:cNvSpPr/>
            <p:nvPr/>
          </p:nvSpPr>
          <p:spPr>
            <a:xfrm>
              <a:off x="3855240" y="2649600"/>
              <a:ext cx="351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actuator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2" name="Text Box 22"/>
            <p:cNvSpPr/>
            <p:nvPr/>
          </p:nvSpPr>
          <p:spPr>
            <a:xfrm>
              <a:off x="6872760" y="4032360"/>
              <a:ext cx="150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sensor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3" name="Line 23"/>
            <p:cNvSpPr/>
            <p:nvPr/>
          </p:nvSpPr>
          <p:spPr>
            <a:xfrm>
              <a:off x="4986720" y="3026880"/>
              <a:ext cx="250920" cy="50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Network controls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8308800" cy="524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ris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93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s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93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93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la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>
              <a:lnSpc>
                <a:spcPct val="93000"/>
              </a:lnSpc>
              <a:spcBef>
                <a:spcPts val="3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/off and proportional laws control avail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nections using a given component can be actuated at o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Effect of ventilation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7" name="Picture 4" descr=""/>
          <p:cNvPicPr/>
          <p:nvPr/>
        </p:nvPicPr>
        <p:blipFill>
          <a:blip r:embed="rId1"/>
          <a:stretch/>
        </p:blipFill>
        <p:spPr>
          <a:xfrm>
            <a:off x="457200" y="990720"/>
            <a:ext cx="8381880" cy="574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3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400" y="1383840"/>
            <a:ext cx="6840360" cy="52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low modelling strateg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er-zone air fl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P-r methodolog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monstration and hands-on exerci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reating an air-flow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unning simulations and analyzing resul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mposing con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442"/>
          <p:cNvSpPr/>
          <p:nvPr/>
        </p:nvSpPr>
        <p:spPr>
          <a:xfrm>
            <a:off x="152280" y="3048120"/>
            <a:ext cx="3429000" cy="18288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Integrated thermal and flow modelling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Group 221"/>
          <p:cNvGrpSpPr/>
          <p:nvPr/>
        </p:nvGrpSpPr>
        <p:grpSpPr>
          <a:xfrm>
            <a:off x="3962520" y="914400"/>
            <a:ext cx="5028840" cy="5714640"/>
            <a:chOff x="3962520" y="914400"/>
            <a:chExt cx="5028840" cy="5714640"/>
          </a:xfrm>
        </p:grpSpPr>
        <p:sp>
          <p:nvSpPr>
            <p:cNvPr id="100" name="Rectangle 222"/>
            <p:cNvSpPr/>
            <p:nvPr/>
          </p:nvSpPr>
          <p:spPr>
            <a:xfrm>
              <a:off x="3962520" y="914400"/>
              <a:ext cx="5028840" cy="5714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1" name="Group 223"/>
            <p:cNvGrpSpPr/>
            <p:nvPr/>
          </p:nvGrpSpPr>
          <p:grpSpPr>
            <a:xfrm>
              <a:off x="4060440" y="1315440"/>
              <a:ext cx="4930560" cy="5015160"/>
              <a:chOff x="4060440" y="1315440"/>
              <a:chExt cx="4930560" cy="5015160"/>
            </a:xfrm>
          </p:grpSpPr>
          <p:sp>
            <p:nvSpPr>
              <p:cNvPr id="102" name="Line 224"/>
              <p:cNvSpPr/>
              <p:nvPr/>
            </p:nvSpPr>
            <p:spPr>
              <a:xfrm>
                <a:off x="6171480" y="1900080"/>
                <a:ext cx="720" cy="583200"/>
              </a:xfrm>
              <a:prstGeom prst="line">
                <a:avLst/>
              </a:prstGeom>
              <a:ln w="936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Line 225"/>
              <p:cNvSpPr/>
              <p:nvPr/>
            </p:nvSpPr>
            <p:spPr>
              <a:xfrm>
                <a:off x="6171480" y="2176560"/>
                <a:ext cx="720" cy="60840"/>
              </a:xfrm>
              <a:prstGeom prst="line">
                <a:avLst/>
              </a:prstGeom>
              <a:ln w="936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04" name="Group 226"/>
              <p:cNvGrpSpPr/>
              <p:nvPr/>
            </p:nvGrpSpPr>
            <p:grpSpPr>
              <a:xfrm>
                <a:off x="6119280" y="1385640"/>
                <a:ext cx="180720" cy="513000"/>
                <a:chOff x="6119280" y="1385640"/>
                <a:chExt cx="180720" cy="513000"/>
              </a:xfrm>
            </p:grpSpPr>
            <p:grpSp>
              <p:nvGrpSpPr>
                <p:cNvPr id="105" name="Group 227"/>
                <p:cNvGrpSpPr/>
                <p:nvPr/>
              </p:nvGrpSpPr>
              <p:grpSpPr>
                <a:xfrm>
                  <a:off x="6119280" y="1385640"/>
                  <a:ext cx="180720" cy="282240"/>
                  <a:chOff x="6119280" y="1385640"/>
                  <a:chExt cx="180720" cy="282240"/>
                </a:xfrm>
              </p:grpSpPr>
              <p:sp>
                <p:nvSpPr>
                  <p:cNvPr id="106" name="Rectangle 228"/>
                  <p:cNvSpPr/>
                  <p:nvPr/>
                </p:nvSpPr>
                <p:spPr>
                  <a:xfrm>
                    <a:off x="6119280" y="1385640"/>
                    <a:ext cx="180720" cy="282240"/>
                  </a:xfrm>
                  <a:prstGeom prst="rect">
                    <a:avLst/>
                  </a:prstGeom>
                  <a:noFill/>
                  <a:ln w="9360">
                    <a:solidFill>
                      <a:srgbClr val="6666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1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07" name="Group 229"/>
                  <p:cNvGrpSpPr/>
                  <p:nvPr/>
                </p:nvGrpSpPr>
                <p:grpSpPr>
                  <a:xfrm>
                    <a:off x="6147360" y="1471320"/>
                    <a:ext cx="126000" cy="118440"/>
                    <a:chOff x="6147360" y="1471320"/>
                    <a:chExt cx="126000" cy="118440"/>
                  </a:xfrm>
                </p:grpSpPr>
                <p:sp>
                  <p:nvSpPr>
                    <p:cNvPr id="108" name="Oval 230"/>
                    <p:cNvSpPr/>
                    <p:nvPr/>
                  </p:nvSpPr>
                  <p:spPr>
                    <a:xfrm>
                      <a:off x="6147360" y="1471320"/>
                      <a:ext cx="126000" cy="117000"/>
                    </a:xfrm>
                    <a:prstGeom prst="ellipse">
                      <a:avLst/>
                    </a:prstGeom>
                    <a:noFill/>
                    <a:ln w="9360">
                      <a:solidFill>
                        <a:srgbClr val="66666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6360" bIns="3636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9" name="Line 231"/>
                    <p:cNvSpPr/>
                    <p:nvPr/>
                  </p:nvSpPr>
                  <p:spPr>
                    <a:xfrm>
                      <a:off x="6209640" y="1478160"/>
                      <a:ext cx="360" cy="111600"/>
                    </a:xfrm>
                    <a:prstGeom prst="line">
                      <a:avLst/>
                    </a:prstGeom>
                    <a:ln w="9360">
                      <a:solidFill>
                        <a:srgbClr val="66666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0" name="Line 232"/>
                    <p:cNvSpPr/>
                    <p:nvPr/>
                  </p:nvSpPr>
                  <p:spPr>
                    <a:xfrm>
                      <a:off x="6147360" y="1529280"/>
                      <a:ext cx="126000" cy="4320"/>
                    </a:xfrm>
                    <a:prstGeom prst="line">
                      <a:avLst/>
                    </a:prstGeom>
                    <a:ln w="9360">
                      <a:solidFill>
                        <a:srgbClr val="66666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480" bIns="-4248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11" name="Group 233"/>
                <p:cNvGrpSpPr/>
                <p:nvPr/>
              </p:nvGrpSpPr>
              <p:grpSpPr>
                <a:xfrm>
                  <a:off x="6135120" y="1729080"/>
                  <a:ext cx="90720" cy="86760"/>
                  <a:chOff x="6135120" y="1729080"/>
                  <a:chExt cx="90720" cy="86760"/>
                </a:xfrm>
              </p:grpSpPr>
              <p:sp>
                <p:nvSpPr>
                  <p:cNvPr id="112" name="Freeform 234"/>
                  <p:cNvSpPr/>
                  <p:nvPr/>
                </p:nvSpPr>
                <p:spPr>
                  <a:xfrm>
                    <a:off x="6135120" y="1729080"/>
                    <a:ext cx="67680" cy="8676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0" y="0"/>
                        </a:moveTo>
                        <a:lnTo>
                          <a:pt x="19810" y="0"/>
                        </a:lnTo>
                        <a:lnTo>
                          <a:pt x="0" y="19873"/>
                        </a:lnTo>
                        <a:lnTo>
                          <a:pt x="19810" y="19873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6666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960" bIns="39960" anchor="t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1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Freeform 235"/>
                  <p:cNvSpPr/>
                  <p:nvPr/>
                </p:nvSpPr>
                <p:spPr>
                  <a:xfrm>
                    <a:off x="6178320" y="1749960"/>
                    <a:ext cx="4752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730" y="0"/>
                        </a:moveTo>
                        <a:lnTo>
                          <a:pt x="19730" y="19740"/>
                        </a:lnTo>
                        <a:lnTo>
                          <a:pt x="0" y="9610"/>
                        </a:lnTo>
                        <a:lnTo>
                          <a:pt x="19730" y="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6666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" bIns="-4680" anchor="t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1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4" name="Line 236"/>
                <p:cNvSpPr/>
                <p:nvPr/>
              </p:nvSpPr>
              <p:spPr>
                <a:xfrm>
                  <a:off x="6167520" y="1666800"/>
                  <a:ext cx="360" cy="59040"/>
                </a:xfrm>
                <a:prstGeom prst="line">
                  <a:avLst/>
                </a:prstGeom>
                <a:ln w="9360">
                  <a:solidFill>
                    <a:srgbClr val="6666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5" name="Line 237"/>
                <p:cNvSpPr/>
                <p:nvPr/>
              </p:nvSpPr>
              <p:spPr>
                <a:xfrm>
                  <a:off x="6249960" y="1666800"/>
                  <a:ext cx="360" cy="231840"/>
                </a:xfrm>
                <a:prstGeom prst="line">
                  <a:avLst/>
                </a:prstGeom>
                <a:ln w="9360">
                  <a:solidFill>
                    <a:srgbClr val="6666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" name="Line 238"/>
                <p:cNvSpPr/>
                <p:nvPr/>
              </p:nvSpPr>
              <p:spPr>
                <a:xfrm>
                  <a:off x="6170760" y="1814040"/>
                  <a:ext cx="360" cy="83520"/>
                </a:xfrm>
                <a:prstGeom prst="line">
                  <a:avLst/>
                </a:prstGeom>
                <a:ln w="9360">
                  <a:solidFill>
                    <a:srgbClr val="6666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7" name="Line 239"/>
                <p:cNvSpPr/>
                <p:nvPr/>
              </p:nvSpPr>
              <p:spPr>
                <a:xfrm>
                  <a:off x="6226200" y="1769760"/>
                  <a:ext cx="23760" cy="360"/>
                </a:xfrm>
                <a:prstGeom prst="line">
                  <a:avLst/>
                </a:prstGeom>
                <a:ln w="9360">
                  <a:solidFill>
                    <a:srgbClr val="6666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8" name="Group 240"/>
              <p:cNvGrpSpPr/>
              <p:nvPr/>
            </p:nvGrpSpPr>
            <p:grpSpPr>
              <a:xfrm>
                <a:off x="6644520" y="1433880"/>
                <a:ext cx="344880" cy="179280"/>
                <a:chOff x="6644520" y="1433880"/>
                <a:chExt cx="344880" cy="179280"/>
              </a:xfrm>
            </p:grpSpPr>
            <p:sp>
              <p:nvSpPr>
                <p:cNvPr id="119" name="Oval 241"/>
                <p:cNvSpPr/>
                <p:nvPr/>
              </p:nvSpPr>
              <p:spPr>
                <a:xfrm>
                  <a:off x="6644520" y="1433880"/>
                  <a:ext cx="202680" cy="179280"/>
                </a:xfrm>
                <a:prstGeom prst="ellipse">
                  <a:avLst/>
                </a:prstGeom>
                <a:noFill/>
                <a:ln w="9360">
                  <a:solidFill>
                    <a:srgbClr val="6666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Freeform 242"/>
                <p:cNvSpPr/>
                <p:nvPr/>
              </p:nvSpPr>
              <p:spPr>
                <a:xfrm>
                  <a:off x="6744240" y="1433880"/>
                  <a:ext cx="245160" cy="6372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262" y="0"/>
                      </a:moveTo>
                      <a:lnTo>
                        <a:pt x="0" y="0"/>
                      </a:lnTo>
                      <a:lnTo>
                        <a:pt x="19948" y="0"/>
                      </a:lnTo>
                      <a:lnTo>
                        <a:pt x="19948" y="19828"/>
                      </a:lnTo>
                      <a:lnTo>
                        <a:pt x="7822" y="19828"/>
                      </a:lnTo>
                    </a:path>
                  </a:pathLst>
                </a:custGeom>
                <a:noFill/>
                <a:ln w="9360">
                  <a:solidFill>
                    <a:srgbClr val="6666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Oval 243"/>
                <p:cNvSpPr/>
                <p:nvPr/>
              </p:nvSpPr>
              <p:spPr>
                <a:xfrm>
                  <a:off x="6702480" y="1478160"/>
                  <a:ext cx="96480" cy="85680"/>
                </a:xfrm>
                <a:prstGeom prst="ellipse">
                  <a:avLst/>
                </a:prstGeom>
                <a:noFill/>
                <a:ln w="9360">
                  <a:solidFill>
                    <a:srgbClr val="6666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2" name="Group 244"/>
              <p:cNvGrpSpPr/>
              <p:nvPr/>
            </p:nvGrpSpPr>
            <p:grpSpPr>
              <a:xfrm>
                <a:off x="5488560" y="1449360"/>
                <a:ext cx="545760" cy="171720"/>
                <a:chOff x="5488560" y="1449360"/>
                <a:chExt cx="545760" cy="171720"/>
              </a:xfrm>
            </p:grpSpPr>
            <p:sp>
              <p:nvSpPr>
                <p:cNvPr id="123" name="Rectangle 245"/>
                <p:cNvSpPr/>
                <p:nvPr/>
              </p:nvSpPr>
              <p:spPr>
                <a:xfrm>
                  <a:off x="5555520" y="1449360"/>
                  <a:ext cx="398520" cy="171720"/>
                </a:xfrm>
                <a:prstGeom prst="rect">
                  <a:avLst/>
                </a:prstGeom>
                <a:noFill/>
                <a:ln w="9360">
                  <a:solidFill>
                    <a:srgbClr val="6666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4" name="Freeform 246"/>
                <p:cNvSpPr/>
                <p:nvPr/>
              </p:nvSpPr>
              <p:spPr>
                <a:xfrm>
                  <a:off x="5488560" y="1471680"/>
                  <a:ext cx="545760" cy="464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0" y="19765"/>
                      </a:moveTo>
                      <a:lnTo>
                        <a:pt x="4009" y="19765"/>
                      </a:lnTo>
                      <a:lnTo>
                        <a:pt x="6014" y="0"/>
                      </a:lnTo>
                      <a:lnTo>
                        <a:pt x="7972" y="19765"/>
                      </a:lnTo>
                      <a:lnTo>
                        <a:pt x="9976" y="0"/>
                      </a:lnTo>
                      <a:lnTo>
                        <a:pt x="12005" y="19765"/>
                      </a:lnTo>
                      <a:lnTo>
                        <a:pt x="13986" y="0"/>
                      </a:lnTo>
                      <a:lnTo>
                        <a:pt x="15991" y="19765"/>
                      </a:lnTo>
                      <a:lnTo>
                        <a:pt x="19976" y="19765"/>
                      </a:lnTo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6666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" bIns="-36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5" name="Freeform 247"/>
                <p:cNvSpPr/>
                <p:nvPr/>
              </p:nvSpPr>
              <p:spPr>
                <a:xfrm>
                  <a:off x="5488560" y="1544760"/>
                  <a:ext cx="545760" cy="464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0" y="19765"/>
                      </a:moveTo>
                      <a:lnTo>
                        <a:pt x="4009" y="19765"/>
                      </a:lnTo>
                      <a:lnTo>
                        <a:pt x="6014" y="0"/>
                      </a:lnTo>
                      <a:lnTo>
                        <a:pt x="7972" y="19765"/>
                      </a:lnTo>
                      <a:lnTo>
                        <a:pt x="9976" y="0"/>
                      </a:lnTo>
                      <a:lnTo>
                        <a:pt x="12005" y="19765"/>
                      </a:lnTo>
                      <a:lnTo>
                        <a:pt x="13986" y="0"/>
                      </a:lnTo>
                      <a:lnTo>
                        <a:pt x="15991" y="19765"/>
                      </a:lnTo>
                      <a:lnTo>
                        <a:pt x="19976" y="19765"/>
                      </a:lnTo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6666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" bIns="-36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6" name="Group 248"/>
              <p:cNvGrpSpPr/>
              <p:nvPr/>
            </p:nvGrpSpPr>
            <p:grpSpPr>
              <a:xfrm>
                <a:off x="6300000" y="2164320"/>
                <a:ext cx="345600" cy="179280"/>
                <a:chOff x="6300000" y="2164320"/>
                <a:chExt cx="345600" cy="179280"/>
              </a:xfrm>
            </p:grpSpPr>
            <p:sp>
              <p:nvSpPr>
                <p:cNvPr id="127" name="Oval 249"/>
                <p:cNvSpPr/>
                <p:nvPr/>
              </p:nvSpPr>
              <p:spPr>
                <a:xfrm>
                  <a:off x="6442920" y="2164320"/>
                  <a:ext cx="202680" cy="179280"/>
                </a:xfrm>
                <a:prstGeom prst="ellipse">
                  <a:avLst/>
                </a:prstGeom>
                <a:noFill/>
                <a:ln w="9360">
                  <a:solidFill>
                    <a:srgbClr val="6666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8" name="Freeform 250"/>
                <p:cNvSpPr/>
                <p:nvPr/>
              </p:nvSpPr>
              <p:spPr>
                <a:xfrm>
                  <a:off x="6300000" y="2164320"/>
                  <a:ext cx="245160" cy="6372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685" y="0"/>
                      </a:moveTo>
                      <a:lnTo>
                        <a:pt x="19948" y="0"/>
                      </a:lnTo>
                      <a:lnTo>
                        <a:pt x="0" y="0"/>
                      </a:lnTo>
                      <a:lnTo>
                        <a:pt x="0" y="19828"/>
                      </a:lnTo>
                      <a:lnTo>
                        <a:pt x="12126" y="19828"/>
                      </a:lnTo>
                    </a:path>
                  </a:pathLst>
                </a:custGeom>
                <a:noFill/>
                <a:ln w="9360">
                  <a:solidFill>
                    <a:srgbClr val="6666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9" name="Oval 251"/>
                <p:cNvSpPr/>
                <p:nvPr/>
              </p:nvSpPr>
              <p:spPr>
                <a:xfrm>
                  <a:off x="6491880" y="2208600"/>
                  <a:ext cx="96480" cy="85680"/>
                </a:xfrm>
                <a:prstGeom prst="ellipse">
                  <a:avLst/>
                </a:prstGeom>
                <a:noFill/>
                <a:ln w="9360">
                  <a:solidFill>
                    <a:srgbClr val="6666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0" name="Rectangle 252"/>
              <p:cNvSpPr/>
              <p:nvPr/>
            </p:nvSpPr>
            <p:spPr>
              <a:xfrm>
                <a:off x="5474160" y="1321920"/>
                <a:ext cx="1574640" cy="589680"/>
              </a:xfrm>
              <a:prstGeom prst="rect">
                <a:avLst/>
              </a:prstGeom>
              <a:noFill/>
              <a:ln w="936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53"/>
              <p:cNvSpPr/>
              <p:nvPr/>
            </p:nvSpPr>
            <p:spPr>
              <a:xfrm>
                <a:off x="6541920" y="1958040"/>
                <a:ext cx="920880" cy="2988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19963"/>
                    </a:moveTo>
                    <a:lnTo>
                      <a:pt x="12704" y="19963"/>
                    </a:lnTo>
                    <a:lnTo>
                      <a:pt x="12704" y="0"/>
                    </a:lnTo>
                    <a:lnTo>
                      <a:pt x="19986" y="0"/>
                    </a:lnTo>
                  </a:path>
                </a:pathLst>
              </a:custGeom>
              <a:noFill/>
              <a:ln w="936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54"/>
              <p:cNvSpPr/>
              <p:nvPr/>
            </p:nvSpPr>
            <p:spPr>
              <a:xfrm>
                <a:off x="7126560" y="2252160"/>
                <a:ext cx="327600" cy="3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0"/>
                    </a:moveTo>
                    <a:lnTo>
                      <a:pt x="19961" y="0"/>
                    </a:lnTo>
                  </a:path>
                </a:pathLst>
              </a:custGeom>
              <a:noFill/>
              <a:ln w="936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55"/>
              <p:cNvSpPr/>
              <p:nvPr/>
            </p:nvSpPr>
            <p:spPr>
              <a:xfrm>
                <a:off x="6541920" y="2254680"/>
                <a:ext cx="920880" cy="2102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0"/>
                    </a:moveTo>
                    <a:lnTo>
                      <a:pt x="12704" y="0"/>
                    </a:lnTo>
                    <a:lnTo>
                      <a:pt x="12704" y="19948"/>
                    </a:lnTo>
                    <a:lnTo>
                      <a:pt x="19986" y="19948"/>
                    </a:lnTo>
                  </a:path>
                </a:pathLst>
              </a:custGeom>
              <a:noFill/>
              <a:ln w="936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256"/>
              <p:cNvSpPr/>
              <p:nvPr/>
            </p:nvSpPr>
            <p:spPr>
              <a:xfrm>
                <a:off x="6989400" y="1320840"/>
                <a:ext cx="499320" cy="1443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19924"/>
                    </a:moveTo>
                    <a:lnTo>
                      <a:pt x="12706" y="19924"/>
                    </a:lnTo>
                    <a:lnTo>
                      <a:pt x="12706" y="0"/>
                    </a:lnTo>
                    <a:lnTo>
                      <a:pt x="19974" y="0"/>
                    </a:lnTo>
                  </a:path>
                </a:pathLst>
              </a:custGeom>
              <a:noFill/>
              <a:ln w="936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257"/>
              <p:cNvSpPr/>
              <p:nvPr/>
            </p:nvSpPr>
            <p:spPr>
              <a:xfrm>
                <a:off x="6989400" y="1465560"/>
                <a:ext cx="499320" cy="2102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0"/>
                    </a:moveTo>
                    <a:lnTo>
                      <a:pt x="12706" y="0"/>
                    </a:lnTo>
                    <a:lnTo>
                      <a:pt x="12706" y="19948"/>
                    </a:lnTo>
                    <a:lnTo>
                      <a:pt x="19974" y="19948"/>
                    </a:lnTo>
                  </a:path>
                </a:pathLst>
              </a:custGeom>
              <a:noFill/>
              <a:ln w="936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Line 258"/>
              <p:cNvSpPr/>
              <p:nvPr/>
            </p:nvSpPr>
            <p:spPr>
              <a:xfrm>
                <a:off x="7306560" y="1463760"/>
                <a:ext cx="189720" cy="360"/>
              </a:xfrm>
              <a:prstGeom prst="line">
                <a:avLst/>
              </a:prstGeom>
              <a:ln w="936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Line 259"/>
              <p:cNvSpPr/>
              <p:nvPr/>
            </p:nvSpPr>
            <p:spPr>
              <a:xfrm flipH="1">
                <a:off x="4880880" y="1517400"/>
                <a:ext cx="611280" cy="360"/>
              </a:xfrm>
              <a:prstGeom prst="line">
                <a:avLst/>
              </a:prstGeom>
              <a:ln w="936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Line 260"/>
              <p:cNvSpPr/>
              <p:nvPr/>
            </p:nvSpPr>
            <p:spPr>
              <a:xfrm flipH="1">
                <a:off x="4880880" y="1590480"/>
                <a:ext cx="611280" cy="360"/>
              </a:xfrm>
              <a:prstGeom prst="line">
                <a:avLst/>
              </a:prstGeom>
              <a:ln w="936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Line 261"/>
              <p:cNvSpPr/>
              <p:nvPr/>
            </p:nvSpPr>
            <p:spPr>
              <a:xfrm>
                <a:off x="5999400" y="1521360"/>
                <a:ext cx="120960" cy="360"/>
              </a:xfrm>
              <a:prstGeom prst="line">
                <a:avLst/>
              </a:prstGeom>
              <a:ln w="936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Line 262"/>
              <p:cNvSpPr/>
              <p:nvPr/>
            </p:nvSpPr>
            <p:spPr>
              <a:xfrm>
                <a:off x="6300000" y="1515960"/>
                <a:ext cx="447840" cy="360"/>
              </a:xfrm>
              <a:prstGeom prst="line">
                <a:avLst/>
              </a:prstGeom>
              <a:ln w="936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Rectangle 263"/>
              <p:cNvSpPr/>
              <p:nvPr/>
            </p:nvSpPr>
            <p:spPr>
              <a:xfrm>
                <a:off x="5672520" y="3046680"/>
                <a:ext cx="353160" cy="314640"/>
              </a:xfrm>
              <a:prstGeom prst="rect">
                <a:avLst/>
              </a:prstGeom>
              <a:noFill/>
              <a:ln w="936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Rectangle 264"/>
              <p:cNvSpPr/>
              <p:nvPr/>
            </p:nvSpPr>
            <p:spPr>
              <a:xfrm>
                <a:off x="6076800" y="3046680"/>
                <a:ext cx="353160" cy="314640"/>
              </a:xfrm>
              <a:prstGeom prst="rect">
                <a:avLst/>
              </a:prstGeom>
              <a:noFill/>
              <a:ln w="936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Rectangle 265"/>
              <p:cNvSpPr/>
              <p:nvPr/>
            </p:nvSpPr>
            <p:spPr>
              <a:xfrm>
                <a:off x="6481080" y="3046680"/>
                <a:ext cx="353160" cy="314640"/>
              </a:xfrm>
              <a:prstGeom prst="rect">
                <a:avLst/>
              </a:prstGeom>
              <a:noFill/>
              <a:ln w="936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Rectangle 266"/>
              <p:cNvSpPr/>
              <p:nvPr/>
            </p:nvSpPr>
            <p:spPr>
              <a:xfrm>
                <a:off x="4924080" y="3015720"/>
                <a:ext cx="499320" cy="358560"/>
              </a:xfrm>
              <a:prstGeom prst="rect">
                <a:avLst/>
              </a:prstGeom>
              <a:noFill/>
              <a:ln w="936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Oval 267"/>
              <p:cNvSpPr/>
              <p:nvPr/>
            </p:nvSpPr>
            <p:spPr>
              <a:xfrm>
                <a:off x="4605480" y="3134880"/>
                <a:ext cx="163440" cy="149760"/>
              </a:xfrm>
              <a:prstGeom prst="ellipse">
                <a:avLst/>
              </a:prstGeom>
              <a:noFill/>
              <a:ln w="936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Line 268"/>
              <p:cNvSpPr/>
              <p:nvPr/>
            </p:nvSpPr>
            <p:spPr>
              <a:xfrm>
                <a:off x="4752360" y="3172320"/>
                <a:ext cx="172080" cy="360"/>
              </a:xfrm>
              <a:prstGeom prst="line">
                <a:avLst/>
              </a:prstGeom>
              <a:ln w="936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Line 269"/>
              <p:cNvSpPr/>
              <p:nvPr/>
            </p:nvSpPr>
            <p:spPr>
              <a:xfrm>
                <a:off x="4759920" y="3239280"/>
                <a:ext cx="159480" cy="360"/>
              </a:xfrm>
              <a:prstGeom prst="line">
                <a:avLst/>
              </a:prstGeom>
              <a:ln w="936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48" name="Group 270"/>
              <p:cNvGrpSpPr/>
              <p:nvPr/>
            </p:nvGrpSpPr>
            <p:grpSpPr>
              <a:xfrm>
                <a:off x="4635360" y="3168360"/>
                <a:ext cx="103680" cy="79560"/>
                <a:chOff x="4635360" y="3168360"/>
                <a:chExt cx="103680" cy="79560"/>
              </a:xfrm>
            </p:grpSpPr>
            <p:sp>
              <p:nvSpPr>
                <p:cNvPr id="149" name="Arc 271"/>
                <p:cNvSpPr/>
                <p:nvPr/>
              </p:nvSpPr>
              <p:spPr>
                <a:xfrm flipH="1">
                  <a:off x="4635000" y="3168360"/>
                  <a:ext cx="24120" cy="3744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0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0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6666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360" bIns="-936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0" name="Arc 272"/>
                <p:cNvSpPr/>
                <p:nvPr/>
              </p:nvSpPr>
              <p:spPr>
                <a:xfrm>
                  <a:off x="4663080" y="3168360"/>
                  <a:ext cx="24120" cy="3744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0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0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6666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360" bIns="-936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51" name="Group 273"/>
                <p:cNvGrpSpPr/>
                <p:nvPr/>
              </p:nvGrpSpPr>
              <p:grpSpPr>
                <a:xfrm>
                  <a:off x="4686480" y="3210480"/>
                  <a:ext cx="52560" cy="37440"/>
                  <a:chOff x="4686480" y="3210480"/>
                  <a:chExt cx="52560" cy="37440"/>
                </a:xfrm>
              </p:grpSpPr>
              <p:sp>
                <p:nvSpPr>
                  <p:cNvPr id="152" name="Arc 274"/>
                  <p:cNvSpPr/>
                  <p:nvPr/>
                </p:nvSpPr>
                <p:spPr>
                  <a:xfrm flipH="1" flipV="1">
                    <a:off x="4686480" y="3210480"/>
                    <a:ext cx="24480" cy="374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1600">
                        <a:moveTo>
                          <a:pt x="0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0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6666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360" bIns="-9360" anchor="t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1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Arc 275"/>
                  <p:cNvSpPr/>
                  <p:nvPr/>
                </p:nvSpPr>
                <p:spPr>
                  <a:xfrm flipV="1">
                    <a:off x="4714560" y="3210480"/>
                    <a:ext cx="24480" cy="374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1600">
                        <a:moveTo>
                          <a:pt x="0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0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6666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360" bIns="-9360" anchor="t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1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54" name="Rectangle 276"/>
              <p:cNvSpPr/>
              <p:nvPr/>
            </p:nvSpPr>
            <p:spPr>
              <a:xfrm>
                <a:off x="5461560" y="2967480"/>
                <a:ext cx="151200" cy="444240"/>
              </a:xfrm>
              <a:prstGeom prst="rect">
                <a:avLst/>
              </a:prstGeom>
              <a:noFill/>
              <a:ln w="936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55" name="Group 277"/>
              <p:cNvGrpSpPr/>
              <p:nvPr/>
            </p:nvGrpSpPr>
            <p:grpSpPr>
              <a:xfrm>
                <a:off x="7246800" y="2945160"/>
                <a:ext cx="276120" cy="116280"/>
                <a:chOff x="7246800" y="2945160"/>
                <a:chExt cx="276120" cy="116280"/>
              </a:xfrm>
            </p:grpSpPr>
            <p:sp>
              <p:nvSpPr>
                <p:cNvPr id="156" name="Arc 278"/>
                <p:cNvSpPr/>
                <p:nvPr/>
              </p:nvSpPr>
              <p:spPr>
                <a:xfrm flipH="1">
                  <a:off x="7246800" y="2945160"/>
                  <a:ext cx="138240" cy="1162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0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0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6666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7" name="Arc 279"/>
                <p:cNvSpPr/>
                <p:nvPr/>
              </p:nvSpPr>
              <p:spPr>
                <a:xfrm>
                  <a:off x="7384680" y="2945160"/>
                  <a:ext cx="138240" cy="1162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0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0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6666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8" name="Group 280"/>
              <p:cNvGrpSpPr/>
              <p:nvPr/>
            </p:nvGrpSpPr>
            <p:grpSpPr>
              <a:xfrm>
                <a:off x="7246800" y="3310560"/>
                <a:ext cx="276120" cy="116280"/>
                <a:chOff x="7246800" y="3310560"/>
                <a:chExt cx="276120" cy="116280"/>
              </a:xfrm>
            </p:grpSpPr>
            <p:sp>
              <p:nvSpPr>
                <p:cNvPr id="159" name="Arc 281"/>
                <p:cNvSpPr/>
                <p:nvPr/>
              </p:nvSpPr>
              <p:spPr>
                <a:xfrm flipH="1" flipV="1">
                  <a:off x="7246800" y="3310200"/>
                  <a:ext cx="138240" cy="1162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0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0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6666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0" name="Arc 282"/>
                <p:cNvSpPr/>
                <p:nvPr/>
              </p:nvSpPr>
              <p:spPr>
                <a:xfrm flipV="1">
                  <a:off x="7384680" y="3310200"/>
                  <a:ext cx="138240" cy="1162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0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0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6666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1" name="Line 283"/>
              <p:cNvSpPr/>
              <p:nvPr/>
            </p:nvSpPr>
            <p:spPr>
              <a:xfrm>
                <a:off x="7522920" y="3060720"/>
                <a:ext cx="360" cy="266400"/>
              </a:xfrm>
              <a:prstGeom prst="line">
                <a:avLst/>
              </a:prstGeom>
              <a:ln w="936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Line 284"/>
              <p:cNvSpPr/>
              <p:nvPr/>
            </p:nvSpPr>
            <p:spPr>
              <a:xfrm>
                <a:off x="7246800" y="3065040"/>
                <a:ext cx="360" cy="254520"/>
              </a:xfrm>
              <a:prstGeom prst="line">
                <a:avLst/>
              </a:prstGeom>
              <a:ln w="936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285"/>
              <p:cNvSpPr/>
              <p:nvPr/>
            </p:nvSpPr>
            <p:spPr>
              <a:xfrm>
                <a:off x="7281720" y="3000960"/>
                <a:ext cx="63000" cy="40752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0"/>
                    </a:moveTo>
                    <a:lnTo>
                      <a:pt x="0" y="2210"/>
                    </a:lnTo>
                    <a:lnTo>
                      <a:pt x="19796" y="4447"/>
                    </a:lnTo>
                    <a:lnTo>
                      <a:pt x="0" y="6631"/>
                    </a:lnTo>
                    <a:lnTo>
                      <a:pt x="19796" y="8868"/>
                    </a:lnTo>
                    <a:lnTo>
                      <a:pt x="0" y="11078"/>
                    </a:lnTo>
                    <a:lnTo>
                      <a:pt x="19796" y="13288"/>
                    </a:lnTo>
                    <a:lnTo>
                      <a:pt x="0" y="15526"/>
                    </a:lnTo>
                    <a:lnTo>
                      <a:pt x="0" y="19973"/>
                    </a:lnTo>
                  </a:path>
                </a:pathLst>
              </a:custGeom>
              <a:noFill/>
              <a:ln w="936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286"/>
              <p:cNvSpPr/>
              <p:nvPr/>
            </p:nvSpPr>
            <p:spPr>
              <a:xfrm>
                <a:off x="5512320" y="2982240"/>
                <a:ext cx="63000" cy="4852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0"/>
                    </a:moveTo>
                    <a:lnTo>
                      <a:pt x="0" y="2217"/>
                    </a:lnTo>
                    <a:lnTo>
                      <a:pt x="19796" y="4434"/>
                    </a:lnTo>
                    <a:lnTo>
                      <a:pt x="0" y="6674"/>
                    </a:lnTo>
                    <a:lnTo>
                      <a:pt x="19796" y="8846"/>
                    </a:lnTo>
                    <a:lnTo>
                      <a:pt x="0" y="11063"/>
                    </a:lnTo>
                    <a:lnTo>
                      <a:pt x="19796" y="13326"/>
                    </a:lnTo>
                    <a:lnTo>
                      <a:pt x="0" y="15520"/>
                    </a:lnTo>
                    <a:lnTo>
                      <a:pt x="0" y="19977"/>
                    </a:lnTo>
                  </a:path>
                </a:pathLst>
              </a:custGeom>
              <a:noFill/>
              <a:ln w="936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" name="Freeform 287"/>
              <p:cNvSpPr/>
              <p:nvPr/>
            </p:nvSpPr>
            <p:spPr>
              <a:xfrm>
                <a:off x="4924080" y="3309840"/>
                <a:ext cx="483120" cy="442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73" y="0"/>
                    </a:moveTo>
                    <a:lnTo>
                      <a:pt x="17763" y="0"/>
                    </a:lnTo>
                    <a:lnTo>
                      <a:pt x="15526" y="19753"/>
                    </a:lnTo>
                    <a:lnTo>
                      <a:pt x="13316" y="0"/>
                    </a:lnTo>
                    <a:lnTo>
                      <a:pt x="11105" y="19753"/>
                    </a:lnTo>
                    <a:lnTo>
                      <a:pt x="8868" y="0"/>
                    </a:lnTo>
                    <a:lnTo>
                      <a:pt x="6658" y="19753"/>
                    </a:lnTo>
                    <a:lnTo>
                      <a:pt x="4447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" name="Freeform 288"/>
              <p:cNvSpPr/>
              <p:nvPr/>
            </p:nvSpPr>
            <p:spPr>
              <a:xfrm>
                <a:off x="5405400" y="3310920"/>
                <a:ext cx="112320" cy="1616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0"/>
                    </a:moveTo>
                    <a:lnTo>
                      <a:pt x="0" y="19932"/>
                    </a:lnTo>
                    <a:lnTo>
                      <a:pt x="19886" y="19932"/>
                    </a:lnTo>
                  </a:path>
                </a:pathLst>
              </a:custGeom>
              <a:noFill/>
              <a:ln w="936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" name="Freeform 289"/>
              <p:cNvSpPr/>
              <p:nvPr/>
            </p:nvSpPr>
            <p:spPr>
              <a:xfrm>
                <a:off x="4799160" y="3310920"/>
                <a:ext cx="146520" cy="1800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12" y="0"/>
                    </a:moveTo>
                    <a:lnTo>
                      <a:pt x="0" y="0"/>
                    </a:lnTo>
                    <a:lnTo>
                      <a:pt x="0" y="19939"/>
                    </a:lnTo>
                  </a:path>
                </a:pathLst>
              </a:custGeom>
              <a:noFill/>
              <a:ln w="936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" name="Freeform 290"/>
              <p:cNvSpPr/>
              <p:nvPr/>
            </p:nvSpPr>
            <p:spPr>
              <a:xfrm>
                <a:off x="5848200" y="2907720"/>
                <a:ext cx="396360" cy="1350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19919"/>
                    </a:moveTo>
                    <a:lnTo>
                      <a:pt x="0" y="0"/>
                    </a:lnTo>
                    <a:lnTo>
                      <a:pt x="19968" y="0"/>
                    </a:lnTo>
                    <a:lnTo>
                      <a:pt x="19968" y="19919"/>
                    </a:lnTo>
                  </a:path>
                </a:pathLst>
              </a:custGeom>
              <a:noFill/>
              <a:ln w="936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" name="Freeform 291"/>
              <p:cNvSpPr/>
              <p:nvPr/>
            </p:nvSpPr>
            <p:spPr>
              <a:xfrm>
                <a:off x="6245280" y="2907720"/>
                <a:ext cx="396360" cy="1350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19919"/>
                    </a:moveTo>
                    <a:lnTo>
                      <a:pt x="0" y="0"/>
                    </a:lnTo>
                    <a:lnTo>
                      <a:pt x="19968" y="0"/>
                    </a:lnTo>
                    <a:lnTo>
                      <a:pt x="19968" y="19919"/>
                    </a:lnTo>
                  </a:path>
                </a:pathLst>
              </a:custGeom>
              <a:noFill/>
              <a:ln w="936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" name="Freeform 292"/>
              <p:cNvSpPr/>
              <p:nvPr/>
            </p:nvSpPr>
            <p:spPr>
              <a:xfrm>
                <a:off x="5848200" y="3359160"/>
                <a:ext cx="396360" cy="1350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0"/>
                    </a:moveTo>
                    <a:lnTo>
                      <a:pt x="0" y="19919"/>
                    </a:lnTo>
                    <a:lnTo>
                      <a:pt x="19968" y="19919"/>
                    </a:lnTo>
                    <a:lnTo>
                      <a:pt x="19968" y="0"/>
                    </a:lnTo>
                  </a:path>
                </a:pathLst>
              </a:custGeom>
              <a:noFill/>
              <a:ln w="936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" name="Freeform 293"/>
              <p:cNvSpPr/>
              <p:nvPr/>
            </p:nvSpPr>
            <p:spPr>
              <a:xfrm>
                <a:off x="6245280" y="3359160"/>
                <a:ext cx="396360" cy="1350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0"/>
                    </a:moveTo>
                    <a:lnTo>
                      <a:pt x="0" y="19919"/>
                    </a:lnTo>
                    <a:lnTo>
                      <a:pt x="19968" y="19919"/>
                    </a:lnTo>
                    <a:lnTo>
                      <a:pt x="19968" y="0"/>
                    </a:lnTo>
                  </a:path>
                </a:pathLst>
              </a:custGeom>
              <a:noFill/>
              <a:ln w="936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" name="Freeform 294"/>
              <p:cNvSpPr/>
              <p:nvPr/>
            </p:nvSpPr>
            <p:spPr>
              <a:xfrm>
                <a:off x="5516640" y="2907720"/>
                <a:ext cx="370080" cy="9792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65" y="0"/>
                    </a:moveTo>
                    <a:lnTo>
                      <a:pt x="0" y="0"/>
                    </a:lnTo>
                    <a:lnTo>
                      <a:pt x="0" y="19888"/>
                    </a:lnTo>
                  </a:path>
                </a:pathLst>
              </a:custGeom>
              <a:noFill/>
              <a:ln w="936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" name="Line 295"/>
              <p:cNvSpPr/>
              <p:nvPr/>
            </p:nvSpPr>
            <p:spPr>
              <a:xfrm flipH="1">
                <a:off x="4798800" y="3493800"/>
                <a:ext cx="1079640" cy="360"/>
              </a:xfrm>
              <a:prstGeom prst="line">
                <a:avLst/>
              </a:prstGeom>
              <a:ln w="936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" name="Line 296"/>
              <p:cNvSpPr/>
              <p:nvPr/>
            </p:nvSpPr>
            <p:spPr>
              <a:xfrm>
                <a:off x="6515640" y="2907720"/>
                <a:ext cx="447840" cy="360"/>
              </a:xfrm>
              <a:prstGeom prst="line">
                <a:avLst/>
              </a:prstGeom>
              <a:ln w="936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" name="Line 297"/>
              <p:cNvSpPr/>
              <p:nvPr/>
            </p:nvSpPr>
            <p:spPr>
              <a:xfrm flipV="1">
                <a:off x="7281720" y="2907720"/>
                <a:ext cx="360" cy="116640"/>
              </a:xfrm>
              <a:prstGeom prst="line">
                <a:avLst/>
              </a:prstGeom>
              <a:ln w="936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" name="Line 298"/>
              <p:cNvSpPr/>
              <p:nvPr/>
            </p:nvSpPr>
            <p:spPr>
              <a:xfrm>
                <a:off x="7281720" y="3373920"/>
                <a:ext cx="360" cy="113040"/>
              </a:xfrm>
              <a:prstGeom prst="line">
                <a:avLst/>
              </a:prstGeom>
              <a:ln w="936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" name="Line 299"/>
              <p:cNvSpPr/>
              <p:nvPr/>
            </p:nvSpPr>
            <p:spPr>
              <a:xfrm>
                <a:off x="6626880" y="3493800"/>
                <a:ext cx="339840" cy="360"/>
              </a:xfrm>
              <a:prstGeom prst="line">
                <a:avLst/>
              </a:prstGeom>
              <a:ln w="936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" name="Line 300"/>
              <p:cNvSpPr/>
              <p:nvPr/>
            </p:nvSpPr>
            <p:spPr>
              <a:xfrm>
                <a:off x="7517880" y="3038760"/>
                <a:ext cx="314640" cy="360"/>
              </a:xfrm>
              <a:prstGeom prst="line">
                <a:avLst/>
              </a:prstGeom>
              <a:ln w="936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" name="Line 301"/>
              <p:cNvSpPr/>
              <p:nvPr/>
            </p:nvSpPr>
            <p:spPr>
              <a:xfrm>
                <a:off x="7517880" y="3329280"/>
                <a:ext cx="314640" cy="360"/>
              </a:xfrm>
              <a:prstGeom prst="line">
                <a:avLst/>
              </a:prstGeom>
              <a:ln w="936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" name="Oval 302"/>
              <p:cNvSpPr/>
              <p:nvPr/>
            </p:nvSpPr>
            <p:spPr>
              <a:xfrm>
                <a:off x="4996800" y="3441600"/>
                <a:ext cx="117000" cy="943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" name="Freeform 303"/>
              <p:cNvSpPr/>
              <p:nvPr/>
            </p:nvSpPr>
            <p:spPr>
              <a:xfrm>
                <a:off x="4996800" y="3449160"/>
                <a:ext cx="86040" cy="788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851" y="0"/>
                    </a:moveTo>
                    <a:lnTo>
                      <a:pt x="19104" y="972"/>
                    </a:lnTo>
                    <a:lnTo>
                      <a:pt x="19104" y="19861"/>
                    </a:lnTo>
                    <a:lnTo>
                      <a:pt x="0" y="10417"/>
                    </a:lnTo>
                    <a:lnTo>
                      <a:pt x="19851" y="0"/>
                    </a:lnTo>
                    <a:close/>
                  </a:path>
                </a:pathLst>
              </a:custGeom>
              <a:solidFill>
                <a:srgbClr val="666666"/>
              </a:solidFill>
              <a:ln w="936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" name="Oval 304"/>
              <p:cNvSpPr/>
              <p:nvPr/>
            </p:nvSpPr>
            <p:spPr>
              <a:xfrm>
                <a:off x="6756480" y="3441600"/>
                <a:ext cx="117000" cy="943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" name="Freeform 305"/>
              <p:cNvSpPr/>
              <p:nvPr/>
            </p:nvSpPr>
            <p:spPr>
              <a:xfrm>
                <a:off x="6766200" y="3449160"/>
                <a:ext cx="86040" cy="788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851" y="0"/>
                    </a:moveTo>
                    <a:lnTo>
                      <a:pt x="19104" y="972"/>
                    </a:lnTo>
                    <a:lnTo>
                      <a:pt x="19104" y="19861"/>
                    </a:lnTo>
                    <a:lnTo>
                      <a:pt x="0" y="10417"/>
                    </a:lnTo>
                    <a:lnTo>
                      <a:pt x="19851" y="0"/>
                    </a:lnTo>
                    <a:close/>
                  </a:path>
                </a:pathLst>
              </a:custGeom>
              <a:solidFill>
                <a:srgbClr val="666666"/>
              </a:solidFill>
              <a:ln w="936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" name="Line 306"/>
              <p:cNvSpPr/>
              <p:nvPr/>
            </p:nvSpPr>
            <p:spPr>
              <a:xfrm>
                <a:off x="6954840" y="3493800"/>
                <a:ext cx="327240" cy="360"/>
              </a:xfrm>
              <a:prstGeom prst="line">
                <a:avLst/>
              </a:prstGeom>
              <a:ln w="936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" name="Line 307"/>
              <p:cNvSpPr/>
              <p:nvPr/>
            </p:nvSpPr>
            <p:spPr>
              <a:xfrm>
                <a:off x="6949440" y="2907720"/>
                <a:ext cx="327600" cy="360"/>
              </a:xfrm>
              <a:prstGeom prst="line">
                <a:avLst/>
              </a:prstGeom>
              <a:ln w="936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" name="Oval 308"/>
              <p:cNvSpPr/>
              <p:nvPr/>
            </p:nvSpPr>
            <p:spPr>
              <a:xfrm>
                <a:off x="7629840" y="3281040"/>
                <a:ext cx="117000" cy="943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" name="Freeform 309"/>
              <p:cNvSpPr/>
              <p:nvPr/>
            </p:nvSpPr>
            <p:spPr>
              <a:xfrm>
                <a:off x="7629840" y="3288240"/>
                <a:ext cx="86040" cy="788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851" y="0"/>
                    </a:moveTo>
                    <a:lnTo>
                      <a:pt x="19104" y="972"/>
                    </a:lnTo>
                    <a:lnTo>
                      <a:pt x="19104" y="19861"/>
                    </a:lnTo>
                    <a:lnTo>
                      <a:pt x="0" y="10417"/>
                    </a:lnTo>
                    <a:lnTo>
                      <a:pt x="19851" y="0"/>
                    </a:lnTo>
                    <a:close/>
                  </a:path>
                </a:pathLst>
              </a:custGeom>
              <a:solidFill>
                <a:srgbClr val="666666"/>
              </a:solidFill>
              <a:ln w="936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" name="Oval 310"/>
              <p:cNvSpPr/>
              <p:nvPr/>
            </p:nvSpPr>
            <p:spPr>
              <a:xfrm>
                <a:off x="6782760" y="2601720"/>
                <a:ext cx="108000" cy="1004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" name="Freeform 311"/>
              <p:cNvSpPr/>
              <p:nvPr/>
            </p:nvSpPr>
            <p:spPr>
              <a:xfrm>
                <a:off x="6791040" y="2601720"/>
                <a:ext cx="90360" cy="756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858" y="19855"/>
                    </a:moveTo>
                    <a:lnTo>
                      <a:pt x="19007" y="18841"/>
                    </a:lnTo>
                    <a:lnTo>
                      <a:pt x="0" y="18841"/>
                    </a:lnTo>
                    <a:lnTo>
                      <a:pt x="9504" y="0"/>
                    </a:lnTo>
                    <a:lnTo>
                      <a:pt x="19858" y="19855"/>
                    </a:lnTo>
                    <a:close/>
                  </a:path>
                </a:pathLst>
              </a:custGeom>
              <a:solidFill>
                <a:srgbClr val="666666"/>
              </a:solidFill>
              <a:ln w="936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" name="Line 312"/>
              <p:cNvSpPr/>
              <p:nvPr/>
            </p:nvSpPr>
            <p:spPr>
              <a:xfrm>
                <a:off x="6838200" y="2702160"/>
                <a:ext cx="360" cy="206280"/>
              </a:xfrm>
              <a:prstGeom prst="line">
                <a:avLst/>
              </a:prstGeom>
              <a:ln w="936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91" name="Group 313"/>
              <p:cNvGrpSpPr/>
              <p:nvPr/>
            </p:nvGrpSpPr>
            <p:grpSpPr>
              <a:xfrm>
                <a:off x="6995880" y="2875680"/>
                <a:ext cx="97560" cy="79560"/>
                <a:chOff x="6995880" y="2875680"/>
                <a:chExt cx="97560" cy="79560"/>
              </a:xfrm>
            </p:grpSpPr>
            <p:sp>
              <p:nvSpPr>
                <p:cNvPr id="192" name="Freeform 314"/>
                <p:cNvSpPr/>
                <p:nvPr/>
              </p:nvSpPr>
              <p:spPr>
                <a:xfrm>
                  <a:off x="6995880" y="2875680"/>
                  <a:ext cx="97560" cy="5940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868" y="0"/>
                      </a:moveTo>
                      <a:lnTo>
                        <a:pt x="19868" y="19815"/>
                      </a:lnTo>
                      <a:lnTo>
                        <a:pt x="0" y="0"/>
                      </a:lnTo>
                      <a:lnTo>
                        <a:pt x="0" y="19815"/>
                      </a:lnTo>
                      <a:lnTo>
                        <a:pt x="19868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6666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3" name="Freeform 315"/>
                <p:cNvSpPr/>
                <p:nvPr/>
              </p:nvSpPr>
              <p:spPr>
                <a:xfrm>
                  <a:off x="7023240" y="2913120"/>
                  <a:ext cx="47520" cy="4212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730" y="19740"/>
                      </a:moveTo>
                      <a:lnTo>
                        <a:pt x="0" y="19740"/>
                      </a:lnTo>
                      <a:lnTo>
                        <a:pt x="9730" y="0"/>
                      </a:lnTo>
                      <a:lnTo>
                        <a:pt x="19730" y="1974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6666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" bIns="-468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4" name="Line 316"/>
              <p:cNvSpPr/>
              <p:nvPr/>
            </p:nvSpPr>
            <p:spPr>
              <a:xfrm>
                <a:off x="7045920" y="3047040"/>
                <a:ext cx="360" cy="21600"/>
              </a:xfrm>
              <a:prstGeom prst="line">
                <a:avLst/>
              </a:prstGeom>
              <a:ln w="936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Line 317"/>
              <p:cNvSpPr/>
              <p:nvPr/>
            </p:nvSpPr>
            <p:spPr>
              <a:xfrm flipV="1">
                <a:off x="7044840" y="2955960"/>
                <a:ext cx="360" cy="90360"/>
              </a:xfrm>
              <a:prstGeom prst="line">
                <a:avLst/>
              </a:prstGeom>
              <a:ln w="936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Line 318"/>
              <p:cNvSpPr/>
              <p:nvPr/>
            </p:nvSpPr>
            <p:spPr>
              <a:xfrm>
                <a:off x="7044840" y="3057120"/>
                <a:ext cx="360" cy="437040"/>
              </a:xfrm>
              <a:prstGeom prst="line">
                <a:avLst/>
              </a:prstGeom>
              <a:ln w="936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Line 319"/>
              <p:cNvSpPr/>
              <p:nvPr/>
            </p:nvSpPr>
            <p:spPr>
              <a:xfrm flipV="1">
                <a:off x="6923880" y="2489760"/>
                <a:ext cx="360" cy="415800"/>
              </a:xfrm>
              <a:prstGeom prst="line">
                <a:avLst/>
              </a:prstGeom>
              <a:ln w="936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Line 320"/>
              <p:cNvSpPr/>
              <p:nvPr/>
            </p:nvSpPr>
            <p:spPr>
              <a:xfrm flipV="1">
                <a:off x="6833520" y="2489760"/>
                <a:ext cx="360" cy="109080"/>
              </a:xfrm>
              <a:prstGeom prst="line">
                <a:avLst/>
              </a:prstGeom>
              <a:ln w="936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Line 321"/>
              <p:cNvSpPr/>
              <p:nvPr/>
            </p:nvSpPr>
            <p:spPr>
              <a:xfrm flipH="1">
                <a:off x="6171480" y="2490120"/>
                <a:ext cx="658800" cy="360"/>
              </a:xfrm>
              <a:prstGeom prst="line">
                <a:avLst/>
              </a:prstGeom>
              <a:ln w="936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Line 322"/>
              <p:cNvSpPr/>
              <p:nvPr/>
            </p:nvSpPr>
            <p:spPr>
              <a:xfrm flipV="1">
                <a:off x="6923880" y="2418840"/>
                <a:ext cx="360" cy="94320"/>
              </a:xfrm>
              <a:prstGeom prst="line">
                <a:avLst/>
              </a:prstGeom>
              <a:ln w="936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Line 323"/>
              <p:cNvSpPr/>
              <p:nvPr/>
            </p:nvSpPr>
            <p:spPr>
              <a:xfrm>
                <a:off x="6249240" y="1874520"/>
                <a:ext cx="360" cy="542160"/>
              </a:xfrm>
              <a:prstGeom prst="line">
                <a:avLst/>
              </a:prstGeom>
              <a:ln w="936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Line 324"/>
              <p:cNvSpPr/>
              <p:nvPr/>
            </p:nvSpPr>
            <p:spPr>
              <a:xfrm>
                <a:off x="6253200" y="2415600"/>
                <a:ext cx="671040" cy="360"/>
              </a:xfrm>
              <a:prstGeom prst="line">
                <a:avLst/>
              </a:prstGeom>
              <a:ln w="936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Line 325"/>
              <p:cNvSpPr/>
              <p:nvPr/>
            </p:nvSpPr>
            <p:spPr>
              <a:xfrm>
                <a:off x="6249240" y="2176560"/>
                <a:ext cx="360" cy="64800"/>
              </a:xfrm>
              <a:prstGeom prst="line">
                <a:avLst/>
              </a:prstGeom>
              <a:ln w="936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Freeform 326"/>
              <p:cNvSpPr/>
              <p:nvPr/>
            </p:nvSpPr>
            <p:spPr>
              <a:xfrm>
                <a:off x="6008040" y="1590480"/>
                <a:ext cx="292680" cy="6130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0"/>
                    </a:moveTo>
                    <a:lnTo>
                      <a:pt x="5846" y="0"/>
                    </a:lnTo>
                    <a:lnTo>
                      <a:pt x="5846" y="19982"/>
                    </a:lnTo>
                    <a:lnTo>
                      <a:pt x="19956" y="19982"/>
                    </a:lnTo>
                  </a:path>
                </a:pathLst>
              </a:custGeom>
              <a:noFill/>
              <a:ln w="936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Rectangle 327"/>
              <p:cNvSpPr/>
              <p:nvPr/>
            </p:nvSpPr>
            <p:spPr>
              <a:xfrm>
                <a:off x="5707800" y="3990240"/>
                <a:ext cx="1699560" cy="1802160"/>
              </a:xfrm>
              <a:prstGeom prst="rect">
                <a:avLst/>
              </a:prstGeom>
              <a:noFill/>
              <a:ln w="2556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Freeform 328"/>
              <p:cNvSpPr/>
              <p:nvPr/>
            </p:nvSpPr>
            <p:spPr>
              <a:xfrm>
                <a:off x="5295960" y="5401800"/>
                <a:ext cx="1203840" cy="6375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6831" y="0"/>
                    </a:moveTo>
                    <a:lnTo>
                      <a:pt x="0" y="0"/>
                    </a:lnTo>
                    <a:lnTo>
                      <a:pt x="0" y="19983"/>
                    </a:lnTo>
                    <a:lnTo>
                      <a:pt x="19989" y="19983"/>
                    </a:lnTo>
                    <a:lnTo>
                      <a:pt x="19989" y="12265"/>
                    </a:lnTo>
                  </a:path>
                </a:pathLst>
              </a:custGeom>
              <a:noFill/>
              <a:ln w="2556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" name="Rectangle 329"/>
              <p:cNvSpPr/>
              <p:nvPr/>
            </p:nvSpPr>
            <p:spPr>
              <a:xfrm>
                <a:off x="5295960" y="4693320"/>
                <a:ext cx="412560" cy="703440"/>
              </a:xfrm>
              <a:prstGeom prst="rect">
                <a:avLst/>
              </a:prstGeom>
              <a:noFill/>
              <a:ln w="2556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" name="Rectangle 330"/>
              <p:cNvSpPr/>
              <p:nvPr/>
            </p:nvSpPr>
            <p:spPr>
              <a:xfrm>
                <a:off x="5295960" y="3990240"/>
                <a:ext cx="412560" cy="703440"/>
              </a:xfrm>
              <a:prstGeom prst="rect">
                <a:avLst/>
              </a:prstGeom>
              <a:noFill/>
              <a:ln w="2556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Oval 331"/>
              <p:cNvSpPr/>
              <p:nvPr/>
            </p:nvSpPr>
            <p:spPr>
              <a:xfrm>
                <a:off x="6551280" y="4797720"/>
                <a:ext cx="64800" cy="550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Oval 332"/>
              <p:cNvSpPr/>
              <p:nvPr/>
            </p:nvSpPr>
            <p:spPr>
              <a:xfrm>
                <a:off x="5482800" y="5769720"/>
                <a:ext cx="64800" cy="550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Oval 333"/>
              <p:cNvSpPr/>
              <p:nvPr/>
            </p:nvSpPr>
            <p:spPr>
              <a:xfrm>
                <a:off x="5476320" y="4951440"/>
                <a:ext cx="64800" cy="554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Oval 334"/>
              <p:cNvSpPr/>
              <p:nvPr/>
            </p:nvSpPr>
            <p:spPr>
              <a:xfrm>
                <a:off x="5463360" y="4292280"/>
                <a:ext cx="64800" cy="550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Oval 335"/>
              <p:cNvSpPr/>
              <p:nvPr/>
            </p:nvSpPr>
            <p:spPr>
              <a:xfrm>
                <a:off x="4826160" y="4698720"/>
                <a:ext cx="64800" cy="550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Oval 336"/>
              <p:cNvSpPr/>
              <p:nvPr/>
            </p:nvSpPr>
            <p:spPr>
              <a:xfrm>
                <a:off x="5180040" y="3462840"/>
                <a:ext cx="64800" cy="550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Oval 337"/>
              <p:cNvSpPr/>
              <p:nvPr/>
            </p:nvSpPr>
            <p:spPr>
              <a:xfrm>
                <a:off x="7696800" y="4792320"/>
                <a:ext cx="64800" cy="550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Oval 338"/>
              <p:cNvSpPr/>
              <p:nvPr/>
            </p:nvSpPr>
            <p:spPr>
              <a:xfrm>
                <a:off x="6563880" y="6181920"/>
                <a:ext cx="64800" cy="554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Oval 339"/>
              <p:cNvSpPr/>
              <p:nvPr/>
            </p:nvSpPr>
            <p:spPr>
              <a:xfrm>
                <a:off x="6686280" y="3468240"/>
                <a:ext cx="64800" cy="554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Oval 340"/>
              <p:cNvSpPr/>
              <p:nvPr/>
            </p:nvSpPr>
            <p:spPr>
              <a:xfrm>
                <a:off x="7008120" y="3468240"/>
                <a:ext cx="64800" cy="554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Oval 341"/>
              <p:cNvSpPr/>
              <p:nvPr/>
            </p:nvSpPr>
            <p:spPr>
              <a:xfrm>
                <a:off x="6615360" y="2875320"/>
                <a:ext cx="64800" cy="550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Oval 342"/>
              <p:cNvSpPr/>
              <p:nvPr/>
            </p:nvSpPr>
            <p:spPr>
              <a:xfrm>
                <a:off x="6210000" y="2875320"/>
                <a:ext cx="64800" cy="550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Oval 343"/>
              <p:cNvSpPr/>
              <p:nvPr/>
            </p:nvSpPr>
            <p:spPr>
              <a:xfrm>
                <a:off x="5817240" y="2875320"/>
                <a:ext cx="64800" cy="550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Oval 344"/>
              <p:cNvSpPr/>
              <p:nvPr/>
            </p:nvSpPr>
            <p:spPr>
              <a:xfrm>
                <a:off x="4839120" y="3462840"/>
                <a:ext cx="64800" cy="550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Oval 345"/>
              <p:cNvSpPr/>
              <p:nvPr/>
            </p:nvSpPr>
            <p:spPr>
              <a:xfrm>
                <a:off x="5360400" y="3287160"/>
                <a:ext cx="64800" cy="550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Oval 346"/>
              <p:cNvSpPr/>
              <p:nvPr/>
            </p:nvSpPr>
            <p:spPr>
              <a:xfrm>
                <a:off x="5482800" y="2886120"/>
                <a:ext cx="64800" cy="550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Oval 347"/>
              <p:cNvSpPr/>
              <p:nvPr/>
            </p:nvSpPr>
            <p:spPr>
              <a:xfrm>
                <a:off x="6802200" y="2727000"/>
                <a:ext cx="64800" cy="550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Oval 348"/>
              <p:cNvSpPr/>
              <p:nvPr/>
            </p:nvSpPr>
            <p:spPr>
              <a:xfrm>
                <a:off x="6802200" y="2518200"/>
                <a:ext cx="64800" cy="554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Line 349"/>
              <p:cNvSpPr/>
              <p:nvPr/>
            </p:nvSpPr>
            <p:spPr>
              <a:xfrm>
                <a:off x="5527800" y="4325400"/>
                <a:ext cx="1023840" cy="483840"/>
              </a:xfrm>
              <a:prstGeom prst="line">
                <a:avLst/>
              </a:prstGeom>
              <a:ln w="6480">
                <a:solidFill>
                  <a:srgbClr val="000000"/>
                </a:solidFill>
                <a:prstDash val="sys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Line 350"/>
              <p:cNvSpPr/>
              <p:nvPr/>
            </p:nvSpPr>
            <p:spPr>
              <a:xfrm flipH="1">
                <a:off x="5534280" y="4836240"/>
                <a:ext cx="1017360" cy="137880"/>
              </a:xfrm>
              <a:prstGeom prst="line">
                <a:avLst/>
              </a:prstGeom>
              <a:ln w="6480">
                <a:solidFill>
                  <a:srgbClr val="000000"/>
                </a:solidFill>
                <a:prstDash val="sys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Line 351"/>
              <p:cNvSpPr/>
              <p:nvPr/>
            </p:nvSpPr>
            <p:spPr>
              <a:xfrm>
                <a:off x="6583320" y="4847040"/>
                <a:ext cx="6840" cy="1329480"/>
              </a:xfrm>
              <a:prstGeom prst="line">
                <a:avLst/>
              </a:prstGeom>
              <a:ln w="6480">
                <a:solidFill>
                  <a:srgbClr val="000000"/>
                </a:solidFill>
                <a:prstDash val="sys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Line 352"/>
              <p:cNvSpPr/>
              <p:nvPr/>
            </p:nvSpPr>
            <p:spPr>
              <a:xfrm flipH="1">
                <a:off x="5534280" y="4847040"/>
                <a:ext cx="1023840" cy="928440"/>
              </a:xfrm>
              <a:prstGeom prst="line">
                <a:avLst/>
              </a:prstGeom>
              <a:ln w="648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Line 353"/>
              <p:cNvSpPr/>
              <p:nvPr/>
            </p:nvSpPr>
            <p:spPr>
              <a:xfrm>
                <a:off x="4884120" y="4731840"/>
                <a:ext cx="586080" cy="253080"/>
              </a:xfrm>
              <a:prstGeom prst="line">
                <a:avLst/>
              </a:prstGeom>
              <a:ln w="6480">
                <a:solidFill>
                  <a:srgbClr val="000000"/>
                </a:solidFill>
                <a:prstDash val="sys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Line 354"/>
              <p:cNvSpPr/>
              <p:nvPr/>
            </p:nvSpPr>
            <p:spPr>
              <a:xfrm flipH="1">
                <a:off x="4870800" y="4330800"/>
                <a:ext cx="586440" cy="368280"/>
              </a:xfrm>
              <a:prstGeom prst="line">
                <a:avLst/>
              </a:prstGeom>
              <a:ln w="6480">
                <a:solidFill>
                  <a:srgbClr val="000000"/>
                </a:solidFill>
                <a:prstDash val="sys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Line 355"/>
              <p:cNvSpPr/>
              <p:nvPr/>
            </p:nvSpPr>
            <p:spPr>
              <a:xfrm>
                <a:off x="6608880" y="4814280"/>
                <a:ext cx="1075320" cy="5760"/>
              </a:xfrm>
              <a:prstGeom prst="line">
                <a:avLst/>
              </a:prstGeom>
              <a:ln w="6480">
                <a:solidFill>
                  <a:srgbClr val="000000"/>
                </a:solidFill>
                <a:prstDash val="sys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Oval 356"/>
              <p:cNvSpPr/>
              <p:nvPr/>
            </p:nvSpPr>
            <p:spPr>
              <a:xfrm>
                <a:off x="6505920" y="3792600"/>
                <a:ext cx="64800" cy="550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Line 357"/>
              <p:cNvSpPr/>
              <p:nvPr/>
            </p:nvSpPr>
            <p:spPr>
              <a:xfrm flipV="1">
                <a:off x="5508360" y="3825360"/>
                <a:ext cx="998280" cy="467280"/>
              </a:xfrm>
              <a:prstGeom prst="line">
                <a:avLst/>
              </a:prstGeom>
              <a:ln w="6480">
                <a:solidFill>
                  <a:srgbClr val="000000"/>
                </a:solidFill>
                <a:prstDash val="sys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Line 358"/>
              <p:cNvSpPr/>
              <p:nvPr/>
            </p:nvSpPr>
            <p:spPr>
              <a:xfrm flipH="1" flipV="1">
                <a:off x="6538320" y="3846960"/>
                <a:ext cx="45360" cy="945000"/>
              </a:xfrm>
              <a:prstGeom prst="line">
                <a:avLst/>
              </a:prstGeom>
              <a:ln w="6480">
                <a:solidFill>
                  <a:srgbClr val="000000"/>
                </a:solidFill>
                <a:prstDash val="sys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Line 359"/>
              <p:cNvSpPr/>
              <p:nvPr/>
            </p:nvSpPr>
            <p:spPr>
              <a:xfrm>
                <a:off x="4852080" y="4753800"/>
                <a:ext cx="631080" cy="1022040"/>
              </a:xfrm>
              <a:prstGeom prst="line">
                <a:avLst/>
              </a:prstGeom>
              <a:ln w="6480">
                <a:solidFill>
                  <a:srgbClr val="000000"/>
                </a:solidFill>
                <a:prstDash val="sys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Oval 360"/>
              <p:cNvSpPr/>
              <p:nvPr/>
            </p:nvSpPr>
            <p:spPr>
              <a:xfrm>
                <a:off x="6686280" y="2226960"/>
                <a:ext cx="64800" cy="554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Oval 361"/>
              <p:cNvSpPr/>
              <p:nvPr/>
            </p:nvSpPr>
            <p:spPr>
              <a:xfrm>
                <a:off x="6293520" y="2166480"/>
                <a:ext cx="64800" cy="550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Oval 362"/>
              <p:cNvSpPr/>
              <p:nvPr/>
            </p:nvSpPr>
            <p:spPr>
              <a:xfrm>
                <a:off x="6544800" y="1479960"/>
                <a:ext cx="64800" cy="550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Oval 363"/>
              <p:cNvSpPr/>
              <p:nvPr/>
            </p:nvSpPr>
            <p:spPr>
              <a:xfrm>
                <a:off x="6950160" y="1430640"/>
                <a:ext cx="64800" cy="550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Oval 364"/>
              <p:cNvSpPr/>
              <p:nvPr/>
            </p:nvSpPr>
            <p:spPr>
              <a:xfrm>
                <a:off x="5514840" y="1485360"/>
                <a:ext cx="64800" cy="550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Oval 365"/>
              <p:cNvSpPr/>
              <p:nvPr/>
            </p:nvSpPr>
            <p:spPr>
              <a:xfrm>
                <a:off x="5920200" y="1485360"/>
                <a:ext cx="64800" cy="550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Oval 366"/>
              <p:cNvSpPr/>
              <p:nvPr/>
            </p:nvSpPr>
            <p:spPr>
              <a:xfrm>
                <a:off x="5913720" y="1557000"/>
                <a:ext cx="64800" cy="554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Oval 367"/>
              <p:cNvSpPr/>
              <p:nvPr/>
            </p:nvSpPr>
            <p:spPr>
              <a:xfrm>
                <a:off x="5514840" y="1557000"/>
                <a:ext cx="64800" cy="554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Oval 368"/>
              <p:cNvSpPr/>
              <p:nvPr/>
            </p:nvSpPr>
            <p:spPr>
              <a:xfrm>
                <a:off x="6132960" y="1831680"/>
                <a:ext cx="64800" cy="554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Oval 369"/>
              <p:cNvSpPr/>
              <p:nvPr/>
            </p:nvSpPr>
            <p:spPr>
              <a:xfrm>
                <a:off x="6216480" y="1738080"/>
                <a:ext cx="64800" cy="554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Oval 370"/>
              <p:cNvSpPr/>
              <p:nvPr/>
            </p:nvSpPr>
            <p:spPr>
              <a:xfrm>
                <a:off x="6126120" y="1666800"/>
                <a:ext cx="64800" cy="554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Oval 371"/>
              <p:cNvSpPr/>
              <p:nvPr/>
            </p:nvSpPr>
            <p:spPr>
              <a:xfrm>
                <a:off x="7014600" y="2985120"/>
                <a:ext cx="64800" cy="550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Oval 372"/>
              <p:cNvSpPr/>
              <p:nvPr/>
            </p:nvSpPr>
            <p:spPr>
              <a:xfrm>
                <a:off x="7123680" y="2875320"/>
                <a:ext cx="64800" cy="550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Oval 373"/>
              <p:cNvSpPr/>
              <p:nvPr/>
            </p:nvSpPr>
            <p:spPr>
              <a:xfrm>
                <a:off x="7542360" y="3297960"/>
                <a:ext cx="64800" cy="550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Oval 374"/>
              <p:cNvSpPr/>
              <p:nvPr/>
            </p:nvSpPr>
            <p:spPr>
              <a:xfrm>
                <a:off x="7773840" y="3297960"/>
                <a:ext cx="64800" cy="550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Line 375"/>
              <p:cNvSpPr/>
              <p:nvPr/>
            </p:nvSpPr>
            <p:spPr>
              <a:xfrm>
                <a:off x="7137000" y="2106360"/>
                <a:ext cx="322200" cy="360"/>
              </a:xfrm>
              <a:prstGeom prst="line">
                <a:avLst/>
              </a:prstGeom>
              <a:ln w="936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Line 376"/>
              <p:cNvSpPr/>
              <p:nvPr/>
            </p:nvSpPr>
            <p:spPr>
              <a:xfrm>
                <a:off x="7304040" y="1573560"/>
                <a:ext cx="187200" cy="360"/>
              </a:xfrm>
              <a:prstGeom prst="line">
                <a:avLst/>
              </a:prstGeom>
              <a:ln w="936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Freeform 377"/>
              <p:cNvSpPr/>
              <p:nvPr/>
            </p:nvSpPr>
            <p:spPr>
              <a:xfrm>
                <a:off x="5849640" y="2924640"/>
                <a:ext cx="837000" cy="5716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0"/>
                    </a:moveTo>
                    <a:lnTo>
                      <a:pt x="0" y="19981"/>
                    </a:lnTo>
                    <a:lnTo>
                      <a:pt x="19985" y="19789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Freeform 378"/>
              <p:cNvSpPr/>
              <p:nvPr/>
            </p:nvSpPr>
            <p:spPr>
              <a:xfrm>
                <a:off x="6242040" y="2924640"/>
                <a:ext cx="720" cy="5662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0"/>
                    </a:moveTo>
                    <a:lnTo>
                      <a:pt x="0" y="19981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Freeform 379"/>
              <p:cNvSpPr/>
              <p:nvPr/>
            </p:nvSpPr>
            <p:spPr>
              <a:xfrm>
                <a:off x="6641280" y="2924640"/>
                <a:ext cx="720" cy="5716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0"/>
                    </a:moveTo>
                    <a:lnTo>
                      <a:pt x="0" y="19981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Freeform 380"/>
              <p:cNvSpPr/>
              <p:nvPr/>
            </p:nvSpPr>
            <p:spPr>
              <a:xfrm>
                <a:off x="5398920" y="2941200"/>
                <a:ext cx="109800" cy="5277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883" y="0"/>
                    </a:moveTo>
                    <a:lnTo>
                      <a:pt x="19883" y="19979"/>
                    </a:lnTo>
                    <a:lnTo>
                      <a:pt x="1170" y="19979"/>
                    </a:lnTo>
                    <a:lnTo>
                      <a:pt x="0" y="14984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Freeform 381"/>
              <p:cNvSpPr/>
              <p:nvPr/>
            </p:nvSpPr>
            <p:spPr>
              <a:xfrm>
                <a:off x="4800240" y="3309120"/>
                <a:ext cx="547560" cy="1818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76" y="0"/>
                    </a:moveTo>
                    <a:lnTo>
                      <a:pt x="0" y="0"/>
                    </a:lnTo>
                    <a:lnTo>
                      <a:pt x="0" y="19335"/>
                    </a:lnTo>
                    <a:lnTo>
                      <a:pt x="1175" y="1994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Line 382"/>
              <p:cNvSpPr/>
              <p:nvPr/>
            </p:nvSpPr>
            <p:spPr>
              <a:xfrm>
                <a:off x="4903560" y="3490560"/>
                <a:ext cx="264240" cy="360"/>
              </a:xfrm>
              <a:prstGeom prst="line">
                <a:avLst/>
              </a:prstGeom>
              <a:ln w="648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Line 383"/>
              <p:cNvSpPr/>
              <p:nvPr/>
            </p:nvSpPr>
            <p:spPr>
              <a:xfrm>
                <a:off x="5244480" y="3495960"/>
                <a:ext cx="605520" cy="360"/>
              </a:xfrm>
              <a:prstGeom prst="line">
                <a:avLst/>
              </a:prstGeom>
              <a:ln w="648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Freeform 384"/>
              <p:cNvSpPr/>
              <p:nvPr/>
            </p:nvSpPr>
            <p:spPr>
              <a:xfrm>
                <a:off x="7419960" y="3034440"/>
                <a:ext cx="579600" cy="2970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3774" y="19963"/>
                    </a:moveTo>
                    <a:lnTo>
                      <a:pt x="0" y="19963"/>
                    </a:lnTo>
                    <a:lnTo>
                      <a:pt x="0" y="0"/>
                    </a:lnTo>
                    <a:lnTo>
                      <a:pt x="19978" y="0"/>
                    </a:lnTo>
                    <a:lnTo>
                      <a:pt x="19978" y="19593"/>
                    </a:lnTo>
                    <a:lnTo>
                      <a:pt x="14428" y="19593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Freeform 385"/>
              <p:cNvSpPr/>
              <p:nvPr/>
            </p:nvSpPr>
            <p:spPr>
              <a:xfrm>
                <a:off x="7040160" y="2902680"/>
                <a:ext cx="232200" cy="5936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2742" y="0"/>
                    </a:moveTo>
                    <a:lnTo>
                      <a:pt x="19945" y="0"/>
                    </a:lnTo>
                    <a:lnTo>
                      <a:pt x="19945" y="19981"/>
                    </a:lnTo>
                    <a:lnTo>
                      <a:pt x="0" y="19981"/>
                    </a:lnTo>
                    <a:lnTo>
                      <a:pt x="0" y="444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Line 386"/>
              <p:cNvSpPr/>
              <p:nvPr/>
            </p:nvSpPr>
            <p:spPr>
              <a:xfrm>
                <a:off x="5875200" y="2908080"/>
                <a:ext cx="322200" cy="360"/>
              </a:xfrm>
              <a:prstGeom prst="line">
                <a:avLst/>
              </a:prstGeom>
              <a:ln w="648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Line 387"/>
              <p:cNvSpPr/>
              <p:nvPr/>
            </p:nvSpPr>
            <p:spPr>
              <a:xfrm>
                <a:off x="6293520" y="2908080"/>
                <a:ext cx="322200" cy="360"/>
              </a:xfrm>
              <a:prstGeom prst="line">
                <a:avLst/>
              </a:prstGeom>
              <a:ln w="648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Line 388"/>
              <p:cNvSpPr/>
              <p:nvPr/>
            </p:nvSpPr>
            <p:spPr>
              <a:xfrm>
                <a:off x="6673320" y="2908080"/>
                <a:ext cx="225720" cy="360"/>
              </a:xfrm>
              <a:prstGeom prst="line">
                <a:avLst/>
              </a:prstGeom>
              <a:ln w="648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Line 389"/>
              <p:cNvSpPr/>
              <p:nvPr/>
            </p:nvSpPr>
            <p:spPr>
              <a:xfrm>
                <a:off x="6834240" y="2787480"/>
                <a:ext cx="6840" cy="115920"/>
              </a:xfrm>
              <a:prstGeom prst="line">
                <a:avLst/>
              </a:prstGeom>
              <a:ln w="648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Line 390"/>
              <p:cNvSpPr/>
              <p:nvPr/>
            </p:nvSpPr>
            <p:spPr>
              <a:xfrm>
                <a:off x="6950160" y="2908080"/>
                <a:ext cx="174240" cy="360"/>
              </a:xfrm>
              <a:prstGeom prst="line">
                <a:avLst/>
              </a:prstGeom>
              <a:ln w="648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Line 391"/>
              <p:cNvSpPr/>
              <p:nvPr/>
            </p:nvSpPr>
            <p:spPr>
              <a:xfrm>
                <a:off x="4877640" y="1518480"/>
                <a:ext cx="631080" cy="360"/>
              </a:xfrm>
              <a:prstGeom prst="line">
                <a:avLst/>
              </a:prstGeom>
              <a:ln w="6480">
                <a:solidFill>
                  <a:srgbClr val="000000"/>
                </a:solidFill>
                <a:prstDash val="sys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Line 392"/>
              <p:cNvSpPr/>
              <p:nvPr/>
            </p:nvSpPr>
            <p:spPr>
              <a:xfrm>
                <a:off x="4877640" y="1589760"/>
                <a:ext cx="631080" cy="360"/>
              </a:xfrm>
              <a:prstGeom prst="line">
                <a:avLst/>
              </a:prstGeom>
              <a:ln w="6480">
                <a:solidFill>
                  <a:srgbClr val="000000"/>
                </a:solidFill>
                <a:prstDash val="sys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Line 393"/>
              <p:cNvSpPr/>
              <p:nvPr/>
            </p:nvSpPr>
            <p:spPr>
              <a:xfrm>
                <a:off x="5579280" y="1584360"/>
                <a:ext cx="328680" cy="360"/>
              </a:xfrm>
              <a:prstGeom prst="line">
                <a:avLst/>
              </a:prstGeom>
              <a:ln w="6480">
                <a:solidFill>
                  <a:srgbClr val="000000"/>
                </a:solidFill>
                <a:prstDash val="sys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Line 394"/>
              <p:cNvSpPr/>
              <p:nvPr/>
            </p:nvSpPr>
            <p:spPr>
              <a:xfrm>
                <a:off x="5585760" y="1518480"/>
                <a:ext cx="328680" cy="360"/>
              </a:xfrm>
              <a:prstGeom prst="line">
                <a:avLst/>
              </a:prstGeom>
              <a:ln w="6480">
                <a:solidFill>
                  <a:srgbClr val="000000"/>
                </a:solidFill>
                <a:prstDash val="sys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Freeform 395"/>
              <p:cNvSpPr/>
              <p:nvPr/>
            </p:nvSpPr>
            <p:spPr>
              <a:xfrm>
                <a:off x="6158520" y="1408680"/>
                <a:ext cx="84240" cy="2530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19957"/>
                    </a:moveTo>
                    <a:lnTo>
                      <a:pt x="0" y="0"/>
                    </a:lnTo>
                    <a:lnTo>
                      <a:pt x="19847" y="0"/>
                    </a:lnTo>
                    <a:lnTo>
                      <a:pt x="19847" y="19523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Freeform 396"/>
              <p:cNvSpPr/>
              <p:nvPr/>
            </p:nvSpPr>
            <p:spPr>
              <a:xfrm>
                <a:off x="6242040" y="1661400"/>
                <a:ext cx="720" cy="662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0"/>
                    </a:moveTo>
                    <a:lnTo>
                      <a:pt x="0" y="19835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Freeform 397"/>
              <p:cNvSpPr/>
              <p:nvPr/>
            </p:nvSpPr>
            <p:spPr>
              <a:xfrm>
                <a:off x="6248520" y="1798560"/>
                <a:ext cx="676440" cy="10713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0"/>
                    </a:moveTo>
                    <a:lnTo>
                      <a:pt x="0" y="11481"/>
                    </a:lnTo>
                    <a:lnTo>
                      <a:pt x="19981" y="11481"/>
                    </a:lnTo>
                    <a:lnTo>
                      <a:pt x="19791" y="1999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Freeform 398"/>
              <p:cNvSpPr/>
              <p:nvPr/>
            </p:nvSpPr>
            <p:spPr>
              <a:xfrm>
                <a:off x="6165000" y="1891800"/>
                <a:ext cx="669960" cy="6156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0"/>
                    </a:moveTo>
                    <a:lnTo>
                      <a:pt x="0" y="19269"/>
                    </a:lnTo>
                    <a:lnTo>
                      <a:pt x="19981" y="19447"/>
                    </a:lnTo>
                    <a:lnTo>
                      <a:pt x="19981" y="19982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Line 399"/>
              <p:cNvSpPr/>
              <p:nvPr/>
            </p:nvSpPr>
            <p:spPr>
              <a:xfrm>
                <a:off x="5978160" y="1513080"/>
                <a:ext cx="560520" cy="360"/>
              </a:xfrm>
              <a:prstGeom prst="line">
                <a:avLst/>
              </a:prstGeom>
              <a:ln w="6480">
                <a:solidFill>
                  <a:srgbClr val="000000"/>
                </a:solidFill>
                <a:prstDash val="sys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Freeform 400"/>
              <p:cNvSpPr/>
              <p:nvPr/>
            </p:nvSpPr>
            <p:spPr>
              <a:xfrm>
                <a:off x="4131000" y="1518480"/>
                <a:ext cx="740520" cy="32079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8593" y="19997"/>
                    </a:moveTo>
                    <a:lnTo>
                      <a:pt x="0" y="19997"/>
                    </a:lnTo>
                    <a:lnTo>
                      <a:pt x="174" y="0"/>
                    </a:lnTo>
                    <a:lnTo>
                      <a:pt x="19983" y="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prstDash val="sysDash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Freeform 401"/>
              <p:cNvSpPr/>
              <p:nvPr/>
            </p:nvSpPr>
            <p:spPr>
              <a:xfrm>
                <a:off x="4298400" y="1589760"/>
                <a:ext cx="579600" cy="311472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8202" y="19996"/>
                    </a:moveTo>
                    <a:lnTo>
                      <a:pt x="0" y="15306"/>
                    </a:lnTo>
                    <a:lnTo>
                      <a:pt x="0" y="0"/>
                    </a:lnTo>
                    <a:lnTo>
                      <a:pt x="19978" y="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prstDash val="sysDash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Freeform 402"/>
              <p:cNvSpPr/>
              <p:nvPr/>
            </p:nvSpPr>
            <p:spPr>
              <a:xfrm>
                <a:off x="5521320" y="4314240"/>
                <a:ext cx="2124360" cy="3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0"/>
                    </a:moveTo>
                    <a:lnTo>
                      <a:pt x="19994" y="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prstDash val="sysDash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Freeform 403"/>
              <p:cNvSpPr/>
              <p:nvPr/>
            </p:nvSpPr>
            <p:spPr>
              <a:xfrm>
                <a:off x="6602760" y="4588920"/>
                <a:ext cx="1030320" cy="2145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19949"/>
                    </a:moveTo>
                    <a:lnTo>
                      <a:pt x="7121" y="0"/>
                    </a:lnTo>
                    <a:lnTo>
                      <a:pt x="19988" y="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prstDash val="sysDash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Freeform 404"/>
              <p:cNvSpPr/>
              <p:nvPr/>
            </p:nvSpPr>
            <p:spPr>
              <a:xfrm>
                <a:off x="5527800" y="5000760"/>
                <a:ext cx="2040840" cy="2750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0"/>
                    </a:moveTo>
                    <a:lnTo>
                      <a:pt x="8641" y="19960"/>
                    </a:lnTo>
                    <a:lnTo>
                      <a:pt x="19994" y="1996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prstDash val="sysDash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Freeform 405"/>
              <p:cNvSpPr/>
              <p:nvPr/>
            </p:nvSpPr>
            <p:spPr>
              <a:xfrm>
                <a:off x="5534280" y="5401800"/>
                <a:ext cx="2105280" cy="4122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19973"/>
                    </a:moveTo>
                    <a:lnTo>
                      <a:pt x="8254" y="0"/>
                    </a:lnTo>
                    <a:lnTo>
                      <a:pt x="19994" y="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prstDash val="sysDash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Freeform 406"/>
              <p:cNvSpPr/>
              <p:nvPr/>
            </p:nvSpPr>
            <p:spPr>
              <a:xfrm>
                <a:off x="7638840" y="4165920"/>
                <a:ext cx="264600" cy="1486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19926"/>
                    </a:moveTo>
                    <a:lnTo>
                      <a:pt x="19951" y="19926"/>
                    </a:lnTo>
                    <a:lnTo>
                      <a:pt x="19951" y="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prstDash val="sysDash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Freeform 407"/>
              <p:cNvSpPr/>
              <p:nvPr/>
            </p:nvSpPr>
            <p:spPr>
              <a:xfrm>
                <a:off x="7619400" y="4177080"/>
                <a:ext cx="367200" cy="4122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19973"/>
                    </a:moveTo>
                    <a:lnTo>
                      <a:pt x="19965" y="19707"/>
                    </a:lnTo>
                    <a:lnTo>
                      <a:pt x="19965" y="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prstDash val="sysDash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Freeform 408"/>
              <p:cNvSpPr/>
              <p:nvPr/>
            </p:nvSpPr>
            <p:spPr>
              <a:xfrm>
                <a:off x="7554960" y="4177080"/>
                <a:ext cx="534600" cy="10990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19990"/>
                    </a:moveTo>
                    <a:lnTo>
                      <a:pt x="19976" y="19990"/>
                    </a:lnTo>
                    <a:lnTo>
                      <a:pt x="19976" y="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prstDash val="sysDash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Freeform 409"/>
              <p:cNvSpPr/>
              <p:nvPr/>
            </p:nvSpPr>
            <p:spPr>
              <a:xfrm>
                <a:off x="7619400" y="4177080"/>
                <a:ext cx="567000" cy="12250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19991"/>
                    </a:moveTo>
                    <a:lnTo>
                      <a:pt x="19977" y="19991"/>
                    </a:lnTo>
                    <a:lnTo>
                      <a:pt x="19977" y="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prstDash val="sysDash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Rectangle 410"/>
              <p:cNvSpPr/>
              <p:nvPr/>
            </p:nvSpPr>
            <p:spPr>
              <a:xfrm>
                <a:off x="7815960" y="3853080"/>
                <a:ext cx="644040" cy="4179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spcAft>
                    <a:spcPts val="300"/>
                  </a:spcAft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GB" sz="800" spc="-1" strike="noStrike">
                    <a:solidFill>
                      <a:srgbClr val="000000"/>
                    </a:solidFill>
                    <a:latin typeface="Courier New"/>
                  </a:rPr>
                  <a:t>from supply fan</a:t>
                </a:r>
                <a:endParaRPr b="1" lang="en-US" sz="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Freeform 411"/>
              <p:cNvSpPr/>
              <p:nvPr/>
            </p:nvSpPr>
            <p:spPr>
              <a:xfrm>
                <a:off x="5489280" y="4347360"/>
                <a:ext cx="3160440" cy="17690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0"/>
                    </a:moveTo>
                    <a:lnTo>
                      <a:pt x="11607" y="19994"/>
                    </a:lnTo>
                    <a:lnTo>
                      <a:pt x="19996" y="19994"/>
                    </a:lnTo>
                    <a:lnTo>
                      <a:pt x="19996" y="15461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prstDash val="sysDash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Freeform 412"/>
              <p:cNvSpPr/>
              <p:nvPr/>
            </p:nvSpPr>
            <p:spPr>
              <a:xfrm>
                <a:off x="5501880" y="5006160"/>
                <a:ext cx="3231360" cy="12474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0"/>
                    </a:moveTo>
                    <a:lnTo>
                      <a:pt x="11392" y="19991"/>
                    </a:lnTo>
                    <a:lnTo>
                      <a:pt x="19996" y="19991"/>
                    </a:lnTo>
                    <a:lnTo>
                      <a:pt x="19996" y="11449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prstDash val="sysDash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Freeform 413"/>
              <p:cNvSpPr/>
              <p:nvPr/>
            </p:nvSpPr>
            <p:spPr>
              <a:xfrm>
                <a:off x="5527800" y="5742360"/>
                <a:ext cx="3308760" cy="5882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2614"/>
                    </a:moveTo>
                    <a:lnTo>
                      <a:pt x="11126" y="19981"/>
                    </a:lnTo>
                    <a:lnTo>
                      <a:pt x="19996" y="19981"/>
                    </a:lnTo>
                    <a:lnTo>
                      <a:pt x="19996" y="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prstDash val="sysDash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Freeform 414"/>
              <p:cNvSpPr/>
              <p:nvPr/>
            </p:nvSpPr>
            <p:spPr>
              <a:xfrm>
                <a:off x="6602760" y="4836240"/>
                <a:ext cx="1956960" cy="12250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66" y="0"/>
                    </a:moveTo>
                    <a:lnTo>
                      <a:pt x="0" y="179"/>
                    </a:lnTo>
                    <a:lnTo>
                      <a:pt x="0" y="269"/>
                    </a:lnTo>
                    <a:lnTo>
                      <a:pt x="66" y="359"/>
                    </a:lnTo>
                    <a:lnTo>
                      <a:pt x="17100" y="19991"/>
                    </a:lnTo>
                    <a:lnTo>
                      <a:pt x="19993" y="19991"/>
                    </a:lnTo>
                    <a:lnTo>
                      <a:pt x="19993" y="14971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prstDash val="sysDash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Rectangle 415"/>
              <p:cNvSpPr/>
              <p:nvPr/>
            </p:nvSpPr>
            <p:spPr>
              <a:xfrm>
                <a:off x="8346960" y="5492520"/>
                <a:ext cx="644040" cy="4179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spcAft>
                    <a:spcPts val="300"/>
                  </a:spcAft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GB" sz="800" spc="-1" strike="noStrike">
                    <a:solidFill>
                      <a:srgbClr val="000000"/>
                    </a:solidFill>
                    <a:latin typeface="Courier New"/>
                  </a:rPr>
                  <a:t>to extract fan</a:t>
                </a:r>
                <a:endParaRPr b="1" lang="en-US" sz="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Line 416"/>
              <p:cNvSpPr/>
              <p:nvPr/>
            </p:nvSpPr>
            <p:spPr>
              <a:xfrm>
                <a:off x="7130520" y="1958040"/>
                <a:ext cx="618120" cy="360"/>
              </a:xfrm>
              <a:prstGeom prst="line">
                <a:avLst/>
              </a:prstGeom>
              <a:ln w="6480">
                <a:solidFill>
                  <a:srgbClr val="000000"/>
                </a:solidFill>
                <a:prstDash val="sys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Line 417"/>
              <p:cNvSpPr/>
              <p:nvPr/>
            </p:nvSpPr>
            <p:spPr>
              <a:xfrm>
                <a:off x="7123680" y="2106360"/>
                <a:ext cx="624960" cy="360"/>
              </a:xfrm>
              <a:prstGeom prst="line">
                <a:avLst/>
              </a:prstGeom>
              <a:ln w="6480">
                <a:solidFill>
                  <a:srgbClr val="000000"/>
                </a:solidFill>
                <a:prstDash val="sys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Line 418"/>
              <p:cNvSpPr/>
              <p:nvPr/>
            </p:nvSpPr>
            <p:spPr>
              <a:xfrm>
                <a:off x="7130520" y="2254680"/>
                <a:ext cx="618120" cy="360"/>
              </a:xfrm>
              <a:prstGeom prst="line">
                <a:avLst/>
              </a:prstGeom>
              <a:ln w="6480">
                <a:solidFill>
                  <a:srgbClr val="000000"/>
                </a:solidFill>
                <a:prstDash val="sys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Line 419"/>
              <p:cNvSpPr/>
              <p:nvPr/>
            </p:nvSpPr>
            <p:spPr>
              <a:xfrm flipV="1">
                <a:off x="7137000" y="2457720"/>
                <a:ext cx="618120" cy="5760"/>
              </a:xfrm>
              <a:prstGeom prst="line">
                <a:avLst/>
              </a:prstGeom>
              <a:ln w="6480">
                <a:solidFill>
                  <a:srgbClr val="000000"/>
                </a:solidFill>
                <a:prstDash val="sys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Rectangle 420"/>
              <p:cNvSpPr/>
              <p:nvPr/>
            </p:nvSpPr>
            <p:spPr>
              <a:xfrm>
                <a:off x="7806240" y="1392120"/>
                <a:ext cx="644040" cy="22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spcAft>
                    <a:spcPts val="300"/>
                  </a:spcAft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GB" sz="800" spc="-1" strike="noStrike">
                    <a:solidFill>
                      <a:srgbClr val="000000"/>
                    </a:solidFill>
                    <a:latin typeface="Courier New"/>
                  </a:rPr>
                  <a:t>to zones</a:t>
                </a:r>
                <a:endParaRPr b="1" lang="en-US" sz="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Rectangle 421"/>
              <p:cNvSpPr/>
              <p:nvPr/>
            </p:nvSpPr>
            <p:spPr>
              <a:xfrm>
                <a:off x="7786800" y="2100600"/>
                <a:ext cx="644040" cy="327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spcAft>
                    <a:spcPts val="300"/>
                  </a:spcAft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GB" sz="800" spc="-1" strike="noStrike">
                    <a:solidFill>
                      <a:srgbClr val="000000"/>
                    </a:solidFill>
                    <a:latin typeface="Courier New"/>
                  </a:rPr>
                  <a:t>from zones</a:t>
                </a:r>
                <a:endParaRPr b="1" lang="en-US" sz="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Line 422"/>
              <p:cNvSpPr/>
              <p:nvPr/>
            </p:nvSpPr>
            <p:spPr>
              <a:xfrm flipV="1">
                <a:off x="5785200" y="2210400"/>
                <a:ext cx="515160" cy="280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Rectangle 423"/>
              <p:cNvSpPr/>
              <p:nvPr/>
            </p:nvSpPr>
            <p:spPr>
              <a:xfrm>
                <a:off x="5128560" y="2391840"/>
                <a:ext cx="644040" cy="42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spcAft>
                    <a:spcPts val="300"/>
                  </a:spcAft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GB" sz="800" spc="-1" strike="noStrike">
                    <a:solidFill>
                      <a:srgbClr val="000000"/>
                    </a:solidFill>
                    <a:latin typeface="Courier New"/>
                  </a:rPr>
                  <a:t>fluid flow node</a:t>
                </a:r>
                <a:endParaRPr b="1" lang="en-US" sz="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Rectangle 424"/>
              <p:cNvSpPr/>
              <p:nvPr/>
            </p:nvSpPr>
            <p:spPr>
              <a:xfrm>
                <a:off x="4433760" y="1985400"/>
                <a:ext cx="1049400" cy="40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spcAft>
                    <a:spcPts val="300"/>
                  </a:spcAft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GB" sz="800" spc="-1" strike="noStrike">
                    <a:solidFill>
                      <a:srgbClr val="000000"/>
                    </a:solidFill>
                    <a:latin typeface="Courier New"/>
                  </a:rPr>
                  <a:t>air flow connection</a:t>
                </a:r>
                <a:endParaRPr b="1" lang="en-US" sz="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Line 425"/>
              <p:cNvSpPr/>
              <p:nvPr/>
            </p:nvSpPr>
            <p:spPr>
              <a:xfrm flipH="1" flipV="1">
                <a:off x="4311000" y="1820160"/>
                <a:ext cx="109800" cy="15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Rectangle 426"/>
              <p:cNvSpPr/>
              <p:nvPr/>
            </p:nvSpPr>
            <p:spPr>
              <a:xfrm>
                <a:off x="4060440" y="5275440"/>
                <a:ext cx="1043280" cy="263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spcAft>
                    <a:spcPts val="300"/>
                  </a:spcAft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GB" sz="800" spc="-1" strike="noStrike">
                    <a:solidFill>
                      <a:srgbClr val="000000"/>
                    </a:solidFill>
                    <a:latin typeface="Courier New"/>
                  </a:rPr>
                  <a:t>air flow connection</a:t>
                </a:r>
                <a:endParaRPr b="1" lang="en-US" sz="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Line 427"/>
              <p:cNvSpPr/>
              <p:nvPr/>
            </p:nvSpPr>
            <p:spPr>
              <a:xfrm flipV="1">
                <a:off x="4665240" y="5172480"/>
                <a:ext cx="429840" cy="154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Rectangle 428"/>
              <p:cNvSpPr/>
              <p:nvPr/>
            </p:nvSpPr>
            <p:spPr>
              <a:xfrm>
                <a:off x="5798160" y="2613240"/>
                <a:ext cx="869400" cy="328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spcAft>
                    <a:spcPts val="300"/>
                  </a:spcAft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GB" sz="800" spc="-1" strike="noStrike">
                    <a:solidFill>
                      <a:srgbClr val="000000"/>
                    </a:solidFill>
                    <a:latin typeface="Courier New"/>
                  </a:rPr>
                  <a:t>hot water flow path</a:t>
                </a:r>
                <a:endParaRPr b="1" lang="en-US" sz="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Line 429"/>
              <p:cNvSpPr/>
              <p:nvPr/>
            </p:nvSpPr>
            <p:spPr>
              <a:xfrm flipV="1">
                <a:off x="6501600" y="2514240"/>
                <a:ext cx="146520" cy="118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Freeform 430"/>
              <p:cNvSpPr/>
              <p:nvPr/>
            </p:nvSpPr>
            <p:spPr>
              <a:xfrm>
                <a:off x="5978160" y="1589760"/>
                <a:ext cx="309240" cy="6102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0"/>
                    </a:moveTo>
                    <a:lnTo>
                      <a:pt x="7069" y="0"/>
                    </a:lnTo>
                    <a:lnTo>
                      <a:pt x="7484" y="19982"/>
                    </a:lnTo>
                    <a:lnTo>
                      <a:pt x="19958" y="19982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prstDash val="sysDash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Line 431"/>
              <p:cNvSpPr/>
              <p:nvPr/>
            </p:nvSpPr>
            <p:spPr>
              <a:xfrm>
                <a:off x="7123680" y="1958040"/>
                <a:ext cx="6840" cy="505800"/>
              </a:xfrm>
              <a:prstGeom prst="line">
                <a:avLst/>
              </a:prstGeom>
              <a:ln w="6480">
                <a:solidFill>
                  <a:srgbClr val="000000"/>
                </a:solidFill>
                <a:prstDash val="sys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Line 432"/>
              <p:cNvSpPr/>
              <p:nvPr/>
            </p:nvSpPr>
            <p:spPr>
              <a:xfrm>
                <a:off x="6750720" y="2254680"/>
                <a:ext cx="373680" cy="360"/>
              </a:xfrm>
              <a:prstGeom prst="line">
                <a:avLst/>
              </a:prstGeom>
              <a:ln w="6480">
                <a:solidFill>
                  <a:srgbClr val="000000"/>
                </a:solidFill>
                <a:prstDash val="sys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Freeform 433"/>
              <p:cNvSpPr/>
              <p:nvPr/>
            </p:nvSpPr>
            <p:spPr>
              <a:xfrm>
                <a:off x="7014600" y="1315440"/>
                <a:ext cx="470160" cy="1432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73" y="0"/>
                    </a:moveTo>
                    <a:lnTo>
                      <a:pt x="12038" y="766"/>
                    </a:lnTo>
                    <a:lnTo>
                      <a:pt x="12038" y="19923"/>
                    </a:lnTo>
                    <a:lnTo>
                      <a:pt x="0" y="19923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prstDash val="sysDash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Freeform 434"/>
              <p:cNvSpPr/>
              <p:nvPr/>
            </p:nvSpPr>
            <p:spPr>
              <a:xfrm>
                <a:off x="7297560" y="1458000"/>
                <a:ext cx="193680" cy="2199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0"/>
                    </a:moveTo>
                    <a:lnTo>
                      <a:pt x="0" y="19950"/>
                    </a:lnTo>
                    <a:lnTo>
                      <a:pt x="19934" y="19451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prstDash val="sysDash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Line 435"/>
              <p:cNvSpPr/>
              <p:nvPr/>
            </p:nvSpPr>
            <p:spPr>
              <a:xfrm flipV="1">
                <a:off x="7304040" y="1458000"/>
                <a:ext cx="180720" cy="5760"/>
              </a:xfrm>
              <a:prstGeom prst="line">
                <a:avLst/>
              </a:prstGeom>
              <a:ln w="6480">
                <a:solidFill>
                  <a:srgbClr val="000000"/>
                </a:solidFill>
                <a:prstDash val="sys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Line 436"/>
              <p:cNvSpPr/>
              <p:nvPr/>
            </p:nvSpPr>
            <p:spPr>
              <a:xfrm>
                <a:off x="7304040" y="1567800"/>
                <a:ext cx="180720" cy="5760"/>
              </a:xfrm>
              <a:prstGeom prst="line">
                <a:avLst/>
              </a:prstGeom>
              <a:ln w="6480">
                <a:solidFill>
                  <a:srgbClr val="000000"/>
                </a:solidFill>
                <a:prstDash val="sys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Oval 437"/>
              <p:cNvSpPr/>
              <p:nvPr/>
            </p:nvSpPr>
            <p:spPr>
              <a:xfrm>
                <a:off x="6882480" y="3466080"/>
                <a:ext cx="64800" cy="554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16" name="Rectangle 438"/>
          <p:cNvSpPr/>
          <p:nvPr/>
        </p:nvSpPr>
        <p:spPr>
          <a:xfrm>
            <a:off x="609480" y="1066680"/>
            <a:ext cx="2514600" cy="990720"/>
          </a:xfrm>
          <a:prstGeom prst="rect">
            <a:avLst/>
          </a:prstGeom>
          <a:solidFill>
            <a:srgbClr val="c4feb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ing thermal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mai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Rectangle 439"/>
          <p:cNvSpPr/>
          <p:nvPr/>
        </p:nvSpPr>
        <p:spPr>
          <a:xfrm>
            <a:off x="380880" y="3657600"/>
            <a:ext cx="1371600" cy="68580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i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Rectangle 440"/>
          <p:cNvSpPr/>
          <p:nvPr/>
        </p:nvSpPr>
        <p:spPr>
          <a:xfrm>
            <a:off x="533520" y="5562720"/>
            <a:ext cx="2514600" cy="99036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t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mai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Rectangle 441"/>
          <p:cNvSpPr/>
          <p:nvPr/>
        </p:nvSpPr>
        <p:spPr>
          <a:xfrm>
            <a:off x="1981080" y="3657600"/>
            <a:ext cx="1371600" cy="68580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t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20" name="AutoShape 443"/>
          <p:cNvCxnSpPr>
            <a:stCxn id="319" idx="0"/>
            <a:endCxn id="316" idx="2"/>
          </p:cNvCxnSpPr>
          <p:nvPr/>
        </p:nvCxnSpPr>
        <p:spPr>
          <a:xfrm flipV="1" rot="16200000">
            <a:off x="1466280" y="2456640"/>
            <a:ext cx="1600920" cy="800640"/>
          </a:xfrm>
          <a:prstGeom prst="bentConnector3">
            <a:avLst>
              <a:gd name="adj1" fmla="val 23796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21" name="AutoShape 444"/>
          <p:cNvCxnSpPr>
            <a:stCxn id="317" idx="0"/>
            <a:endCxn id="316" idx="2"/>
          </p:cNvCxnSpPr>
          <p:nvPr/>
        </p:nvCxnSpPr>
        <p:spPr>
          <a:xfrm flipH="1" flipV="1" rot="5400000">
            <a:off x="666360" y="2456640"/>
            <a:ext cx="1600920" cy="801000"/>
          </a:xfrm>
          <a:prstGeom prst="bentConnector3">
            <a:avLst>
              <a:gd name="adj1" fmla="val 23796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22" name="AutoShape 445"/>
          <p:cNvCxnSpPr>
            <a:stCxn id="318" idx="0"/>
            <a:endCxn id="319" idx="2"/>
          </p:cNvCxnSpPr>
          <p:nvPr/>
        </p:nvCxnSpPr>
        <p:spPr>
          <a:xfrm flipH="1" flipV="1" rot="5400000">
            <a:off x="1618920" y="4514400"/>
            <a:ext cx="1220040" cy="876960"/>
          </a:xfrm>
          <a:prstGeom prst="bentConnector3">
            <a:avLst>
              <a:gd name="adj1" fmla="val 75767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23" name="AutoShape 446"/>
          <p:cNvCxnSpPr>
            <a:stCxn id="318" idx="0"/>
            <a:endCxn id="317" idx="2"/>
          </p:cNvCxnSpPr>
          <p:nvPr/>
        </p:nvCxnSpPr>
        <p:spPr>
          <a:xfrm flipV="1" rot="16200000">
            <a:off x="818280" y="4590360"/>
            <a:ext cx="1220040" cy="724680"/>
          </a:xfrm>
          <a:prstGeom prst="bentConnector3">
            <a:avLst>
              <a:gd name="adj1" fmla="val 7653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24" name="Text Box 447"/>
          <p:cNvSpPr/>
          <p:nvPr/>
        </p:nvSpPr>
        <p:spPr>
          <a:xfrm>
            <a:off x="79560" y="2276640"/>
            <a:ext cx="117900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ow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mai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300" spc="-1" strike="noStrike">
                <a:solidFill>
                  <a:srgbClr val="000000"/>
                </a:solidFill>
                <a:latin typeface="Arial"/>
              </a:rPr>
              <a:t>Where does fluid flow occur?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5400" y="1383840"/>
            <a:ext cx="6840360" cy="52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-289080">
              <a:lnSpc>
                <a:spcPct val="93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ings and cracks and other opening in the envelope and interior parti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93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-zone infiltration and venti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>
              <a:lnSpc>
                <a:spcPct val="93000"/>
              </a:lnSpc>
              <a:spcBef>
                <a:spcPts val="300"/>
              </a:spcBef>
              <a:buNone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93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chanical air distribution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93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ydronic heating/cooling equi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93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ior spaces (intra-zone convective f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Why does fluid-flow matter?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8308800" cy="524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iltration and ventilation affec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93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ad and energy calcul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93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mal comfort assess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93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aminant and moisture dispers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>
              <a:lnSpc>
                <a:spcPct val="93000"/>
              </a:lnSpc>
              <a:spcBef>
                <a:spcPts val="3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dronic flows affect plant contro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300" spc="-1" strike="noStrike">
                <a:solidFill>
                  <a:srgbClr val="000000"/>
                </a:solidFill>
                <a:latin typeface="Arial"/>
              </a:rPr>
              <a:t>Levels of resolution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Line 3"/>
          <p:cNvSpPr/>
          <p:nvPr/>
        </p:nvSpPr>
        <p:spPr>
          <a:xfrm>
            <a:off x="390600" y="3608280"/>
            <a:ext cx="8172360" cy="1800"/>
          </a:xfrm>
          <a:prstGeom prst="line">
            <a:avLst/>
          </a:prstGeom>
          <a:ln w="10152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Text Box 5"/>
          <p:cNvSpPr/>
          <p:nvPr/>
        </p:nvSpPr>
        <p:spPr>
          <a:xfrm>
            <a:off x="382320" y="2219400"/>
            <a:ext cx="1413360" cy="6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Scheduled</a:t>
            </a:r>
            <a:br>
              <a:rPr sz="2200"/>
            </a:b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air flow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Text Box 6"/>
          <p:cNvSpPr/>
          <p:nvPr/>
        </p:nvSpPr>
        <p:spPr>
          <a:xfrm>
            <a:off x="3510720" y="2219400"/>
            <a:ext cx="2126880" cy="6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Pressure-driven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Text Box 7"/>
          <p:cNvSpPr/>
          <p:nvPr/>
        </p:nvSpPr>
        <p:spPr>
          <a:xfrm>
            <a:off x="7005240" y="2219400"/>
            <a:ext cx="1335600" cy="93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Intra-zone</a:t>
            </a:r>
            <a:br>
              <a:rPr sz="2200"/>
            </a:b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CFD</a:t>
            </a:r>
            <a:br>
              <a:rPr sz="2200"/>
            </a:b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Text Box 19"/>
          <p:cNvSpPr/>
          <p:nvPr/>
        </p:nvSpPr>
        <p:spPr>
          <a:xfrm>
            <a:off x="459360" y="4495680"/>
            <a:ext cx="180684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y-to-us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Text Box 20"/>
          <p:cNvSpPr/>
          <p:nvPr/>
        </p:nvSpPr>
        <p:spPr>
          <a:xfrm>
            <a:off x="6327360" y="4572000"/>
            <a:ext cx="178992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rd-to-us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Integrated CFD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8308800" cy="524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-289080">
              <a:lnSpc>
                <a:spcPct val="93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ution of conservation equations for mass, energy, and momentum for all grid po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93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itation is large amount of computing resources nee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93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mainly to predict temperature and velocity fields inside large and complex enclosures such as at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Integrated CFD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4116240" cy="524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-289080">
              <a:lnSpc>
                <a:spcPct val="93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ples to building thermal dom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93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ples to air-flow net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93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lves flow patterns within z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Picture 4" descr="flowvis2"/>
          <p:cNvPicPr/>
          <p:nvPr/>
        </p:nvPicPr>
        <p:blipFill>
          <a:blip r:embed="rId1"/>
          <a:stretch/>
        </p:blipFill>
        <p:spPr>
          <a:xfrm>
            <a:off x="5029200" y="1295280"/>
            <a:ext cx="3505320" cy="50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cott Cairney</dc:creator>
  <dc:description/>
  <dc:language>en-US</dc:language>
  <cp:lastModifiedBy>jon@esru.strath.ac.uk</cp:lastModifiedBy>
  <dcterms:modified xsi:type="dcterms:W3CDTF">2019-10-22T09:17:35Z</dcterms:modified>
  <cp:revision>13</cp:revision>
  <dc:subject/>
  <dc:title>PCC V2 Proposal</dc:title>
</cp:coreProperties>
</file>