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9DE4-4A67-4536-A0D7-1851F545A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F921-4B42-4433-9B72-95D0E20E5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ED33-C46B-4074-9113-A1CE5AD83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25B-3AEC-49C5-B535-BFA58A490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27ED-972F-4E51-A6FC-45E8C2063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BFF2-A23F-433B-9766-D5E1E161D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A347-5137-495F-863D-5FE9296C7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CC31-FE50-43D8-9A2C-A44673F7F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898D-16CA-486C-99EC-1D2897699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B6A4-34E8-4575-B7D6-BC0F53964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FCD8-C124-4FEC-AD15-79E0DD6C4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3305-0839-4984-B0CC-3AE2646E5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7583" b="0"/>
          <a:stretch/>
        </p:blipFill>
        <p:spPr>
          <a:xfrm>
            <a:off x="6300720" y="5792760"/>
            <a:ext cx="286236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12" descr="Canada logo"/>
          <p:cNvPicPr/>
          <p:nvPr/>
        </p:nvPicPr>
        <p:blipFill>
          <a:blip r:embed="rId3"/>
          <a:stretch/>
        </p:blipFill>
        <p:spPr>
          <a:xfrm>
            <a:off x="7696080" y="6429240"/>
            <a:ext cx="129564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14600" y="0"/>
            <a:ext cx="3733920" cy="228600"/>
          </a:xfrm>
          <a:prstGeom prst="rect">
            <a:avLst/>
          </a:prstGeom>
          <a:solidFill>
            <a:srgbClr val="64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solidFill>
            <a:srgbClr val="12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19920" y="0"/>
            <a:ext cx="3124080" cy="228600"/>
          </a:xfrm>
          <a:prstGeom prst="rect">
            <a:avLst/>
          </a:prstGeom>
          <a:solidFill>
            <a:srgbClr val="a5c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DECE-7ED8-4650-A715-0C65BFD7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6361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28600" y="6477120"/>
            <a:ext cx="249696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495680" y="0"/>
            <a:ext cx="99072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1617840"/>
            <a:ext cx="7381800" cy="142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64240" y="5576760"/>
            <a:ext cx="3479760" cy="650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51" name="Picture 12" descr="Canada logo"/>
          <p:cNvPicPr/>
          <p:nvPr/>
        </p:nvPicPr>
        <p:blipFill>
          <a:blip r:embed="rId5"/>
          <a:stretch/>
        </p:blipFill>
        <p:spPr>
          <a:xfrm>
            <a:off x="7315200" y="635328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60020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6226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6477120"/>
            <a:ext cx="312408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Versioning control for ESP-r developers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4101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81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8" idx="2"/>
            <a:endCxn id="184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4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3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6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"/>
          <p:cNvCxnSpPr>
            <a:stCxn id="193" idx="2"/>
            <a:endCxn id="19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9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posito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chive of files, usually located on a remote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Working cop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local copy of the repository, or part thereof, on your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eck-ou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part thereof) on to your computer, thereby mak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mmi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modifications from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ck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ange set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remental set of modifications added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ur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vis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nique version of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vi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made upon ever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pd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new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change s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usually contributed by others)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compatibility between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nge-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modifications in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cal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flicts usually arise when two developers edit the same line of sourc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– more info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-r results are sensi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ing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incentive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 protocol helps ensure your changes do not interrupt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 element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guidel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ression tes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124720" y="4276800"/>
            <a:ext cx="47390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http://www.strath.ac.uk/es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Software -&gt; ESP-r -&gt; ESP-r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Document, document, </a:t>
            </a:r>
            <a:r>
              <a:rPr b="1" i="1" lang="en-US" sz="2800" spc="-1" strike="noStrike">
                <a:solidFill>
                  <a:srgbClr val="12547c"/>
                </a:solidFill>
                <a:latin typeface="Tahoma"/>
              </a:rPr>
              <a:t>document!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ite published pa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bjectiv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versioning control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nd how do I use 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obtain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modify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contribute my chang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 th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More documentation for develo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12547c"/>
                </a:solidFill>
                <a:latin typeface="Tahoma"/>
              </a:rPr>
              <a:t>Unix-like platforms for developmen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x (Sol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S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G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52600" y="1841400"/>
            <a:ext cx="657360" cy="4505400"/>
          </a:xfrm>
          <a:prstGeom prst="upDownArrow">
            <a:avLst>
              <a:gd name="adj1" fmla="val 50000"/>
              <a:gd name="adj2" fmla="val 136441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9600" y="196848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120" y="597852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ESP-r dependenci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149480"/>
            <a:ext cx="363852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p/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c/g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or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1/xorg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ml2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s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K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ompil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: gcc 3.4.6 (gcc/g++/g7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1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: gcc 4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3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Versioning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and hands-on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points for ESP-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What is versioning control?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ing control is a tool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files and directories that change ove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s old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rationalize conflicting modifications from multiple con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66800" y="4613400"/>
            <a:ext cx="1009800" cy="1257120"/>
            <a:chOff x="1666800" y="4613400"/>
            <a:chExt cx="1009800" cy="1257120"/>
          </a:xfrm>
        </p:grpSpPr>
        <p:sp>
          <p:nvSpPr>
            <p:cNvPr id="105" name=""/>
            <p:cNvSpPr/>
            <p:nvPr/>
          </p:nvSpPr>
          <p:spPr>
            <a:xfrm>
              <a:off x="166680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36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>
            <a:stCxn id="102" idx="2"/>
            <a:endCxn id="105" idx="0"/>
          </p:cNvCxnSpPr>
          <p:nvPr/>
        </p:nvCxnSpPr>
        <p:spPr>
          <a:xfrm rot="5400000">
            <a:off x="2979360" y="3049560"/>
            <a:ext cx="75636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9600" y="50817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48480" y="4613400"/>
            <a:ext cx="1009800" cy="1257120"/>
            <a:chOff x="6648480" y="4613400"/>
            <a:chExt cx="1009800" cy="1257120"/>
          </a:xfrm>
        </p:grpSpPr>
        <p:sp>
          <p:nvSpPr>
            <p:cNvPr id="111" name=""/>
            <p:cNvSpPr/>
            <p:nvPr/>
          </p:nvSpPr>
          <p:spPr>
            <a:xfrm>
              <a:off x="664848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404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"/>
          <p:cNvCxnSpPr>
            <a:stCxn id="102" idx="2"/>
            <a:endCxn id="111" idx="0"/>
          </p:cNvCxnSpPr>
          <p:nvPr/>
        </p:nvCxnSpPr>
        <p:spPr>
          <a:xfrm flipH="1" rot="16200000">
            <a:off x="5469480" y="2930400"/>
            <a:ext cx="75636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944680" y="50799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2680" y="1241280"/>
            <a:ext cx="488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66800" y="4676760"/>
            <a:ext cx="1009800" cy="1257120"/>
            <a:chOff x="1666800" y="4676760"/>
            <a:chExt cx="1009800" cy="1257120"/>
          </a:xfrm>
        </p:grpSpPr>
        <p:sp>
          <p:nvSpPr>
            <p:cNvPr id="121" name=""/>
            <p:cNvSpPr/>
            <p:nvPr/>
          </p:nvSpPr>
          <p:spPr>
            <a:xfrm>
              <a:off x="166680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90080" y="511812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8480" y="4676760"/>
            <a:ext cx="1009800" cy="1257120"/>
            <a:chOff x="6648480" y="4676760"/>
            <a:chExt cx="1009800" cy="1257120"/>
          </a:xfrm>
        </p:grpSpPr>
        <p:sp>
          <p:nvSpPr>
            <p:cNvPr id="126" name=""/>
            <p:cNvSpPr/>
            <p:nvPr/>
          </p:nvSpPr>
          <p:spPr>
            <a:xfrm>
              <a:off x="664848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31720" y="511812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360440"/>
            <a:ext cx="7029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stCxn id="132" idx="2"/>
            <a:endCxn id="135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41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4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7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50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5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"/>
          <p:cNvCxnSpPr>
            <a:stCxn id="147" idx="2"/>
            <a:endCxn id="155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"/>
          <p:cNvCxnSpPr>
            <a:endCxn id="168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8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18:20Z</dcterms:created>
  <dc:creator>trindade</dc:creator>
  <dc:description/>
  <dc:language>en-US</dc:language>
  <cp:lastModifiedBy>jpurdy</cp:lastModifiedBy>
  <dcterms:modified xsi:type="dcterms:W3CDTF">2012-03-14T14:45:34Z</dcterms:modified>
  <cp:revision>23</cp:revision>
  <dc:subject/>
  <dc:title>Slide 1</dc:title>
</cp:coreProperties>
</file>